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E38-78F5-4AD4-B73C-D74D3C9B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517-5D2D-47BB-A242-F8A36D9F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CCD439-AD6E-4F2F-9E92-D6B7055C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2F0A8-C00E-4F71-9119-7107A4A3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84827-FC58-41A8-994B-1BA9B4D0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B150B-711B-422F-B984-FF31DDC3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2ED31-CF74-4366-9DE3-7B5FD6D3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E1407-B801-4F20-A5A5-EABBDDF3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906B42-1C75-48C0-A009-5DF8FA0D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20266-6C09-41C7-9BFF-41DA040D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BD56A-B7EF-43AD-820E-6C0D10A3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D0D67-A7EF-4627-99D9-2CAB330E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591-FC86-4678-83AE-68C3CE04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CF94F-4DED-4127-AFB4-AAD98FBA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BE6C3-C24F-4AEB-A7AC-39623FD2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2DFCDB-570E-43B8-98EC-9A8AB495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C8B70-02FF-45AD-AA26-E776776C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1700F-0BBE-4A7B-B28F-6B77BC8F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7DB1C-C1F6-489C-8F7D-64B72E30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5C7AB-B6D1-4099-9459-4BDF1837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33DF3E-46AB-4E17-96FE-2A2AB0FD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58801F-DCBB-401F-970E-C031FFAA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FF71C-7C0B-4C12-A701-1226849B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F06D-0E49-4394-93C5-27FBC317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A0FAD8-6C39-4AA8-A7C3-8D9BCB9D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CAF6B-D390-4F45-ABEC-BC93DDF3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E1688-D028-4F49-AB91-622C6852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01F8B-F148-43F6-B607-2E1CAEA9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136B6-F82E-4941-9C00-52CD3203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775BA-89E2-4E1F-B42B-4C4408C0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E678F-9F27-440E-89FC-1CEE9713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07587-CDEF-48AC-9DE1-74E6F1FE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09A7D-A844-40A5-AFDD-0E2AE04A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DDD7A-FD70-4AD8-B3CA-08E0DB90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D2A3-472F-4A06-9C9F-ACA988A3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80BC8-79FF-4450-B97B-19AC4CFF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9CB71-37D1-471D-9324-ED11D4FB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FF1E3-D392-40A4-A230-58512594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F915FF-5E42-4DC1-B694-FE89099C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17E5D-D76F-446E-BE51-22561AA9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F2E9E8-DE49-4C5E-94E7-AF997FDA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3AA1E-5777-4C7E-BB06-9B79E7BC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EA763-6669-4201-8783-5D95DC91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EA08D0-AFE0-4879-BED3-C7208157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9D40D-C0C0-46C2-BF76-A5369958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E78C-1936-4005-9C2B-2DB97982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3595B-F2DC-464A-8530-752E6ECC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713A1-203E-43C3-AB28-C181CC76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15FDCF-8870-4CB4-BFC3-1E5BD868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4886F-F26C-489D-AA84-23E3CB0D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FF546-4806-4BCC-84DF-F0610D13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B5E4-002B-48A0-8775-D5A89CA3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D158-F82C-4D8B-8181-2A16AE69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51C1-8A49-4C68-B0AA-94D891CC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DD2D-5F02-4495-95FF-15093477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6787-73DF-48CA-929E-0C7EDE3C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EE31-674C-4455-A9C4-C8F134C2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CD53-6640-4C6C-8E1F-308DD841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3E62-6727-4301-93E4-FC57425E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CA34-59C1-4A85-BD01-39C83F63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C51F-458C-434C-AE49-6FFA497D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0CF7-3651-4AD1-B8EC-0735264F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4608A-BCBC-45AF-9244-5CAF2587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75E11-A3F5-4FC8-8268-859614F0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B682D-FC5A-4DA2-B910-E4A17FBF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05E14-B061-49CC-88BE-376068A3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A04A4-5A6B-4DCE-BB00-CD5FB011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77F7-AE0B-4ECD-892E-46A21F4E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04A8C-FFB7-44E4-BFC0-FDA45BE1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46CF8-66D2-438C-83E5-CA97C4CA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30A5B-4BE5-4880-8AA8-69BECCF3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96EDD-617C-40F0-91C3-9F76998D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DC5D5-E344-4BC7-AE84-2AFA9F91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DC5FA-7521-46C7-8CBE-81D693A1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898AD-B9FF-4841-99B3-173093E2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6AA2B-AC13-4C3F-894D-55793669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D789C-7DCC-4B60-BE4F-A75FD7AB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F3D2B-1691-4F48-8A67-1952FD93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D42B-66E5-4B80-85D3-A92360E9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171B0-8874-46F5-9740-9B6B54B6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F0F3F-158C-4F71-A006-DFDC5D5C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0F102-965B-4CBC-A682-3071BC3A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8D5EE-DBB5-4C1E-BED4-26E7FC04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1494F-8F67-4A69-8406-06E2C9A0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08915-8CDF-425A-8971-E2B7A24E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7BECD-E94C-4855-BF7E-A3DC15B8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FFC45-3411-4120-BCDB-CA173A70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2EEBD-1F03-40BD-A92C-027E0791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A4F21-78A0-4769-967A-897147B7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6FC-5D84-436C-B7AE-DB151EBB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AA19B-3777-4C6E-88F1-4457DD5D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E6217-F578-4983-AE5C-0E218087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3D5A3-BAA0-4335-827E-C00EBC1A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D1F2D-92C6-4F83-9CF0-8A55721A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787B5-C2AD-4F80-832E-86FC29B8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DB1B2-1FDE-4307-BFDC-DB47574E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A6112-920A-4E67-9EAC-6DB1C518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BF612-3354-411D-AF5D-4F4B4BDC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E578D-7C77-47D8-BC5E-E3B07047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585B2-94BA-4408-9E9F-1A0432D4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F6C1-D7A4-4624-A1EF-F6FB663D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C680E-75B4-4DE7-9051-4DE76E3E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98E4D-F369-466D-AF23-717DB726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CDB3D-227E-4C6D-A62F-820FA4F8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6638C-05E6-45E4-88D0-246CFA96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68167-2EF0-4E6C-829E-B013F9E4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C4F27-7EA7-4C8F-8E92-43DCEF0A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AFEED-A7E9-4988-82D0-08440D87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36350-BAEF-4B0C-93C2-C0B363AF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ADCAC-7BB2-4867-9825-0E12D915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A0067-FBEC-4DB7-B080-2B975389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3DB-679E-49EE-B83E-15A86827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25102-78D8-48F6-A4DC-A415097F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50248-608B-4A04-90C7-0AB3D840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132A3-AC34-480F-A7A3-B1AA2E32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1AC19-238B-4CBA-8F07-C3FD9332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070CB-286B-4AB6-8560-8CF9AD33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705CC-B838-43C9-888F-18996C11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9983F-14AF-471C-BFD9-51C26898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B8873-4528-413F-AE1E-E09263A7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C89F4-A8F7-4E84-A161-250EE9D8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1A9B9-256B-424C-9296-1DB7238F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B0B-FE50-4F14-BDD1-DF172508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FC812-1000-4CC8-8224-9033257B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D6882-DDF1-40DB-9447-BEB4E45E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0483E-A90F-439F-8499-181BB4F6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8A9AC-1DD4-4992-8122-878AEB5A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08875-F45D-44BE-B89E-4A650057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95D3B-2991-4005-B39A-93DC4EC5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B065E-714C-4D02-8030-B3CF5E02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00477-A62F-458D-8195-00A67488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65E14-3473-406A-9604-71018BD1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25D43-EF5D-41C4-AC27-1DB531F5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8117-650B-46B2-9562-8FB45CC0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32CD5-2FE6-4C3A-B2B1-485910EB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FCEDC-B61F-49A9-A2D7-E8F51D32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95FE6-DEAE-495E-B107-85CB3EC2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080C1-D92B-4237-8251-A59D6044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7BE03-CADE-4FE5-9D07-E775B412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2254E-5C9F-4D7F-BAC3-D7FC893E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E4A1B-9A73-4B40-80C1-F55CBAB7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99FCB-F103-47C2-B15F-DF57DE81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175940-2733-4815-9CFF-0D407786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591C2-01E8-4004-A1C7-792CDD33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9F7E-8814-40B1-AD31-F15FCD7F09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D0D3-B105-4681-99FC-8AE6BA2621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3AA4-FABB-4DD4-9904-7E23CDDBD7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6185-9646-4984-B2FC-3015C2DFEC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DA8D-FF2E-4F61-BE6A-D1FCC3963D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66E2-6C63-460D-912A-8CBECDAB7E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334A-C46A-47B7-AE70-28430F5343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5EB9-E0EE-4B56-9FC7-B57E2FCA6D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DF29-A31C-4F87-AEB2-0BD08DA060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FFF2-C4B6-4B4B-837F-27F6B95E98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11A7-908D-4F42-A0BF-D123029256E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83F9-2B6A-4C91-B28E-DAE12FE405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  <a:ea typeface="Arial"/>
              </a:rPr>
              <a:t>THE SUM OF LISA AND GINGER’S AGES IS 15.  THE PRODUCT OF THE AGES IS 56.  IF LISA IS THE OLDER GIRL, HOW MUCH OLDER THAN GINGER IS SHE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Friday, September 4th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ouble Sided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6d + 8 = 4d + 16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3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9e – 15 = 12e + 3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Ink 4"/>
          <p:cNvSpPr/>
          <p:nvPr/>
        </p:nvSpPr>
        <p:spPr>
          <a:xfrm>
            <a:off x="411120" y="2116080"/>
            <a:ext cx="2643120" cy="2662200"/>
          </a:xfrm>
          <a:custGeom>
            <a:avLst/>
            <a:gdLst/>
            <a:ahLst/>
            <a:rect l="l" t="t" r="r" b="b"/>
            <a:pathLst>
              <a:path w="7343" h="7393">
                <a:moveTo>
                  <a:pt x="1761" y="5879"/>
                </a:moveTo>
                <a:cubicBezTo>
                  <a:pt x="1692" y="6000"/>
                  <a:pt x="1633" y="6071"/>
                  <a:pt x="1588" y="6201"/>
                </a:cubicBezTo>
                <a:cubicBezTo>
                  <a:pt x="1520" y="6395"/>
                  <a:pt x="1420" y="6620"/>
                  <a:pt x="1389" y="6821"/>
                </a:cubicBezTo>
                <a:cubicBezTo>
                  <a:pt x="1353" y="7054"/>
                  <a:pt x="1315" y="7284"/>
                  <a:pt x="1265" y="7516"/>
                </a:cubicBezTo>
                <a:cubicBezTo>
                  <a:pt x="1218" y="7730"/>
                  <a:pt x="1217" y="7945"/>
                  <a:pt x="1191" y="8161"/>
                </a:cubicBezTo>
                <a:cubicBezTo>
                  <a:pt x="1160" y="8416"/>
                  <a:pt x="1145" y="8674"/>
                  <a:pt x="1141" y="8930"/>
                </a:cubicBezTo>
                <a:cubicBezTo>
                  <a:pt x="1136" y="9263"/>
                  <a:pt x="1152" y="9591"/>
                  <a:pt x="1166" y="9922"/>
                </a:cubicBezTo>
                <a:cubicBezTo>
                  <a:pt x="1176" y="10166"/>
                  <a:pt x="1183" y="10406"/>
                  <a:pt x="1265" y="10641"/>
                </a:cubicBezTo>
                <a:cubicBezTo>
                  <a:pt x="1343" y="10865"/>
                  <a:pt x="1454" y="11202"/>
                  <a:pt x="1612" y="11385"/>
                </a:cubicBezTo>
                <a:cubicBezTo>
                  <a:pt x="1716" y="11506"/>
                  <a:pt x="1809" y="11623"/>
                  <a:pt x="1910" y="11757"/>
                </a:cubicBezTo>
                <a:cubicBezTo>
                  <a:pt x="1972" y="11839"/>
                  <a:pt x="2038" y="11906"/>
                  <a:pt x="2108" y="11981"/>
                </a:cubicBezTo>
                <a:cubicBezTo>
                  <a:pt x="2108" y="11897"/>
                  <a:pt x="2110" y="11863"/>
                  <a:pt x="2133" y="11807"/>
                </a:cubicBezTo>
              </a:path>
              <a:path w="7343" h="7393">
                <a:moveTo>
                  <a:pt x="2853" y="12998"/>
                </a:moveTo>
                <a:cubicBezTo>
                  <a:pt x="3189" y="13076"/>
                  <a:pt x="3495" y="13088"/>
                  <a:pt x="3845" y="13122"/>
                </a:cubicBezTo>
                <a:cubicBezTo>
                  <a:pt x="4150" y="13151"/>
                  <a:pt x="4456" y="13207"/>
                  <a:pt x="4762" y="13221"/>
                </a:cubicBezTo>
                <a:cubicBezTo>
                  <a:pt x="5183" y="13240"/>
                  <a:pt x="5606" y="13258"/>
                  <a:pt x="6028" y="13271"/>
                </a:cubicBezTo>
                <a:cubicBezTo>
                  <a:pt x="6344" y="13281"/>
                  <a:pt x="6656" y="13258"/>
                  <a:pt x="6970" y="13246"/>
                </a:cubicBezTo>
                <a:cubicBezTo>
                  <a:pt x="7278" y="13235"/>
                  <a:pt x="7583" y="13254"/>
                  <a:pt x="7888" y="13271"/>
                </a:cubicBezTo>
                <a:cubicBezTo>
                  <a:pt x="8034" y="13279"/>
                  <a:pt x="8169" y="13267"/>
                  <a:pt x="8310" y="13246"/>
                </a:cubicBezTo>
                <a:cubicBezTo>
                  <a:pt x="8403" y="13232"/>
                  <a:pt x="8431" y="13200"/>
                  <a:pt x="8483" y="131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Ink 5"/>
          <p:cNvSpPr/>
          <p:nvPr/>
        </p:nvSpPr>
        <p:spPr>
          <a:xfrm>
            <a:off x="2955960" y="3473280"/>
            <a:ext cx="3768840" cy="831960"/>
          </a:xfrm>
          <a:custGeom>
            <a:avLst/>
            <a:gdLst/>
            <a:ahLst/>
            <a:rect l="l" t="t" r="r" b="b"/>
            <a:pathLst>
              <a:path w="10469" h="2308">
                <a:moveTo>
                  <a:pt x="8210" y="9649"/>
                </a:moveTo>
                <a:cubicBezTo>
                  <a:pt x="8348" y="9762"/>
                  <a:pt x="8496" y="9837"/>
                  <a:pt x="8657" y="9922"/>
                </a:cubicBezTo>
                <a:cubicBezTo>
                  <a:pt x="8914" y="10058"/>
                  <a:pt x="9165" y="10191"/>
                  <a:pt x="9426" y="10319"/>
                </a:cubicBezTo>
                <a:cubicBezTo>
                  <a:pt x="9613" y="10411"/>
                  <a:pt x="9789" y="10516"/>
                  <a:pt x="9971" y="10616"/>
                </a:cubicBezTo>
                <a:cubicBezTo>
                  <a:pt x="10066" y="10668"/>
                  <a:pt x="10187" y="10743"/>
                  <a:pt x="10294" y="10765"/>
                </a:cubicBezTo>
                <a:cubicBezTo>
                  <a:pt x="10393" y="10786"/>
                  <a:pt x="10364" y="10675"/>
                  <a:pt x="10368" y="10616"/>
                </a:cubicBezTo>
              </a:path>
              <a:path w="10469" h="2308">
                <a:moveTo>
                  <a:pt x="9996" y="10046"/>
                </a:moveTo>
                <a:cubicBezTo>
                  <a:pt x="10070" y="10123"/>
                  <a:pt x="10288" y="10298"/>
                  <a:pt x="10344" y="10393"/>
                </a:cubicBezTo>
                <a:cubicBezTo>
                  <a:pt x="10401" y="10491"/>
                  <a:pt x="10405" y="10641"/>
                  <a:pt x="10368" y="10740"/>
                </a:cubicBezTo>
                <a:cubicBezTo>
                  <a:pt x="10341" y="10811"/>
                  <a:pt x="10245" y="10858"/>
                  <a:pt x="10195" y="10914"/>
                </a:cubicBezTo>
                <a:cubicBezTo>
                  <a:pt x="10144" y="10971"/>
                  <a:pt x="10060" y="11031"/>
                  <a:pt x="10046" y="11112"/>
                </a:cubicBezTo>
                <a:cubicBezTo>
                  <a:pt x="10046" y="11145"/>
                  <a:pt x="10046" y="11179"/>
                  <a:pt x="10046" y="11212"/>
                </a:cubicBezTo>
              </a:path>
              <a:path w="10469" h="2308">
                <a:moveTo>
                  <a:pt x="11633" y="10790"/>
                </a:moveTo>
                <a:cubicBezTo>
                  <a:pt x="11633" y="10709"/>
                  <a:pt x="11622" y="10636"/>
                  <a:pt x="11609" y="10567"/>
                </a:cubicBezTo>
                <a:cubicBezTo>
                  <a:pt x="11594" y="10490"/>
                  <a:pt x="11583" y="10432"/>
                  <a:pt x="11534" y="10368"/>
                </a:cubicBezTo>
                <a:cubicBezTo>
                  <a:pt x="11418" y="10216"/>
                  <a:pt x="11289" y="10284"/>
                  <a:pt x="11162" y="10368"/>
                </a:cubicBezTo>
                <a:cubicBezTo>
                  <a:pt x="11101" y="10408"/>
                  <a:pt x="11050" y="10546"/>
                  <a:pt x="11038" y="10616"/>
                </a:cubicBezTo>
                <a:cubicBezTo>
                  <a:pt x="11026" y="10690"/>
                  <a:pt x="11036" y="10829"/>
                  <a:pt x="11088" y="10889"/>
                </a:cubicBezTo>
                <a:cubicBezTo>
                  <a:pt x="11133" y="10941"/>
                  <a:pt x="11223" y="10981"/>
                  <a:pt x="11286" y="11013"/>
                </a:cubicBezTo>
                <a:cubicBezTo>
                  <a:pt x="11366" y="11053"/>
                  <a:pt x="11461" y="11014"/>
                  <a:pt x="11509" y="10939"/>
                </a:cubicBezTo>
                <a:cubicBezTo>
                  <a:pt x="11549" y="10876"/>
                  <a:pt x="11582" y="10787"/>
                  <a:pt x="11609" y="10716"/>
                </a:cubicBezTo>
                <a:cubicBezTo>
                  <a:pt x="11641" y="10633"/>
                  <a:pt x="11633" y="10555"/>
                  <a:pt x="11633" y="10468"/>
                </a:cubicBezTo>
                <a:cubicBezTo>
                  <a:pt x="11623" y="10549"/>
                  <a:pt x="11601" y="10636"/>
                  <a:pt x="11584" y="10716"/>
                </a:cubicBezTo>
                <a:cubicBezTo>
                  <a:pt x="11561" y="10825"/>
                  <a:pt x="11516" y="10925"/>
                  <a:pt x="11509" y="11038"/>
                </a:cubicBezTo>
                <a:cubicBezTo>
                  <a:pt x="11505" y="11112"/>
                  <a:pt x="11459" y="11553"/>
                  <a:pt x="11534" y="11609"/>
                </a:cubicBezTo>
                <a:cubicBezTo>
                  <a:pt x="11542" y="11609"/>
                  <a:pt x="11551" y="11609"/>
                  <a:pt x="11559" y="11609"/>
                </a:cubicBezTo>
              </a:path>
              <a:path w="10469" h="2308">
                <a:moveTo>
                  <a:pt x="11733" y="11212"/>
                </a:moveTo>
                <a:cubicBezTo>
                  <a:pt x="11860" y="11167"/>
                  <a:pt x="11927" y="11137"/>
                  <a:pt x="12055" y="11137"/>
                </a:cubicBezTo>
                <a:cubicBezTo>
                  <a:pt x="12143" y="11137"/>
                  <a:pt x="12193" y="11125"/>
                  <a:pt x="12254" y="11063"/>
                </a:cubicBezTo>
                <a:cubicBezTo>
                  <a:pt x="12326" y="10990"/>
                  <a:pt x="12293" y="10941"/>
                  <a:pt x="12254" y="10864"/>
                </a:cubicBezTo>
                <a:cubicBezTo>
                  <a:pt x="12215" y="10787"/>
                  <a:pt x="12142" y="10807"/>
                  <a:pt x="12080" y="10815"/>
                </a:cubicBezTo>
                <a:cubicBezTo>
                  <a:pt x="11981" y="10827"/>
                  <a:pt x="11930" y="10846"/>
                  <a:pt x="11857" y="10914"/>
                </a:cubicBezTo>
                <a:cubicBezTo>
                  <a:pt x="11811" y="10957"/>
                  <a:pt x="11767" y="11052"/>
                  <a:pt x="11757" y="11112"/>
                </a:cubicBezTo>
                <a:cubicBezTo>
                  <a:pt x="11741" y="11208"/>
                  <a:pt x="11801" y="11376"/>
                  <a:pt x="11857" y="11460"/>
                </a:cubicBezTo>
                <a:cubicBezTo>
                  <a:pt x="11901" y="11525"/>
                  <a:pt x="12029" y="11613"/>
                  <a:pt x="12105" y="11633"/>
                </a:cubicBezTo>
                <a:cubicBezTo>
                  <a:pt x="12164" y="11633"/>
                  <a:pt x="12190" y="11630"/>
                  <a:pt x="12229" y="11609"/>
                </a:cubicBezTo>
              </a:path>
              <a:path w="10469" h="2308">
                <a:moveTo>
                  <a:pt x="12650" y="11187"/>
                </a:moveTo>
                <a:cubicBezTo>
                  <a:pt x="12813" y="11180"/>
                  <a:pt x="12818" y="11185"/>
                  <a:pt x="12948" y="11137"/>
                </a:cubicBezTo>
              </a:path>
              <a:path w="10469" h="2308">
                <a:moveTo>
                  <a:pt x="13122" y="10716"/>
                </a:moveTo>
                <a:cubicBezTo>
                  <a:pt x="13122" y="10909"/>
                  <a:pt x="13133" y="11094"/>
                  <a:pt x="13146" y="11286"/>
                </a:cubicBezTo>
                <a:cubicBezTo>
                  <a:pt x="13153" y="11396"/>
                  <a:pt x="13171" y="11498"/>
                  <a:pt x="13171" y="11609"/>
                </a:cubicBezTo>
                <a:cubicBezTo>
                  <a:pt x="13171" y="11658"/>
                  <a:pt x="13171" y="11675"/>
                  <a:pt x="13171" y="11708"/>
                </a:cubicBezTo>
              </a:path>
              <a:path w="10469" h="2308">
                <a:moveTo>
                  <a:pt x="13643" y="10740"/>
                </a:moveTo>
                <a:cubicBezTo>
                  <a:pt x="13755" y="10719"/>
                  <a:pt x="13926" y="10709"/>
                  <a:pt x="14039" y="10666"/>
                </a:cubicBezTo>
              </a:path>
              <a:path w="10469" h="2308">
                <a:moveTo>
                  <a:pt x="13667" y="10592"/>
                </a:moveTo>
                <a:cubicBezTo>
                  <a:pt x="13566" y="10699"/>
                  <a:pt x="13530" y="10744"/>
                  <a:pt x="13469" y="10864"/>
                </a:cubicBezTo>
                <a:cubicBezTo>
                  <a:pt x="13433" y="10935"/>
                  <a:pt x="13428" y="11017"/>
                  <a:pt x="13469" y="11088"/>
                </a:cubicBezTo>
                <a:cubicBezTo>
                  <a:pt x="13513" y="11163"/>
                  <a:pt x="13600" y="11074"/>
                  <a:pt x="13643" y="11063"/>
                </a:cubicBezTo>
                <a:cubicBezTo>
                  <a:pt x="13725" y="11042"/>
                  <a:pt x="13813" y="11077"/>
                  <a:pt x="13891" y="11088"/>
                </a:cubicBezTo>
                <a:cubicBezTo>
                  <a:pt x="13960" y="11097"/>
                  <a:pt x="14004" y="11145"/>
                  <a:pt x="14039" y="11212"/>
                </a:cubicBezTo>
                <a:cubicBezTo>
                  <a:pt x="14095" y="11319"/>
                  <a:pt x="14097" y="11398"/>
                  <a:pt x="14089" y="11509"/>
                </a:cubicBezTo>
                <a:cubicBezTo>
                  <a:pt x="14080" y="11633"/>
                  <a:pt x="14016" y="11649"/>
                  <a:pt x="13965" y="11733"/>
                </a:cubicBezTo>
                <a:cubicBezTo>
                  <a:pt x="13896" y="11847"/>
                  <a:pt x="13843" y="11863"/>
                  <a:pt x="13692" y="11881"/>
                </a:cubicBezTo>
                <a:cubicBezTo>
                  <a:pt x="13586" y="11894"/>
                  <a:pt x="13580" y="11852"/>
                  <a:pt x="13494" y="11832"/>
                </a:cubicBezTo>
                <a:cubicBezTo>
                  <a:pt x="13437" y="11832"/>
                  <a:pt x="13416" y="11827"/>
                  <a:pt x="13395" y="11782"/>
                </a:cubicBezTo>
              </a:path>
              <a:path w="10469" h="2308">
                <a:moveTo>
                  <a:pt x="14536" y="11286"/>
                </a:moveTo>
                <a:cubicBezTo>
                  <a:pt x="14625" y="11300"/>
                  <a:pt x="14677" y="11311"/>
                  <a:pt x="14759" y="11311"/>
                </a:cubicBezTo>
              </a:path>
              <a:path w="10469" h="2308">
                <a:moveTo>
                  <a:pt x="14461" y="11286"/>
                </a:moveTo>
                <a:cubicBezTo>
                  <a:pt x="14593" y="11387"/>
                  <a:pt x="14661" y="11431"/>
                  <a:pt x="14808" y="11485"/>
                </a:cubicBezTo>
              </a:path>
              <a:path w="10469" h="2308">
                <a:moveTo>
                  <a:pt x="15255" y="10765"/>
                </a:moveTo>
                <a:cubicBezTo>
                  <a:pt x="15276" y="10910"/>
                  <a:pt x="15280" y="11040"/>
                  <a:pt x="15280" y="11187"/>
                </a:cubicBezTo>
                <a:cubicBezTo>
                  <a:pt x="15280" y="11435"/>
                  <a:pt x="15280" y="11683"/>
                  <a:pt x="15280" y="11931"/>
                </a:cubicBezTo>
              </a:path>
              <a:path w="10469" h="2308">
                <a:moveTo>
                  <a:pt x="15652" y="11013"/>
                </a:moveTo>
                <a:cubicBezTo>
                  <a:pt x="15709" y="10972"/>
                  <a:pt x="15815" y="10870"/>
                  <a:pt x="15900" y="10889"/>
                </a:cubicBezTo>
                <a:cubicBezTo>
                  <a:pt x="16032" y="10919"/>
                  <a:pt x="16084" y="11042"/>
                  <a:pt x="16098" y="11162"/>
                </a:cubicBezTo>
                <a:cubicBezTo>
                  <a:pt x="16113" y="11290"/>
                  <a:pt x="16057" y="11413"/>
                  <a:pt x="16024" y="11534"/>
                </a:cubicBezTo>
                <a:cubicBezTo>
                  <a:pt x="15990" y="11656"/>
                  <a:pt x="15929" y="11735"/>
                  <a:pt x="15850" y="11832"/>
                </a:cubicBezTo>
                <a:cubicBezTo>
                  <a:pt x="15800" y="11894"/>
                  <a:pt x="15745" y="11902"/>
                  <a:pt x="15677" y="11857"/>
                </a:cubicBezTo>
                <a:cubicBezTo>
                  <a:pt x="15641" y="11833"/>
                  <a:pt x="15637" y="11721"/>
                  <a:pt x="15652" y="11683"/>
                </a:cubicBezTo>
                <a:cubicBezTo>
                  <a:pt x="15667" y="11644"/>
                  <a:pt x="15793" y="11646"/>
                  <a:pt x="15825" y="11658"/>
                </a:cubicBezTo>
                <a:cubicBezTo>
                  <a:pt x="15887" y="11682"/>
                  <a:pt x="15961" y="11732"/>
                  <a:pt x="16024" y="11757"/>
                </a:cubicBezTo>
                <a:cubicBezTo>
                  <a:pt x="16032" y="11757"/>
                  <a:pt x="16041" y="11757"/>
                  <a:pt x="16049" y="11757"/>
                </a:cubicBezTo>
              </a:path>
              <a:path w="10469" h="2308">
                <a:moveTo>
                  <a:pt x="16346" y="11633"/>
                </a:moveTo>
                <a:cubicBezTo>
                  <a:pt x="16430" y="11588"/>
                  <a:pt x="16496" y="11564"/>
                  <a:pt x="16594" y="11559"/>
                </a:cubicBezTo>
                <a:cubicBezTo>
                  <a:pt x="16676" y="11555"/>
                  <a:pt x="16766" y="11532"/>
                  <a:pt x="16818" y="11460"/>
                </a:cubicBezTo>
                <a:cubicBezTo>
                  <a:pt x="16885" y="11367"/>
                  <a:pt x="16833" y="11335"/>
                  <a:pt x="16768" y="11286"/>
                </a:cubicBezTo>
                <a:cubicBezTo>
                  <a:pt x="16675" y="11216"/>
                  <a:pt x="16587" y="11306"/>
                  <a:pt x="16545" y="11385"/>
                </a:cubicBezTo>
                <a:cubicBezTo>
                  <a:pt x="16496" y="11477"/>
                  <a:pt x="16537" y="11565"/>
                  <a:pt x="16570" y="11658"/>
                </a:cubicBezTo>
                <a:cubicBezTo>
                  <a:pt x="16614" y="11782"/>
                  <a:pt x="16657" y="11862"/>
                  <a:pt x="16768" y="11931"/>
                </a:cubicBezTo>
                <a:cubicBezTo>
                  <a:pt x="16823" y="11959"/>
                  <a:pt x="16846" y="11967"/>
                  <a:pt x="16892" y="11956"/>
                </a:cubicBezTo>
              </a:path>
              <a:path w="10469" h="2308">
                <a:moveTo>
                  <a:pt x="17338" y="10988"/>
                </a:moveTo>
                <a:cubicBezTo>
                  <a:pt x="17338" y="11163"/>
                  <a:pt x="17331" y="11336"/>
                  <a:pt x="17363" y="11509"/>
                </a:cubicBezTo>
                <a:cubicBezTo>
                  <a:pt x="17380" y="11602"/>
                  <a:pt x="17457" y="11713"/>
                  <a:pt x="17388" y="11807"/>
                </a:cubicBezTo>
                <a:cubicBezTo>
                  <a:pt x="17380" y="11807"/>
                  <a:pt x="17371" y="11807"/>
                  <a:pt x="17363" y="11807"/>
                </a:cubicBezTo>
              </a:path>
              <a:path w="10469" h="2308">
                <a:moveTo>
                  <a:pt x="17214" y="11311"/>
                </a:moveTo>
                <a:cubicBezTo>
                  <a:pt x="17292" y="11282"/>
                  <a:pt x="17353" y="11286"/>
                  <a:pt x="17438" y="11286"/>
                </a:cubicBezTo>
                <a:cubicBezTo>
                  <a:pt x="17588" y="11286"/>
                  <a:pt x="17633" y="11272"/>
                  <a:pt x="17760" y="11187"/>
                </a:cubicBezTo>
              </a:path>
              <a:path w="10469" h="2308">
                <a:moveTo>
                  <a:pt x="18107" y="10815"/>
                </a:moveTo>
                <a:cubicBezTo>
                  <a:pt x="18201" y="10798"/>
                  <a:pt x="18314" y="10777"/>
                  <a:pt x="18405" y="10815"/>
                </a:cubicBezTo>
                <a:cubicBezTo>
                  <a:pt x="18515" y="10861"/>
                  <a:pt x="18591" y="10959"/>
                  <a:pt x="18554" y="11063"/>
                </a:cubicBezTo>
                <a:cubicBezTo>
                  <a:pt x="18522" y="11154"/>
                  <a:pt x="18404" y="11170"/>
                  <a:pt x="18331" y="11212"/>
                </a:cubicBezTo>
                <a:cubicBezTo>
                  <a:pt x="18281" y="11241"/>
                  <a:pt x="18238" y="11254"/>
                  <a:pt x="18182" y="11286"/>
                </a:cubicBezTo>
                <a:cubicBezTo>
                  <a:pt x="18296" y="11286"/>
                  <a:pt x="18378" y="11278"/>
                  <a:pt x="18479" y="11336"/>
                </a:cubicBezTo>
                <a:cubicBezTo>
                  <a:pt x="18575" y="11391"/>
                  <a:pt x="18658" y="11413"/>
                  <a:pt x="18678" y="11534"/>
                </a:cubicBezTo>
                <a:cubicBezTo>
                  <a:pt x="18691" y="11613"/>
                  <a:pt x="18695" y="11761"/>
                  <a:pt x="18653" y="11832"/>
                </a:cubicBezTo>
                <a:cubicBezTo>
                  <a:pt x="18611" y="11904"/>
                  <a:pt x="18525" y="11918"/>
                  <a:pt x="18455" y="11931"/>
                </a:cubicBezTo>
                <a:cubicBezTo>
                  <a:pt x="18326" y="11955"/>
                  <a:pt x="18317" y="11944"/>
                  <a:pt x="18207" y="11906"/>
                </a:cubicBezTo>
                <a:cubicBezTo>
                  <a:pt x="18107" y="11871"/>
                  <a:pt x="18012" y="11835"/>
                  <a:pt x="17909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Ink 6"/>
          <p:cNvSpPr/>
          <p:nvPr/>
        </p:nvSpPr>
        <p:spPr>
          <a:xfrm>
            <a:off x="768240" y="3848040"/>
            <a:ext cx="2428920" cy="930240"/>
          </a:xfrm>
          <a:custGeom>
            <a:avLst/>
            <a:gdLst/>
            <a:ahLst/>
            <a:rect l="l" t="t" r="r" b="b"/>
            <a:pathLst>
              <a:path w="6748" h="2581">
                <a:moveTo>
                  <a:pt x="2158" y="11261"/>
                </a:moveTo>
                <a:cubicBezTo>
                  <a:pt x="2225" y="11299"/>
                  <a:pt x="2260" y="11329"/>
                  <a:pt x="2307" y="11385"/>
                </a:cubicBezTo>
                <a:cubicBezTo>
                  <a:pt x="2339" y="11423"/>
                  <a:pt x="2396" y="11456"/>
                  <a:pt x="2406" y="11509"/>
                </a:cubicBezTo>
                <a:cubicBezTo>
                  <a:pt x="2424" y="11607"/>
                  <a:pt x="2349" y="11698"/>
                  <a:pt x="2307" y="11782"/>
                </a:cubicBezTo>
                <a:cubicBezTo>
                  <a:pt x="2271" y="11854"/>
                  <a:pt x="2207" y="11918"/>
                  <a:pt x="2158" y="11981"/>
                </a:cubicBezTo>
                <a:cubicBezTo>
                  <a:pt x="2125" y="12023"/>
                  <a:pt x="2133" y="12049"/>
                  <a:pt x="2133" y="12105"/>
                </a:cubicBezTo>
              </a:path>
              <a:path w="6748" h="2581">
                <a:moveTo>
                  <a:pt x="3076" y="10691"/>
                </a:moveTo>
                <a:cubicBezTo>
                  <a:pt x="3039" y="10772"/>
                  <a:pt x="3013" y="10858"/>
                  <a:pt x="2977" y="10939"/>
                </a:cubicBezTo>
                <a:cubicBezTo>
                  <a:pt x="2894" y="11124"/>
                  <a:pt x="2852" y="11311"/>
                  <a:pt x="2803" y="11509"/>
                </a:cubicBezTo>
                <a:cubicBezTo>
                  <a:pt x="2779" y="11606"/>
                  <a:pt x="2758" y="11731"/>
                  <a:pt x="2778" y="11832"/>
                </a:cubicBezTo>
                <a:cubicBezTo>
                  <a:pt x="2791" y="11899"/>
                  <a:pt x="2830" y="12009"/>
                  <a:pt x="2902" y="12030"/>
                </a:cubicBezTo>
                <a:cubicBezTo>
                  <a:pt x="3001" y="12059"/>
                  <a:pt x="3067" y="12046"/>
                  <a:pt x="3150" y="11981"/>
                </a:cubicBezTo>
                <a:cubicBezTo>
                  <a:pt x="3209" y="11934"/>
                  <a:pt x="3262" y="11830"/>
                  <a:pt x="3274" y="11757"/>
                </a:cubicBezTo>
                <a:cubicBezTo>
                  <a:pt x="3288" y="11673"/>
                  <a:pt x="3262" y="11609"/>
                  <a:pt x="3249" y="11534"/>
                </a:cubicBezTo>
                <a:cubicBezTo>
                  <a:pt x="3232" y="11436"/>
                  <a:pt x="3212" y="11450"/>
                  <a:pt x="3125" y="11460"/>
                </a:cubicBezTo>
                <a:cubicBezTo>
                  <a:pt x="3037" y="11470"/>
                  <a:pt x="3010" y="11574"/>
                  <a:pt x="2977" y="11658"/>
                </a:cubicBezTo>
                <a:cubicBezTo>
                  <a:pt x="2932" y="11771"/>
                  <a:pt x="2948" y="11803"/>
                  <a:pt x="3026" y="11881"/>
                </a:cubicBezTo>
              </a:path>
              <a:path w="6748" h="2581">
                <a:moveTo>
                  <a:pt x="3696" y="11410"/>
                </a:moveTo>
                <a:cubicBezTo>
                  <a:pt x="3630" y="11410"/>
                  <a:pt x="3548" y="11407"/>
                  <a:pt x="3497" y="11460"/>
                </a:cubicBezTo>
                <a:cubicBezTo>
                  <a:pt x="3440" y="11519"/>
                  <a:pt x="3345" y="11667"/>
                  <a:pt x="3349" y="11757"/>
                </a:cubicBezTo>
                <a:cubicBezTo>
                  <a:pt x="3351" y="11802"/>
                  <a:pt x="3387" y="11923"/>
                  <a:pt x="3423" y="11956"/>
                </a:cubicBezTo>
                <a:cubicBezTo>
                  <a:pt x="3461" y="11991"/>
                  <a:pt x="3544" y="12042"/>
                  <a:pt x="3597" y="12030"/>
                </a:cubicBezTo>
                <a:cubicBezTo>
                  <a:pt x="3723" y="12002"/>
                  <a:pt x="3782" y="11842"/>
                  <a:pt x="3820" y="11733"/>
                </a:cubicBezTo>
                <a:cubicBezTo>
                  <a:pt x="3862" y="11613"/>
                  <a:pt x="3904" y="11488"/>
                  <a:pt x="3919" y="11361"/>
                </a:cubicBezTo>
                <a:cubicBezTo>
                  <a:pt x="3929" y="11275"/>
                  <a:pt x="3944" y="11202"/>
                  <a:pt x="3944" y="11112"/>
                </a:cubicBezTo>
                <a:cubicBezTo>
                  <a:pt x="3899" y="11201"/>
                  <a:pt x="3886" y="11265"/>
                  <a:pt x="3870" y="11361"/>
                </a:cubicBezTo>
                <a:cubicBezTo>
                  <a:pt x="3844" y="11519"/>
                  <a:pt x="3826" y="11602"/>
                  <a:pt x="3845" y="11757"/>
                </a:cubicBezTo>
                <a:cubicBezTo>
                  <a:pt x="3856" y="11847"/>
                  <a:pt x="3907" y="11915"/>
                  <a:pt x="3969" y="11981"/>
                </a:cubicBezTo>
                <a:cubicBezTo>
                  <a:pt x="3997" y="12008"/>
                  <a:pt x="4011" y="12016"/>
                  <a:pt x="4043" y="12005"/>
                </a:cubicBezTo>
              </a:path>
              <a:path w="6748" h="2581">
                <a:moveTo>
                  <a:pt x="4366" y="11261"/>
                </a:moveTo>
                <a:cubicBezTo>
                  <a:pt x="4346" y="11362"/>
                  <a:pt x="4318" y="11458"/>
                  <a:pt x="4316" y="11559"/>
                </a:cubicBezTo>
                <a:cubicBezTo>
                  <a:pt x="4312" y="11702"/>
                  <a:pt x="4321" y="11820"/>
                  <a:pt x="4341" y="11956"/>
                </a:cubicBezTo>
                <a:cubicBezTo>
                  <a:pt x="4341" y="11997"/>
                  <a:pt x="4333" y="12013"/>
                  <a:pt x="4366" y="12005"/>
                </a:cubicBezTo>
              </a:path>
              <a:path w="6748" h="2581">
                <a:moveTo>
                  <a:pt x="4167" y="11435"/>
                </a:moveTo>
                <a:cubicBezTo>
                  <a:pt x="4229" y="11417"/>
                  <a:pt x="4311" y="11435"/>
                  <a:pt x="4390" y="11435"/>
                </a:cubicBezTo>
                <a:cubicBezTo>
                  <a:pt x="4481" y="11435"/>
                  <a:pt x="4506" y="11435"/>
                  <a:pt x="4564" y="11435"/>
                </a:cubicBezTo>
              </a:path>
              <a:path w="6748" h="2581">
                <a:moveTo>
                  <a:pt x="5308" y="11187"/>
                </a:moveTo>
                <a:cubicBezTo>
                  <a:pt x="5193" y="11105"/>
                  <a:pt x="5171" y="11088"/>
                  <a:pt x="5035" y="11088"/>
                </a:cubicBezTo>
                <a:cubicBezTo>
                  <a:pt x="4940" y="11088"/>
                  <a:pt x="4880" y="11146"/>
                  <a:pt x="4862" y="11237"/>
                </a:cubicBezTo>
                <a:cubicBezTo>
                  <a:pt x="4850" y="11295"/>
                  <a:pt x="4911" y="11382"/>
                  <a:pt x="4936" y="11435"/>
                </a:cubicBezTo>
                <a:cubicBezTo>
                  <a:pt x="4988" y="11545"/>
                  <a:pt x="5066" y="11605"/>
                  <a:pt x="5110" y="11708"/>
                </a:cubicBezTo>
                <a:cubicBezTo>
                  <a:pt x="5139" y="11777"/>
                  <a:pt x="5211" y="11907"/>
                  <a:pt x="5209" y="11981"/>
                </a:cubicBezTo>
                <a:cubicBezTo>
                  <a:pt x="5206" y="12067"/>
                  <a:pt x="5183" y="12081"/>
                  <a:pt x="5135" y="12129"/>
                </a:cubicBezTo>
                <a:cubicBezTo>
                  <a:pt x="5082" y="12103"/>
                  <a:pt x="5020" y="12082"/>
                  <a:pt x="4986" y="12030"/>
                </a:cubicBezTo>
                <a:cubicBezTo>
                  <a:pt x="4948" y="11972"/>
                  <a:pt x="4916" y="11878"/>
                  <a:pt x="4936" y="11807"/>
                </a:cubicBezTo>
                <a:cubicBezTo>
                  <a:pt x="4962" y="11713"/>
                  <a:pt x="5012" y="11647"/>
                  <a:pt x="5060" y="11559"/>
                </a:cubicBezTo>
                <a:cubicBezTo>
                  <a:pt x="5104" y="11478"/>
                  <a:pt x="5138" y="11388"/>
                  <a:pt x="5184" y="11311"/>
                </a:cubicBezTo>
                <a:cubicBezTo>
                  <a:pt x="5213" y="11262"/>
                  <a:pt x="5291" y="11251"/>
                  <a:pt x="5308" y="11187"/>
                </a:cubicBezTo>
                <a:cubicBezTo>
                  <a:pt x="5308" y="11145"/>
                  <a:pt x="5300" y="11129"/>
                  <a:pt x="5333" y="11137"/>
                </a:cubicBezTo>
              </a:path>
              <a:path w="6748" h="2581">
                <a:moveTo>
                  <a:pt x="5507" y="11559"/>
                </a:moveTo>
                <a:cubicBezTo>
                  <a:pt x="5585" y="11565"/>
                  <a:pt x="5632" y="11575"/>
                  <a:pt x="5705" y="11584"/>
                </a:cubicBezTo>
              </a:path>
              <a:path w="6748" h="2581">
                <a:moveTo>
                  <a:pt x="5606" y="11832"/>
                </a:moveTo>
                <a:cubicBezTo>
                  <a:pt x="5729" y="11859"/>
                  <a:pt x="5731" y="11859"/>
                  <a:pt x="5854" y="11832"/>
                </a:cubicBezTo>
              </a:path>
              <a:path w="6748" h="2581">
                <a:moveTo>
                  <a:pt x="6176" y="11336"/>
                </a:moveTo>
                <a:cubicBezTo>
                  <a:pt x="6129" y="11424"/>
                  <a:pt x="6078" y="11475"/>
                  <a:pt x="6028" y="11559"/>
                </a:cubicBezTo>
                <a:cubicBezTo>
                  <a:pt x="6004" y="11599"/>
                  <a:pt x="5936" y="11657"/>
                  <a:pt x="5953" y="11708"/>
                </a:cubicBezTo>
                <a:cubicBezTo>
                  <a:pt x="5965" y="11745"/>
                  <a:pt x="6046" y="11794"/>
                  <a:pt x="6077" y="11807"/>
                </a:cubicBezTo>
                <a:cubicBezTo>
                  <a:pt x="6163" y="11842"/>
                  <a:pt x="6243" y="11844"/>
                  <a:pt x="6325" y="11807"/>
                </a:cubicBezTo>
                <a:cubicBezTo>
                  <a:pt x="6342" y="11799"/>
                  <a:pt x="6358" y="11790"/>
                  <a:pt x="6375" y="11782"/>
                </a:cubicBezTo>
              </a:path>
              <a:path w="6748" h="2581">
                <a:moveTo>
                  <a:pt x="6474" y="11038"/>
                </a:moveTo>
                <a:cubicBezTo>
                  <a:pt x="6431" y="11124"/>
                  <a:pt x="6427" y="11194"/>
                  <a:pt x="6400" y="11286"/>
                </a:cubicBezTo>
                <a:cubicBezTo>
                  <a:pt x="6367" y="11399"/>
                  <a:pt x="6335" y="11516"/>
                  <a:pt x="6325" y="11633"/>
                </a:cubicBezTo>
                <a:cubicBezTo>
                  <a:pt x="6313" y="11773"/>
                  <a:pt x="6300" y="11913"/>
                  <a:pt x="6300" y="12055"/>
                </a:cubicBezTo>
                <a:cubicBezTo>
                  <a:pt x="6300" y="12125"/>
                  <a:pt x="6288" y="12173"/>
                  <a:pt x="6350" y="12204"/>
                </a:cubicBezTo>
              </a:path>
              <a:path w="6748" h="2581">
                <a:moveTo>
                  <a:pt x="6871" y="11708"/>
                </a:moveTo>
                <a:cubicBezTo>
                  <a:pt x="6811" y="11672"/>
                  <a:pt x="6737" y="11690"/>
                  <a:pt x="6672" y="11733"/>
                </a:cubicBezTo>
                <a:cubicBezTo>
                  <a:pt x="6605" y="11777"/>
                  <a:pt x="6542" y="11900"/>
                  <a:pt x="6548" y="11981"/>
                </a:cubicBezTo>
                <a:cubicBezTo>
                  <a:pt x="6554" y="12058"/>
                  <a:pt x="6597" y="12127"/>
                  <a:pt x="6648" y="12179"/>
                </a:cubicBezTo>
                <a:cubicBezTo>
                  <a:pt x="6699" y="12232"/>
                  <a:pt x="6750" y="12197"/>
                  <a:pt x="6796" y="12154"/>
                </a:cubicBezTo>
                <a:cubicBezTo>
                  <a:pt x="6869" y="12086"/>
                  <a:pt x="6911" y="11998"/>
                  <a:pt x="6945" y="11906"/>
                </a:cubicBezTo>
                <a:cubicBezTo>
                  <a:pt x="6981" y="11808"/>
                  <a:pt x="7009" y="11712"/>
                  <a:pt x="7020" y="11609"/>
                </a:cubicBezTo>
                <a:cubicBezTo>
                  <a:pt x="7030" y="11517"/>
                  <a:pt x="7045" y="11429"/>
                  <a:pt x="7045" y="11336"/>
                </a:cubicBezTo>
                <a:cubicBezTo>
                  <a:pt x="7016" y="11411"/>
                  <a:pt x="6998" y="11477"/>
                  <a:pt x="6995" y="11559"/>
                </a:cubicBezTo>
                <a:cubicBezTo>
                  <a:pt x="6990" y="11696"/>
                  <a:pt x="7005" y="11824"/>
                  <a:pt x="7020" y="11956"/>
                </a:cubicBezTo>
                <a:cubicBezTo>
                  <a:pt x="7031" y="12050"/>
                  <a:pt x="7064" y="12164"/>
                  <a:pt x="7144" y="12204"/>
                </a:cubicBezTo>
              </a:path>
              <a:path w="6748" h="2581">
                <a:moveTo>
                  <a:pt x="7541" y="11311"/>
                </a:moveTo>
                <a:cubicBezTo>
                  <a:pt x="7510" y="11426"/>
                  <a:pt x="7491" y="11514"/>
                  <a:pt x="7491" y="11633"/>
                </a:cubicBezTo>
                <a:cubicBezTo>
                  <a:pt x="7491" y="11754"/>
                  <a:pt x="7511" y="11862"/>
                  <a:pt x="7516" y="11981"/>
                </a:cubicBezTo>
                <a:cubicBezTo>
                  <a:pt x="7518" y="12030"/>
                  <a:pt x="7516" y="12080"/>
                  <a:pt x="7516" y="12129"/>
                </a:cubicBezTo>
              </a:path>
              <a:path w="6748" h="2581">
                <a:moveTo>
                  <a:pt x="7342" y="11683"/>
                </a:moveTo>
                <a:cubicBezTo>
                  <a:pt x="7402" y="11647"/>
                  <a:pt x="7494" y="11663"/>
                  <a:pt x="7565" y="11683"/>
                </a:cubicBezTo>
                <a:cubicBezTo>
                  <a:pt x="7628" y="11714"/>
                  <a:pt x="7659" y="11723"/>
                  <a:pt x="7714" y="11708"/>
                </a:cubicBezTo>
              </a:path>
              <a:path w="6748" h="2581">
                <a:moveTo>
                  <a:pt x="8086" y="11187"/>
                </a:moveTo>
                <a:cubicBezTo>
                  <a:pt x="8064" y="11298"/>
                  <a:pt x="8024" y="11423"/>
                  <a:pt x="8012" y="11534"/>
                </a:cubicBezTo>
                <a:cubicBezTo>
                  <a:pt x="7998" y="11666"/>
                  <a:pt x="7987" y="11797"/>
                  <a:pt x="7987" y="11931"/>
                </a:cubicBezTo>
                <a:cubicBezTo>
                  <a:pt x="7987" y="12035"/>
                  <a:pt x="7976" y="12133"/>
                  <a:pt x="8012" y="12229"/>
                </a:cubicBezTo>
              </a:path>
              <a:path w="6748" h="2581">
                <a:moveTo>
                  <a:pt x="8409" y="11361"/>
                </a:moveTo>
                <a:cubicBezTo>
                  <a:pt x="8339" y="11466"/>
                  <a:pt x="8274" y="11577"/>
                  <a:pt x="8260" y="11708"/>
                </a:cubicBezTo>
                <a:cubicBezTo>
                  <a:pt x="8235" y="11942"/>
                  <a:pt x="8333" y="12162"/>
                  <a:pt x="8483" y="12328"/>
                </a:cubicBezTo>
                <a:cubicBezTo>
                  <a:pt x="8537" y="12388"/>
                  <a:pt x="8667" y="12401"/>
                  <a:pt x="8731" y="12378"/>
                </a:cubicBezTo>
                <a:cubicBezTo>
                  <a:pt x="8804" y="12351"/>
                  <a:pt x="8907" y="12265"/>
                  <a:pt x="8880" y="12179"/>
                </a:cubicBezTo>
                <a:cubicBezTo>
                  <a:pt x="8855" y="12100"/>
                  <a:pt x="8756" y="12079"/>
                  <a:pt x="8682" y="12105"/>
                </a:cubicBezTo>
                <a:cubicBezTo>
                  <a:pt x="8571" y="12144"/>
                  <a:pt x="8465" y="12225"/>
                  <a:pt x="8359" y="12278"/>
                </a:cubicBezTo>
              </a:path>
              <a:path w="6748" h="2581">
                <a:moveTo>
                  <a:pt x="5928" y="12650"/>
                </a:moveTo>
                <a:cubicBezTo>
                  <a:pt x="6006" y="12613"/>
                  <a:pt x="6110" y="12622"/>
                  <a:pt x="6201" y="12601"/>
                </a:cubicBezTo>
              </a:path>
              <a:path w="6748" h="2581">
                <a:moveTo>
                  <a:pt x="6499" y="12526"/>
                </a:moveTo>
                <a:cubicBezTo>
                  <a:pt x="6465" y="12571"/>
                  <a:pt x="6352" y="12675"/>
                  <a:pt x="6375" y="12750"/>
                </a:cubicBezTo>
                <a:cubicBezTo>
                  <a:pt x="6394" y="12811"/>
                  <a:pt x="6478" y="12851"/>
                  <a:pt x="6524" y="12874"/>
                </a:cubicBezTo>
                <a:cubicBezTo>
                  <a:pt x="6579" y="12901"/>
                  <a:pt x="6602" y="12909"/>
                  <a:pt x="6648" y="12898"/>
                </a:cubicBezTo>
              </a:path>
              <a:path w="6748" h="2581">
                <a:moveTo>
                  <a:pt x="6821" y="12328"/>
                </a:moveTo>
                <a:cubicBezTo>
                  <a:pt x="6779" y="12433"/>
                  <a:pt x="6772" y="12514"/>
                  <a:pt x="6772" y="12626"/>
                </a:cubicBezTo>
                <a:cubicBezTo>
                  <a:pt x="6772" y="12727"/>
                  <a:pt x="6747" y="12819"/>
                  <a:pt x="6747" y="12923"/>
                </a:cubicBezTo>
                <a:cubicBezTo>
                  <a:pt x="6747" y="13013"/>
                  <a:pt x="6767" y="13086"/>
                  <a:pt x="6772" y="13171"/>
                </a:cubicBezTo>
                <a:cubicBezTo>
                  <a:pt x="6772" y="13223"/>
                  <a:pt x="6773" y="13241"/>
                  <a:pt x="6796" y="13271"/>
                </a:cubicBezTo>
              </a:path>
              <a:path w="6748" h="2581">
                <a:moveTo>
                  <a:pt x="7193" y="12824"/>
                </a:moveTo>
                <a:cubicBezTo>
                  <a:pt x="7193" y="12807"/>
                  <a:pt x="7193" y="12791"/>
                  <a:pt x="7193" y="12774"/>
                </a:cubicBezTo>
                <a:cubicBezTo>
                  <a:pt x="7079" y="12787"/>
                  <a:pt x="7061" y="12812"/>
                  <a:pt x="6995" y="12898"/>
                </a:cubicBezTo>
                <a:cubicBezTo>
                  <a:pt x="6955" y="12949"/>
                  <a:pt x="6955" y="13022"/>
                  <a:pt x="6995" y="13072"/>
                </a:cubicBezTo>
                <a:cubicBezTo>
                  <a:pt x="7043" y="13131"/>
                  <a:pt x="7094" y="13136"/>
                  <a:pt x="7169" y="13146"/>
                </a:cubicBezTo>
              </a:path>
              <a:path w="6748" h="2581">
                <a:moveTo>
                  <a:pt x="7342" y="12923"/>
                </a:moveTo>
                <a:cubicBezTo>
                  <a:pt x="7348" y="12817"/>
                  <a:pt x="7367" y="12732"/>
                  <a:pt x="7367" y="12626"/>
                </a:cubicBezTo>
                <a:cubicBezTo>
                  <a:pt x="7367" y="12565"/>
                  <a:pt x="7367" y="12527"/>
                  <a:pt x="7342" y="12477"/>
                </a:cubicBezTo>
                <a:cubicBezTo>
                  <a:pt x="7317" y="12566"/>
                  <a:pt x="7300" y="12677"/>
                  <a:pt x="7317" y="12774"/>
                </a:cubicBezTo>
                <a:cubicBezTo>
                  <a:pt x="7335" y="12876"/>
                  <a:pt x="7357" y="13001"/>
                  <a:pt x="7392" y="13097"/>
                </a:cubicBezTo>
                <a:cubicBezTo>
                  <a:pt x="7400" y="13113"/>
                  <a:pt x="7409" y="13130"/>
                  <a:pt x="7417" y="131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nk 7"/>
          <p:cNvSpPr/>
          <p:nvPr/>
        </p:nvSpPr>
        <p:spPr>
          <a:xfrm>
            <a:off x="3795840" y="3581280"/>
            <a:ext cx="642960" cy="1098720"/>
          </a:xfrm>
          <a:custGeom>
            <a:avLst/>
            <a:gdLst/>
            <a:ahLst/>
            <a:rect l="l" t="t" r="r" b="b"/>
            <a:pathLst>
              <a:path w="1787" h="3052">
                <a:moveTo>
                  <a:pt x="10542" y="11981"/>
                </a:moveTo>
                <a:cubicBezTo>
                  <a:pt x="10647" y="11981"/>
                  <a:pt x="10738" y="11960"/>
                  <a:pt x="10840" y="11956"/>
                </a:cubicBezTo>
                <a:cubicBezTo>
                  <a:pt x="10865" y="11956"/>
                  <a:pt x="10889" y="11956"/>
                  <a:pt x="10914" y="11956"/>
                </a:cubicBezTo>
              </a:path>
              <a:path w="1787" h="3052">
                <a:moveTo>
                  <a:pt x="11708" y="11956"/>
                </a:moveTo>
                <a:cubicBezTo>
                  <a:pt x="11767" y="11916"/>
                  <a:pt x="11779" y="11912"/>
                  <a:pt x="11807" y="11881"/>
                </a:cubicBezTo>
                <a:cubicBezTo>
                  <a:pt x="11718" y="11823"/>
                  <a:pt x="11666" y="11817"/>
                  <a:pt x="11559" y="11857"/>
                </a:cubicBezTo>
                <a:cubicBezTo>
                  <a:pt x="11494" y="11881"/>
                  <a:pt x="11411" y="11939"/>
                  <a:pt x="11385" y="12005"/>
                </a:cubicBezTo>
                <a:cubicBezTo>
                  <a:pt x="11352" y="12090"/>
                  <a:pt x="11411" y="12110"/>
                  <a:pt x="11460" y="12154"/>
                </a:cubicBezTo>
                <a:cubicBezTo>
                  <a:pt x="11539" y="12225"/>
                  <a:pt x="11582" y="12166"/>
                  <a:pt x="11633" y="12129"/>
                </a:cubicBezTo>
                <a:cubicBezTo>
                  <a:pt x="11692" y="12086"/>
                  <a:pt x="11727" y="12035"/>
                  <a:pt x="11782" y="11981"/>
                </a:cubicBezTo>
                <a:cubicBezTo>
                  <a:pt x="11790" y="11973"/>
                  <a:pt x="11799" y="11964"/>
                  <a:pt x="11807" y="11956"/>
                </a:cubicBezTo>
                <a:cubicBezTo>
                  <a:pt x="11746" y="12032"/>
                  <a:pt x="11753" y="12089"/>
                  <a:pt x="11733" y="12179"/>
                </a:cubicBezTo>
                <a:cubicBezTo>
                  <a:pt x="11706" y="12299"/>
                  <a:pt x="11688" y="12428"/>
                  <a:pt x="11683" y="12551"/>
                </a:cubicBezTo>
                <a:cubicBezTo>
                  <a:pt x="11683" y="12613"/>
                  <a:pt x="11673" y="12628"/>
                  <a:pt x="11708" y="12650"/>
                </a:cubicBezTo>
              </a:path>
              <a:path w="1787" h="3052">
                <a:moveTo>
                  <a:pt x="11881" y="12353"/>
                </a:moveTo>
                <a:cubicBezTo>
                  <a:pt x="11994" y="12306"/>
                  <a:pt x="12083" y="12269"/>
                  <a:pt x="12204" y="12254"/>
                </a:cubicBezTo>
                <a:cubicBezTo>
                  <a:pt x="12267" y="12246"/>
                  <a:pt x="12342" y="12214"/>
                  <a:pt x="12328" y="12129"/>
                </a:cubicBezTo>
                <a:cubicBezTo>
                  <a:pt x="12315" y="12052"/>
                  <a:pt x="12242" y="12033"/>
                  <a:pt x="12179" y="12030"/>
                </a:cubicBezTo>
                <a:cubicBezTo>
                  <a:pt x="12107" y="12026"/>
                  <a:pt x="12059" y="12028"/>
                  <a:pt x="12005" y="12080"/>
                </a:cubicBezTo>
                <a:cubicBezTo>
                  <a:pt x="11892" y="12188"/>
                  <a:pt x="11906" y="12194"/>
                  <a:pt x="11906" y="12328"/>
                </a:cubicBezTo>
                <a:cubicBezTo>
                  <a:pt x="11906" y="12443"/>
                  <a:pt x="11990" y="12532"/>
                  <a:pt x="12080" y="12601"/>
                </a:cubicBezTo>
                <a:cubicBezTo>
                  <a:pt x="12152" y="12656"/>
                  <a:pt x="12221" y="12691"/>
                  <a:pt x="12303" y="12725"/>
                </a:cubicBezTo>
              </a:path>
              <a:path w="1787" h="3052">
                <a:moveTo>
                  <a:pt x="11460" y="9947"/>
                </a:moveTo>
                <a:cubicBezTo>
                  <a:pt x="11460" y="10104"/>
                  <a:pt x="11482" y="10238"/>
                  <a:pt x="11509" y="10393"/>
                </a:cubicBezTo>
                <a:cubicBezTo>
                  <a:pt x="11546" y="10609"/>
                  <a:pt x="11644" y="10803"/>
                  <a:pt x="11708" y="11013"/>
                </a:cubicBezTo>
                <a:cubicBezTo>
                  <a:pt x="11799" y="11312"/>
                  <a:pt x="11864" y="11617"/>
                  <a:pt x="11981" y="11906"/>
                </a:cubicBezTo>
                <a:cubicBezTo>
                  <a:pt x="12068" y="12121"/>
                  <a:pt x="12144" y="12350"/>
                  <a:pt x="12204" y="12576"/>
                </a:cubicBezTo>
                <a:cubicBezTo>
                  <a:pt x="12239" y="12706"/>
                  <a:pt x="12254" y="12815"/>
                  <a:pt x="12254" y="12948"/>
                </a:cubicBezTo>
                <a:cubicBezTo>
                  <a:pt x="12254" y="12965"/>
                  <a:pt x="12254" y="12981"/>
                  <a:pt x="12254" y="129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Ink 8"/>
          <p:cNvSpPr/>
          <p:nvPr/>
        </p:nvSpPr>
        <p:spPr>
          <a:xfrm>
            <a:off x="5357880" y="4429080"/>
            <a:ext cx="741240" cy="330120"/>
          </a:xfrm>
          <a:custGeom>
            <a:avLst/>
            <a:gdLst/>
            <a:ahLst/>
            <a:rect l="l" t="t" r="r" b="b"/>
            <a:pathLst>
              <a:path w="2060" h="919">
                <a:moveTo>
                  <a:pt x="14883" y="12700"/>
                </a:moveTo>
                <a:cubicBezTo>
                  <a:pt x="14993" y="12674"/>
                  <a:pt x="15091" y="12675"/>
                  <a:pt x="15205" y="12675"/>
                </a:cubicBezTo>
              </a:path>
              <a:path w="2060" h="919">
                <a:moveTo>
                  <a:pt x="15949" y="12452"/>
                </a:moveTo>
                <a:cubicBezTo>
                  <a:pt x="15957" y="12427"/>
                  <a:pt x="15966" y="12403"/>
                  <a:pt x="15974" y="12378"/>
                </a:cubicBezTo>
                <a:cubicBezTo>
                  <a:pt x="15899" y="12327"/>
                  <a:pt x="15859" y="12316"/>
                  <a:pt x="15776" y="12353"/>
                </a:cubicBezTo>
                <a:cubicBezTo>
                  <a:pt x="15692" y="12391"/>
                  <a:pt x="15657" y="12406"/>
                  <a:pt x="15652" y="12502"/>
                </a:cubicBezTo>
                <a:cubicBezTo>
                  <a:pt x="15648" y="12566"/>
                  <a:pt x="15679" y="12637"/>
                  <a:pt x="15751" y="12650"/>
                </a:cubicBezTo>
                <a:cubicBezTo>
                  <a:pt x="15825" y="12663"/>
                  <a:pt x="15944" y="12630"/>
                  <a:pt x="15974" y="12551"/>
                </a:cubicBezTo>
                <a:cubicBezTo>
                  <a:pt x="16007" y="12464"/>
                  <a:pt x="16037" y="12385"/>
                  <a:pt x="16049" y="12303"/>
                </a:cubicBezTo>
                <a:cubicBezTo>
                  <a:pt x="15999" y="12378"/>
                  <a:pt x="15963" y="12477"/>
                  <a:pt x="15949" y="12576"/>
                </a:cubicBezTo>
                <a:cubicBezTo>
                  <a:pt x="15925" y="12749"/>
                  <a:pt x="15951" y="12929"/>
                  <a:pt x="15974" y="13097"/>
                </a:cubicBezTo>
                <a:cubicBezTo>
                  <a:pt x="15980" y="13142"/>
                  <a:pt x="15990" y="13177"/>
                  <a:pt x="15999" y="13221"/>
                </a:cubicBezTo>
              </a:path>
              <a:path w="2060" h="919">
                <a:moveTo>
                  <a:pt x="16272" y="12923"/>
                </a:moveTo>
                <a:cubicBezTo>
                  <a:pt x="16413" y="12900"/>
                  <a:pt x="16519" y="12887"/>
                  <a:pt x="16644" y="12824"/>
                </a:cubicBezTo>
                <a:cubicBezTo>
                  <a:pt x="16709" y="12791"/>
                  <a:pt x="16789" y="12767"/>
                  <a:pt x="16768" y="12675"/>
                </a:cubicBezTo>
                <a:cubicBezTo>
                  <a:pt x="16753" y="12606"/>
                  <a:pt x="16674" y="12556"/>
                  <a:pt x="16619" y="12526"/>
                </a:cubicBezTo>
                <a:cubicBezTo>
                  <a:pt x="16550" y="12488"/>
                  <a:pt x="16524" y="12455"/>
                  <a:pt x="16446" y="12502"/>
                </a:cubicBezTo>
                <a:cubicBezTo>
                  <a:pt x="16392" y="12535"/>
                  <a:pt x="16384" y="12619"/>
                  <a:pt x="16396" y="12675"/>
                </a:cubicBezTo>
                <a:cubicBezTo>
                  <a:pt x="16417" y="12770"/>
                  <a:pt x="16466" y="12825"/>
                  <a:pt x="16520" y="12898"/>
                </a:cubicBezTo>
                <a:cubicBezTo>
                  <a:pt x="16628" y="13044"/>
                  <a:pt x="16730" y="13075"/>
                  <a:pt x="16917" y="13146"/>
                </a:cubicBezTo>
                <a:cubicBezTo>
                  <a:pt x="16925" y="13146"/>
                  <a:pt x="16934" y="13146"/>
                  <a:pt x="16942" y="131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nk 9"/>
          <p:cNvSpPr/>
          <p:nvPr/>
        </p:nvSpPr>
        <p:spPr>
          <a:xfrm>
            <a:off x="892080" y="4456080"/>
            <a:ext cx="1000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2480" y="12378"/>
                </a:moveTo>
                <a:cubicBezTo>
                  <a:pt x="2571" y="12378"/>
                  <a:pt x="2662" y="12378"/>
                  <a:pt x="2753" y="123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Ink 10"/>
          <p:cNvSpPr/>
          <p:nvPr/>
        </p:nvSpPr>
        <p:spPr>
          <a:xfrm>
            <a:off x="1089000" y="4330800"/>
            <a:ext cx="331920" cy="312480"/>
          </a:xfrm>
          <a:custGeom>
            <a:avLst/>
            <a:gdLst/>
            <a:ahLst/>
            <a:rect l="l" t="t" r="r" b="b"/>
            <a:pathLst>
              <a:path w="919" h="869">
                <a:moveTo>
                  <a:pt x="3175" y="12229"/>
                </a:moveTo>
                <a:cubicBezTo>
                  <a:pt x="3146" y="12287"/>
                  <a:pt x="3122" y="12333"/>
                  <a:pt x="3076" y="12378"/>
                </a:cubicBezTo>
                <a:cubicBezTo>
                  <a:pt x="3044" y="12409"/>
                  <a:pt x="3048" y="12440"/>
                  <a:pt x="3026" y="12477"/>
                </a:cubicBezTo>
                <a:cubicBezTo>
                  <a:pt x="3091" y="12542"/>
                  <a:pt x="3133" y="12547"/>
                  <a:pt x="3225" y="12576"/>
                </a:cubicBezTo>
                <a:cubicBezTo>
                  <a:pt x="3313" y="12603"/>
                  <a:pt x="3318" y="12607"/>
                  <a:pt x="3398" y="12576"/>
                </a:cubicBezTo>
              </a:path>
              <a:path w="919" h="869">
                <a:moveTo>
                  <a:pt x="3448" y="12030"/>
                </a:moveTo>
                <a:cubicBezTo>
                  <a:pt x="3419" y="12108"/>
                  <a:pt x="3423" y="12169"/>
                  <a:pt x="3423" y="12254"/>
                </a:cubicBezTo>
                <a:cubicBezTo>
                  <a:pt x="3423" y="12359"/>
                  <a:pt x="3409" y="12451"/>
                  <a:pt x="3398" y="12551"/>
                </a:cubicBezTo>
                <a:cubicBezTo>
                  <a:pt x="3388" y="12637"/>
                  <a:pt x="3377" y="12828"/>
                  <a:pt x="3423" y="12874"/>
                </a:cubicBezTo>
              </a:path>
              <a:path w="919" h="869">
                <a:moveTo>
                  <a:pt x="3820" y="12551"/>
                </a:moveTo>
                <a:cubicBezTo>
                  <a:pt x="3848" y="12523"/>
                  <a:pt x="3857" y="12510"/>
                  <a:pt x="3845" y="12477"/>
                </a:cubicBezTo>
                <a:cubicBezTo>
                  <a:pt x="3768" y="12431"/>
                  <a:pt x="3697" y="12475"/>
                  <a:pt x="3621" y="12526"/>
                </a:cubicBezTo>
                <a:cubicBezTo>
                  <a:pt x="3563" y="12565"/>
                  <a:pt x="3560" y="12665"/>
                  <a:pt x="3572" y="12725"/>
                </a:cubicBezTo>
                <a:cubicBezTo>
                  <a:pt x="3580" y="12766"/>
                  <a:pt x="3617" y="12883"/>
                  <a:pt x="3671" y="12898"/>
                </a:cubicBezTo>
                <a:cubicBezTo>
                  <a:pt x="3721" y="12912"/>
                  <a:pt x="3795" y="12902"/>
                  <a:pt x="3820" y="12849"/>
                </a:cubicBezTo>
                <a:cubicBezTo>
                  <a:pt x="3872" y="12739"/>
                  <a:pt x="3890" y="12692"/>
                  <a:pt x="3919" y="12576"/>
                </a:cubicBezTo>
                <a:cubicBezTo>
                  <a:pt x="3948" y="12460"/>
                  <a:pt x="3944" y="12355"/>
                  <a:pt x="3944" y="12229"/>
                </a:cubicBezTo>
                <a:cubicBezTo>
                  <a:pt x="3944" y="12177"/>
                  <a:pt x="3943" y="12159"/>
                  <a:pt x="3919" y="12129"/>
                </a:cubicBezTo>
                <a:cubicBezTo>
                  <a:pt x="3853" y="12224"/>
                  <a:pt x="3845" y="12285"/>
                  <a:pt x="3845" y="12402"/>
                </a:cubicBezTo>
                <a:cubicBezTo>
                  <a:pt x="3845" y="12514"/>
                  <a:pt x="3858" y="12593"/>
                  <a:pt x="3894" y="12700"/>
                </a:cubicBezTo>
                <a:cubicBezTo>
                  <a:pt x="3902" y="12725"/>
                  <a:pt x="3911" y="12749"/>
                  <a:pt x="3919" y="127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Ink 11"/>
          <p:cNvSpPr/>
          <p:nvPr/>
        </p:nvSpPr>
        <p:spPr>
          <a:xfrm>
            <a:off x="4616280" y="5322960"/>
            <a:ext cx="1679760" cy="955440"/>
          </a:xfrm>
          <a:custGeom>
            <a:avLst/>
            <a:gdLst/>
            <a:ahLst/>
            <a:rect l="l" t="t" r="r" b="b"/>
            <a:pathLst>
              <a:path w="4664" h="2655">
                <a:moveTo>
                  <a:pt x="16371" y="15056"/>
                </a:moveTo>
                <a:cubicBezTo>
                  <a:pt x="16479" y="15056"/>
                  <a:pt x="16586" y="15056"/>
                  <a:pt x="16694" y="15056"/>
                </a:cubicBezTo>
              </a:path>
              <a:path w="4664" h="2655">
                <a:moveTo>
                  <a:pt x="17066" y="14932"/>
                </a:moveTo>
                <a:cubicBezTo>
                  <a:pt x="17134" y="14944"/>
                  <a:pt x="17347" y="14954"/>
                  <a:pt x="17388" y="15056"/>
                </a:cubicBezTo>
                <a:cubicBezTo>
                  <a:pt x="17438" y="15182"/>
                  <a:pt x="17252" y="15202"/>
                  <a:pt x="17190" y="15230"/>
                </a:cubicBezTo>
                <a:cubicBezTo>
                  <a:pt x="17137" y="15254"/>
                  <a:pt x="17095" y="15260"/>
                  <a:pt x="17041" y="15280"/>
                </a:cubicBezTo>
                <a:cubicBezTo>
                  <a:pt x="17134" y="15287"/>
                  <a:pt x="17236" y="15292"/>
                  <a:pt x="17314" y="15354"/>
                </a:cubicBezTo>
                <a:cubicBezTo>
                  <a:pt x="17361" y="15391"/>
                  <a:pt x="17469" y="15544"/>
                  <a:pt x="17487" y="15602"/>
                </a:cubicBezTo>
                <a:cubicBezTo>
                  <a:pt x="17516" y="15697"/>
                  <a:pt x="17444" y="15753"/>
                  <a:pt x="17388" y="15801"/>
                </a:cubicBezTo>
                <a:cubicBezTo>
                  <a:pt x="17317" y="15863"/>
                  <a:pt x="17292" y="15896"/>
                  <a:pt x="17190" y="15900"/>
                </a:cubicBezTo>
                <a:cubicBezTo>
                  <a:pt x="17050" y="15906"/>
                  <a:pt x="17034" y="15886"/>
                  <a:pt x="16892" y="15825"/>
                </a:cubicBezTo>
              </a:path>
              <a:path w="4664" h="2655">
                <a:moveTo>
                  <a:pt x="12824" y="14908"/>
                </a:moveTo>
                <a:cubicBezTo>
                  <a:pt x="12889" y="14939"/>
                  <a:pt x="12969" y="14954"/>
                  <a:pt x="13047" y="14957"/>
                </a:cubicBezTo>
                <a:cubicBezTo>
                  <a:pt x="13130" y="14957"/>
                  <a:pt x="13146" y="14957"/>
                  <a:pt x="13196" y="14957"/>
                </a:cubicBezTo>
              </a:path>
              <a:path w="4664" h="2655">
                <a:moveTo>
                  <a:pt x="13494" y="14784"/>
                </a:moveTo>
                <a:cubicBezTo>
                  <a:pt x="13629" y="14830"/>
                  <a:pt x="13699" y="14832"/>
                  <a:pt x="13791" y="14908"/>
                </a:cubicBezTo>
                <a:cubicBezTo>
                  <a:pt x="13762" y="15008"/>
                  <a:pt x="13735" y="14979"/>
                  <a:pt x="13643" y="15007"/>
                </a:cubicBezTo>
                <a:cubicBezTo>
                  <a:pt x="13593" y="15032"/>
                  <a:pt x="13577" y="15040"/>
                  <a:pt x="13543" y="15056"/>
                </a:cubicBezTo>
                <a:cubicBezTo>
                  <a:pt x="13584" y="15128"/>
                  <a:pt x="13632" y="15148"/>
                  <a:pt x="13692" y="15205"/>
                </a:cubicBezTo>
                <a:cubicBezTo>
                  <a:pt x="13767" y="15276"/>
                  <a:pt x="13865" y="15356"/>
                  <a:pt x="13816" y="15478"/>
                </a:cubicBezTo>
                <a:cubicBezTo>
                  <a:pt x="13800" y="15517"/>
                  <a:pt x="13650" y="15571"/>
                  <a:pt x="13618" y="15577"/>
                </a:cubicBezTo>
                <a:cubicBezTo>
                  <a:pt x="13583" y="15583"/>
                  <a:pt x="13480" y="15629"/>
                  <a:pt x="13444" y="15602"/>
                </a:cubicBezTo>
                <a:cubicBezTo>
                  <a:pt x="13424" y="15562"/>
                  <a:pt x="13426" y="15546"/>
                  <a:pt x="13395" y="15553"/>
                </a:cubicBezTo>
              </a:path>
              <a:path w="4664" h="2655">
                <a:moveTo>
                  <a:pt x="13146" y="15850"/>
                </a:moveTo>
                <a:cubicBezTo>
                  <a:pt x="13222" y="15907"/>
                  <a:pt x="13313" y="15936"/>
                  <a:pt x="13419" y="15925"/>
                </a:cubicBezTo>
                <a:cubicBezTo>
                  <a:pt x="13527" y="15903"/>
                  <a:pt x="13554" y="15900"/>
                  <a:pt x="13618" y="15875"/>
                </a:cubicBezTo>
              </a:path>
              <a:path w="4664" h="2655">
                <a:moveTo>
                  <a:pt x="13915" y="15900"/>
                </a:moveTo>
                <a:cubicBezTo>
                  <a:pt x="13882" y="16035"/>
                  <a:pt x="13828" y="16114"/>
                  <a:pt x="13791" y="16247"/>
                </a:cubicBezTo>
                <a:cubicBezTo>
                  <a:pt x="13763" y="16346"/>
                  <a:pt x="13767" y="16451"/>
                  <a:pt x="13742" y="16545"/>
                </a:cubicBezTo>
                <a:cubicBezTo>
                  <a:pt x="13734" y="16561"/>
                  <a:pt x="13725" y="16578"/>
                  <a:pt x="13717" y="16594"/>
                </a:cubicBezTo>
              </a:path>
              <a:path w="4664" h="2655">
                <a:moveTo>
                  <a:pt x="14337" y="16049"/>
                </a:moveTo>
                <a:cubicBezTo>
                  <a:pt x="14328" y="15887"/>
                  <a:pt x="14351" y="15914"/>
                  <a:pt x="14263" y="15825"/>
                </a:cubicBezTo>
                <a:cubicBezTo>
                  <a:pt x="14180" y="15919"/>
                  <a:pt x="14188" y="15972"/>
                  <a:pt x="14188" y="16098"/>
                </a:cubicBezTo>
                <a:cubicBezTo>
                  <a:pt x="14188" y="16275"/>
                  <a:pt x="14182" y="16447"/>
                  <a:pt x="14163" y="16619"/>
                </a:cubicBezTo>
                <a:cubicBezTo>
                  <a:pt x="14154" y="16707"/>
                  <a:pt x="14168" y="16689"/>
                  <a:pt x="14114" y="16743"/>
                </a:cubicBezTo>
                <a:cubicBezTo>
                  <a:pt x="14027" y="16721"/>
                  <a:pt x="13994" y="16691"/>
                  <a:pt x="13990" y="16594"/>
                </a:cubicBezTo>
                <a:cubicBezTo>
                  <a:pt x="13985" y="16471"/>
                  <a:pt x="14053" y="16412"/>
                  <a:pt x="14114" y="16321"/>
                </a:cubicBezTo>
                <a:cubicBezTo>
                  <a:pt x="14143" y="16278"/>
                  <a:pt x="14167" y="16226"/>
                  <a:pt x="14213" y="16197"/>
                </a:cubicBezTo>
                <a:cubicBezTo>
                  <a:pt x="14289" y="16149"/>
                  <a:pt x="14295" y="16108"/>
                  <a:pt x="14362" y="16049"/>
                </a:cubicBezTo>
                <a:cubicBezTo>
                  <a:pt x="14379" y="16041"/>
                  <a:pt x="14395" y="16032"/>
                  <a:pt x="14412" y="16024"/>
                </a:cubicBezTo>
              </a:path>
              <a:path w="4664" h="2655">
                <a:moveTo>
                  <a:pt x="14635" y="16024"/>
                </a:moveTo>
                <a:cubicBezTo>
                  <a:pt x="14718" y="16065"/>
                  <a:pt x="14734" y="16073"/>
                  <a:pt x="14784" y="16098"/>
                </a:cubicBezTo>
              </a:path>
              <a:path w="4664" h="2655">
                <a:moveTo>
                  <a:pt x="14536" y="16222"/>
                </a:moveTo>
                <a:cubicBezTo>
                  <a:pt x="14658" y="16284"/>
                  <a:pt x="14680" y="16318"/>
                  <a:pt x="14759" y="16272"/>
                </a:cubicBezTo>
              </a:path>
              <a:path w="4664" h="2655">
                <a:moveTo>
                  <a:pt x="15156" y="15875"/>
                </a:moveTo>
                <a:cubicBezTo>
                  <a:pt x="15265" y="15863"/>
                  <a:pt x="15338" y="15846"/>
                  <a:pt x="15429" y="15900"/>
                </a:cubicBezTo>
                <a:cubicBezTo>
                  <a:pt x="15416" y="16000"/>
                  <a:pt x="15410" y="15995"/>
                  <a:pt x="15329" y="16024"/>
                </a:cubicBezTo>
                <a:cubicBezTo>
                  <a:pt x="15270" y="16045"/>
                  <a:pt x="15213" y="16094"/>
                  <a:pt x="15156" y="16123"/>
                </a:cubicBezTo>
                <a:cubicBezTo>
                  <a:pt x="15184" y="16210"/>
                  <a:pt x="15203" y="16158"/>
                  <a:pt x="15280" y="16197"/>
                </a:cubicBezTo>
                <a:cubicBezTo>
                  <a:pt x="15336" y="16225"/>
                  <a:pt x="15390" y="16281"/>
                  <a:pt x="15404" y="16346"/>
                </a:cubicBezTo>
                <a:cubicBezTo>
                  <a:pt x="15417" y="16403"/>
                  <a:pt x="15317" y="16489"/>
                  <a:pt x="15280" y="16520"/>
                </a:cubicBezTo>
                <a:cubicBezTo>
                  <a:pt x="15202" y="16585"/>
                  <a:pt x="15113" y="16566"/>
                  <a:pt x="15032" y="16520"/>
                </a:cubicBezTo>
                <a:cubicBezTo>
                  <a:pt x="14953" y="16475"/>
                  <a:pt x="14982" y="16437"/>
                  <a:pt x="15032" y="16396"/>
                </a:cubicBezTo>
              </a:path>
              <a:path w="4664" h="2655">
                <a:moveTo>
                  <a:pt x="15503" y="16421"/>
                </a:moveTo>
                <a:cubicBezTo>
                  <a:pt x="15632" y="16421"/>
                  <a:pt x="15758" y="16437"/>
                  <a:pt x="15875" y="16371"/>
                </a:cubicBezTo>
                <a:cubicBezTo>
                  <a:pt x="15977" y="16313"/>
                  <a:pt x="16006" y="16252"/>
                  <a:pt x="15900" y="16197"/>
                </a:cubicBezTo>
                <a:cubicBezTo>
                  <a:pt x="15820" y="16155"/>
                  <a:pt x="15749" y="16172"/>
                  <a:pt x="15677" y="16222"/>
                </a:cubicBezTo>
                <a:cubicBezTo>
                  <a:pt x="15611" y="16268"/>
                  <a:pt x="15604" y="16399"/>
                  <a:pt x="15602" y="16470"/>
                </a:cubicBezTo>
                <a:cubicBezTo>
                  <a:pt x="15599" y="16566"/>
                  <a:pt x="15622" y="16655"/>
                  <a:pt x="15652" y="16743"/>
                </a:cubicBezTo>
              </a:path>
              <a:path w="4664" h="2655">
                <a:moveTo>
                  <a:pt x="16520" y="16173"/>
                </a:moveTo>
                <a:cubicBezTo>
                  <a:pt x="16368" y="16223"/>
                  <a:pt x="16317" y="16279"/>
                  <a:pt x="16197" y="16371"/>
                </a:cubicBezTo>
                <a:cubicBezTo>
                  <a:pt x="16019" y="16507"/>
                  <a:pt x="15872" y="16664"/>
                  <a:pt x="15726" y="16842"/>
                </a:cubicBezTo>
                <a:cubicBezTo>
                  <a:pt x="15658" y="16926"/>
                  <a:pt x="15590" y="17012"/>
                  <a:pt x="15528" y="17090"/>
                </a:cubicBezTo>
                <a:cubicBezTo>
                  <a:pt x="15528" y="17098"/>
                  <a:pt x="15528" y="17107"/>
                  <a:pt x="15528" y="17115"/>
                </a:cubicBezTo>
              </a:path>
              <a:path w="4664" h="2655">
                <a:moveTo>
                  <a:pt x="16222" y="16718"/>
                </a:moveTo>
                <a:cubicBezTo>
                  <a:pt x="16315" y="16722"/>
                  <a:pt x="16476" y="16700"/>
                  <a:pt x="16470" y="16793"/>
                </a:cubicBezTo>
                <a:cubicBezTo>
                  <a:pt x="16466" y="16850"/>
                  <a:pt x="16386" y="16919"/>
                  <a:pt x="16346" y="16942"/>
                </a:cubicBezTo>
                <a:cubicBezTo>
                  <a:pt x="16255" y="16995"/>
                  <a:pt x="16253" y="16996"/>
                  <a:pt x="16197" y="17066"/>
                </a:cubicBezTo>
                <a:cubicBezTo>
                  <a:pt x="16144" y="17132"/>
                  <a:pt x="16158" y="17117"/>
                  <a:pt x="16173" y="17190"/>
                </a:cubicBezTo>
                <a:cubicBezTo>
                  <a:pt x="16182" y="17237"/>
                  <a:pt x="16222" y="17301"/>
                  <a:pt x="16173" y="17338"/>
                </a:cubicBezTo>
                <a:cubicBezTo>
                  <a:pt x="16067" y="17419"/>
                  <a:pt x="15958" y="17458"/>
                  <a:pt x="15825" y="17438"/>
                </a:cubicBezTo>
                <a:cubicBezTo>
                  <a:pt x="15677" y="17415"/>
                  <a:pt x="15582" y="17311"/>
                  <a:pt x="15478" y="17214"/>
                </a:cubicBezTo>
              </a:path>
              <a:path w="4664" h="2655">
                <a:moveTo>
                  <a:pt x="14362" y="16594"/>
                </a:moveTo>
                <a:cubicBezTo>
                  <a:pt x="14128" y="16668"/>
                  <a:pt x="13847" y="16726"/>
                  <a:pt x="13643" y="16867"/>
                </a:cubicBezTo>
                <a:cubicBezTo>
                  <a:pt x="13553" y="16929"/>
                  <a:pt x="13464" y="16985"/>
                  <a:pt x="13395" y="17066"/>
                </a:cubicBezTo>
                <a:cubicBezTo>
                  <a:pt x="13387" y="17074"/>
                  <a:pt x="13378" y="17082"/>
                  <a:pt x="13370" y="17090"/>
                </a:cubicBezTo>
              </a:path>
              <a:path w="4664" h="2655">
                <a:moveTo>
                  <a:pt x="13816" y="16818"/>
                </a:moveTo>
                <a:cubicBezTo>
                  <a:pt x="13930" y="16861"/>
                  <a:pt x="14019" y="16893"/>
                  <a:pt x="14114" y="16966"/>
                </a:cubicBezTo>
                <a:cubicBezTo>
                  <a:pt x="14073" y="16966"/>
                  <a:pt x="13905" y="16941"/>
                  <a:pt x="13891" y="16991"/>
                </a:cubicBezTo>
                <a:cubicBezTo>
                  <a:pt x="13870" y="17068"/>
                  <a:pt x="13928" y="17143"/>
                  <a:pt x="13940" y="17214"/>
                </a:cubicBezTo>
                <a:cubicBezTo>
                  <a:pt x="13954" y="17296"/>
                  <a:pt x="13876" y="17308"/>
                  <a:pt x="13816" y="17338"/>
                </a:cubicBezTo>
                <a:cubicBezTo>
                  <a:pt x="13752" y="17370"/>
                  <a:pt x="13665" y="17376"/>
                  <a:pt x="13593" y="17363"/>
                </a:cubicBezTo>
                <a:cubicBezTo>
                  <a:pt x="13514" y="17349"/>
                  <a:pt x="13462" y="17337"/>
                  <a:pt x="13444" y="172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Ink 12"/>
          <p:cNvSpPr/>
          <p:nvPr/>
        </p:nvSpPr>
        <p:spPr>
          <a:xfrm>
            <a:off x="6804000" y="4813200"/>
            <a:ext cx="1098720" cy="588960"/>
          </a:xfrm>
          <a:custGeom>
            <a:avLst/>
            <a:gdLst/>
            <a:ahLst/>
            <a:rect l="l" t="t" r="r" b="b"/>
            <a:pathLst>
              <a:path w="3052" h="1638">
                <a:moveTo>
                  <a:pt x="18901" y="14188"/>
                </a:moveTo>
                <a:cubicBezTo>
                  <a:pt x="19127" y="14127"/>
                  <a:pt x="19239" y="14114"/>
                  <a:pt x="19472" y="14114"/>
                </a:cubicBezTo>
              </a:path>
              <a:path w="3052" h="1638">
                <a:moveTo>
                  <a:pt x="19893" y="13444"/>
                </a:moveTo>
                <a:cubicBezTo>
                  <a:pt x="19953" y="13405"/>
                  <a:pt x="19965" y="13401"/>
                  <a:pt x="19993" y="13370"/>
                </a:cubicBezTo>
                <a:cubicBezTo>
                  <a:pt x="19993" y="13540"/>
                  <a:pt x="19970" y="13562"/>
                  <a:pt x="19869" y="13692"/>
                </a:cubicBezTo>
                <a:cubicBezTo>
                  <a:pt x="19788" y="13797"/>
                  <a:pt x="19743" y="13896"/>
                  <a:pt x="19695" y="14015"/>
                </a:cubicBezTo>
                <a:cubicBezTo>
                  <a:pt x="19650" y="14127"/>
                  <a:pt x="19731" y="14186"/>
                  <a:pt x="19769" y="14288"/>
                </a:cubicBezTo>
                <a:cubicBezTo>
                  <a:pt x="19815" y="14410"/>
                  <a:pt x="19848" y="14468"/>
                  <a:pt x="19993" y="14486"/>
                </a:cubicBezTo>
                <a:cubicBezTo>
                  <a:pt x="20115" y="14501"/>
                  <a:pt x="20192" y="14455"/>
                  <a:pt x="20265" y="14362"/>
                </a:cubicBezTo>
                <a:cubicBezTo>
                  <a:pt x="20327" y="14283"/>
                  <a:pt x="20329" y="14227"/>
                  <a:pt x="20290" y="14139"/>
                </a:cubicBezTo>
                <a:cubicBezTo>
                  <a:pt x="20248" y="14045"/>
                  <a:pt x="20198" y="14061"/>
                  <a:pt x="20117" y="14089"/>
                </a:cubicBezTo>
                <a:cubicBezTo>
                  <a:pt x="19981" y="14137"/>
                  <a:pt x="19968" y="14208"/>
                  <a:pt x="19968" y="14337"/>
                </a:cubicBezTo>
                <a:cubicBezTo>
                  <a:pt x="19968" y="14425"/>
                  <a:pt x="19984" y="14428"/>
                  <a:pt x="20042" y="14486"/>
                </a:cubicBezTo>
              </a:path>
              <a:path w="3052" h="1638">
                <a:moveTo>
                  <a:pt x="20439" y="13990"/>
                </a:moveTo>
                <a:cubicBezTo>
                  <a:pt x="20587" y="13954"/>
                  <a:pt x="20688" y="13940"/>
                  <a:pt x="20836" y="13940"/>
                </a:cubicBezTo>
              </a:path>
              <a:path w="3052" h="1638">
                <a:moveTo>
                  <a:pt x="20538" y="14114"/>
                </a:moveTo>
                <a:cubicBezTo>
                  <a:pt x="20623" y="14153"/>
                  <a:pt x="20673" y="14178"/>
                  <a:pt x="20762" y="14188"/>
                </a:cubicBezTo>
              </a:path>
              <a:path w="3052" h="1638">
                <a:moveTo>
                  <a:pt x="21134" y="13990"/>
                </a:moveTo>
                <a:cubicBezTo>
                  <a:pt x="21227" y="13971"/>
                  <a:pt x="21467" y="13956"/>
                  <a:pt x="21555" y="13891"/>
                </a:cubicBezTo>
                <a:cubicBezTo>
                  <a:pt x="21580" y="13866"/>
                  <a:pt x="21588" y="13858"/>
                  <a:pt x="21605" y="13841"/>
                </a:cubicBezTo>
                <a:cubicBezTo>
                  <a:pt x="21555" y="13716"/>
                  <a:pt x="21519" y="13723"/>
                  <a:pt x="21382" y="13717"/>
                </a:cubicBezTo>
                <a:cubicBezTo>
                  <a:pt x="21314" y="13714"/>
                  <a:pt x="21230" y="13707"/>
                  <a:pt x="21183" y="13767"/>
                </a:cubicBezTo>
                <a:cubicBezTo>
                  <a:pt x="21123" y="13842"/>
                  <a:pt x="21131" y="13907"/>
                  <a:pt x="21158" y="13990"/>
                </a:cubicBezTo>
                <a:cubicBezTo>
                  <a:pt x="21185" y="14070"/>
                  <a:pt x="21313" y="14214"/>
                  <a:pt x="21406" y="14238"/>
                </a:cubicBezTo>
                <a:cubicBezTo>
                  <a:pt x="21475" y="14256"/>
                  <a:pt x="21672" y="14255"/>
                  <a:pt x="21729" y="14213"/>
                </a:cubicBezTo>
                <a:cubicBezTo>
                  <a:pt x="21794" y="14166"/>
                  <a:pt x="21869" y="14059"/>
                  <a:pt x="21828" y="13965"/>
                </a:cubicBezTo>
                <a:cubicBezTo>
                  <a:pt x="21785" y="13866"/>
                  <a:pt x="21701" y="13821"/>
                  <a:pt x="21605" y="13816"/>
                </a:cubicBezTo>
                <a:cubicBezTo>
                  <a:pt x="21528" y="13812"/>
                  <a:pt x="21452" y="13884"/>
                  <a:pt x="21406" y="13940"/>
                </a:cubicBezTo>
                <a:cubicBezTo>
                  <a:pt x="21345" y="14013"/>
                  <a:pt x="21370" y="14084"/>
                  <a:pt x="21382" y="14163"/>
                </a:cubicBezTo>
              </a:path>
              <a:path w="3052" h="1638">
                <a:moveTo>
                  <a:pt x="21307" y="14064"/>
                </a:moveTo>
                <a:cubicBezTo>
                  <a:pt x="21394" y="14069"/>
                  <a:pt x="21517" y="14108"/>
                  <a:pt x="21605" y="14089"/>
                </a:cubicBezTo>
                <a:cubicBezTo>
                  <a:pt x="21663" y="14076"/>
                  <a:pt x="21752" y="14073"/>
                  <a:pt x="21803" y="14039"/>
                </a:cubicBezTo>
                <a:cubicBezTo>
                  <a:pt x="21869" y="13994"/>
                  <a:pt x="21919" y="13923"/>
                  <a:pt x="21903" y="13841"/>
                </a:cubicBezTo>
                <a:cubicBezTo>
                  <a:pt x="21889" y="13768"/>
                  <a:pt x="21811" y="13746"/>
                  <a:pt x="21754" y="13717"/>
                </a:cubicBezTo>
                <a:cubicBezTo>
                  <a:pt x="21682" y="13681"/>
                  <a:pt x="21562" y="13677"/>
                  <a:pt x="21481" y="13692"/>
                </a:cubicBezTo>
                <a:cubicBezTo>
                  <a:pt x="21336" y="13719"/>
                  <a:pt x="21250" y="13811"/>
                  <a:pt x="21183" y="13940"/>
                </a:cubicBezTo>
                <a:cubicBezTo>
                  <a:pt x="21132" y="14038"/>
                  <a:pt x="21152" y="14138"/>
                  <a:pt x="21158" y="14238"/>
                </a:cubicBezTo>
                <a:cubicBezTo>
                  <a:pt x="21171" y="14440"/>
                  <a:pt x="21230" y="14545"/>
                  <a:pt x="21332" y="14709"/>
                </a:cubicBezTo>
                <a:cubicBezTo>
                  <a:pt x="21410" y="14834"/>
                  <a:pt x="21497" y="14905"/>
                  <a:pt x="21630" y="14982"/>
                </a:cubicBezTo>
                <a:cubicBezTo>
                  <a:pt x="21711" y="15029"/>
                  <a:pt x="21735" y="14998"/>
                  <a:pt x="21803" y="14957"/>
                </a:cubicBezTo>
                <a:cubicBezTo>
                  <a:pt x="21867" y="14925"/>
                  <a:pt x="21880" y="14902"/>
                  <a:pt x="21828" y="14833"/>
                </a:cubicBezTo>
              </a:path>
              <a:path w="3052" h="1638">
                <a:moveTo>
                  <a:pt x="21208" y="13990"/>
                </a:moveTo>
                <a:cubicBezTo>
                  <a:pt x="21338" y="14068"/>
                  <a:pt x="21377" y="14064"/>
                  <a:pt x="21530" y="14064"/>
                </a:cubicBezTo>
                <a:cubicBezTo>
                  <a:pt x="21648" y="14064"/>
                  <a:pt x="21705" y="14021"/>
                  <a:pt x="21803" y="13965"/>
                </a:cubicBezTo>
                <a:cubicBezTo>
                  <a:pt x="21883" y="13919"/>
                  <a:pt x="21935" y="13893"/>
                  <a:pt x="21952" y="13791"/>
                </a:cubicBezTo>
                <a:cubicBezTo>
                  <a:pt x="21965" y="13712"/>
                  <a:pt x="21955" y="13635"/>
                  <a:pt x="21878" y="13593"/>
                </a:cubicBezTo>
                <a:cubicBezTo>
                  <a:pt x="21783" y="13541"/>
                  <a:pt x="21652" y="13567"/>
                  <a:pt x="21555" y="13593"/>
                </a:cubicBezTo>
                <a:cubicBezTo>
                  <a:pt x="21412" y="13631"/>
                  <a:pt x="21317" y="13778"/>
                  <a:pt x="21282" y="13915"/>
                </a:cubicBezTo>
                <a:cubicBezTo>
                  <a:pt x="21254" y="14026"/>
                  <a:pt x="21251" y="14128"/>
                  <a:pt x="21258" y="14238"/>
                </a:cubicBezTo>
                <a:cubicBezTo>
                  <a:pt x="21268" y="14381"/>
                  <a:pt x="21294" y="14451"/>
                  <a:pt x="21332" y="14585"/>
                </a:cubicBezTo>
                <a:cubicBezTo>
                  <a:pt x="21367" y="14711"/>
                  <a:pt x="21378" y="14743"/>
                  <a:pt x="21481" y="14833"/>
                </a:cubicBezTo>
                <a:cubicBezTo>
                  <a:pt x="21496" y="14846"/>
                  <a:pt x="21614" y="14872"/>
                  <a:pt x="21605" y="14908"/>
                </a:cubicBezTo>
                <a:cubicBezTo>
                  <a:pt x="21597" y="14908"/>
                  <a:pt x="21588" y="14908"/>
                  <a:pt x="21580" y="149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Ink 13"/>
          <p:cNvSpPr/>
          <p:nvPr/>
        </p:nvSpPr>
        <p:spPr>
          <a:xfrm>
            <a:off x="1347840" y="4795920"/>
            <a:ext cx="1090440" cy="374400"/>
          </a:xfrm>
          <a:custGeom>
            <a:avLst/>
            <a:gdLst/>
            <a:ahLst/>
            <a:rect l="l" t="t" r="r" b="b"/>
            <a:pathLst>
              <a:path w="3027" h="1043">
                <a:moveTo>
                  <a:pt x="3845" y="13444"/>
                </a:moveTo>
                <a:cubicBezTo>
                  <a:pt x="3897" y="13392"/>
                  <a:pt x="3950" y="13330"/>
                  <a:pt x="4018" y="13320"/>
                </a:cubicBezTo>
                <a:cubicBezTo>
                  <a:pt x="4114" y="13306"/>
                  <a:pt x="4167" y="13351"/>
                  <a:pt x="4217" y="13419"/>
                </a:cubicBezTo>
                <a:cubicBezTo>
                  <a:pt x="4290" y="13518"/>
                  <a:pt x="4312" y="13597"/>
                  <a:pt x="4316" y="13717"/>
                </a:cubicBezTo>
                <a:cubicBezTo>
                  <a:pt x="4320" y="13848"/>
                  <a:pt x="4282" y="13912"/>
                  <a:pt x="4217" y="14015"/>
                </a:cubicBezTo>
                <a:cubicBezTo>
                  <a:pt x="4149" y="14122"/>
                  <a:pt x="4159" y="14124"/>
                  <a:pt x="4043" y="14163"/>
                </a:cubicBezTo>
                <a:cubicBezTo>
                  <a:pt x="3964" y="14189"/>
                  <a:pt x="3900" y="14206"/>
                  <a:pt x="3820" y="14163"/>
                </a:cubicBezTo>
                <a:cubicBezTo>
                  <a:pt x="3702" y="14100"/>
                  <a:pt x="3754" y="14083"/>
                  <a:pt x="3770" y="13990"/>
                </a:cubicBezTo>
                <a:cubicBezTo>
                  <a:pt x="3777" y="13951"/>
                  <a:pt x="3792" y="13881"/>
                  <a:pt x="3845" y="13866"/>
                </a:cubicBezTo>
                <a:cubicBezTo>
                  <a:pt x="3936" y="13840"/>
                  <a:pt x="3975" y="13936"/>
                  <a:pt x="4018" y="13990"/>
                </a:cubicBezTo>
                <a:cubicBezTo>
                  <a:pt x="4057" y="14039"/>
                  <a:pt x="4104" y="14067"/>
                  <a:pt x="4142" y="14114"/>
                </a:cubicBezTo>
                <a:cubicBezTo>
                  <a:pt x="4167" y="14139"/>
                  <a:pt x="4175" y="14147"/>
                  <a:pt x="4192" y="14163"/>
                </a:cubicBezTo>
              </a:path>
              <a:path w="3027" h="1043">
                <a:moveTo>
                  <a:pt x="4663" y="13891"/>
                </a:moveTo>
                <a:cubicBezTo>
                  <a:pt x="4663" y="13790"/>
                  <a:pt x="4683" y="13759"/>
                  <a:pt x="4614" y="13742"/>
                </a:cubicBezTo>
                <a:cubicBezTo>
                  <a:pt x="4533" y="13719"/>
                  <a:pt x="4543" y="13750"/>
                  <a:pt x="4465" y="13791"/>
                </a:cubicBezTo>
                <a:cubicBezTo>
                  <a:pt x="4375" y="13838"/>
                  <a:pt x="4344" y="13916"/>
                  <a:pt x="4341" y="14015"/>
                </a:cubicBezTo>
                <a:cubicBezTo>
                  <a:pt x="4338" y="14094"/>
                  <a:pt x="4352" y="14199"/>
                  <a:pt x="4440" y="14238"/>
                </a:cubicBezTo>
                <a:cubicBezTo>
                  <a:pt x="4564" y="14293"/>
                  <a:pt x="4632" y="14214"/>
                  <a:pt x="4688" y="14114"/>
                </a:cubicBezTo>
                <a:cubicBezTo>
                  <a:pt x="4743" y="14016"/>
                  <a:pt x="4741" y="13947"/>
                  <a:pt x="4762" y="13841"/>
                </a:cubicBezTo>
                <a:cubicBezTo>
                  <a:pt x="4781" y="13745"/>
                  <a:pt x="4787" y="13667"/>
                  <a:pt x="4787" y="13568"/>
                </a:cubicBezTo>
                <a:cubicBezTo>
                  <a:pt x="4787" y="13519"/>
                  <a:pt x="4787" y="13502"/>
                  <a:pt x="4787" y="13469"/>
                </a:cubicBezTo>
                <a:cubicBezTo>
                  <a:pt x="4787" y="13564"/>
                  <a:pt x="4765" y="13629"/>
                  <a:pt x="4762" y="13717"/>
                </a:cubicBezTo>
                <a:cubicBezTo>
                  <a:pt x="4759" y="13814"/>
                  <a:pt x="4752" y="13931"/>
                  <a:pt x="4812" y="14015"/>
                </a:cubicBezTo>
                <a:cubicBezTo>
                  <a:pt x="4864" y="14089"/>
                  <a:pt x="4911" y="14143"/>
                  <a:pt x="4961" y="14213"/>
                </a:cubicBezTo>
              </a:path>
              <a:path w="3027" h="1043">
                <a:moveTo>
                  <a:pt x="5383" y="13494"/>
                </a:moveTo>
                <a:cubicBezTo>
                  <a:pt x="5375" y="13605"/>
                  <a:pt x="5358" y="13702"/>
                  <a:pt x="5358" y="13816"/>
                </a:cubicBezTo>
                <a:cubicBezTo>
                  <a:pt x="5358" y="13907"/>
                  <a:pt x="5358" y="13998"/>
                  <a:pt x="5358" y="14089"/>
                </a:cubicBezTo>
              </a:path>
              <a:path w="3027" h="1043">
                <a:moveTo>
                  <a:pt x="5184" y="13667"/>
                </a:moveTo>
                <a:cubicBezTo>
                  <a:pt x="5322" y="13638"/>
                  <a:pt x="5372" y="13673"/>
                  <a:pt x="5507" y="13692"/>
                </a:cubicBezTo>
                <a:cubicBezTo>
                  <a:pt x="5590" y="13692"/>
                  <a:pt x="5624" y="13694"/>
                  <a:pt x="5680" y="13717"/>
                </a:cubicBezTo>
              </a:path>
              <a:path w="3027" h="1043">
                <a:moveTo>
                  <a:pt x="6201" y="13519"/>
                </a:moveTo>
                <a:cubicBezTo>
                  <a:pt x="6136" y="13460"/>
                  <a:pt x="6076" y="13392"/>
                  <a:pt x="5978" y="13419"/>
                </a:cubicBezTo>
                <a:cubicBezTo>
                  <a:pt x="5868" y="13450"/>
                  <a:pt x="5902" y="13571"/>
                  <a:pt x="5953" y="13643"/>
                </a:cubicBezTo>
                <a:cubicBezTo>
                  <a:pt x="6014" y="13729"/>
                  <a:pt x="6046" y="13821"/>
                  <a:pt x="6102" y="13915"/>
                </a:cubicBezTo>
                <a:cubicBezTo>
                  <a:pt x="6162" y="14017"/>
                  <a:pt x="6220" y="14095"/>
                  <a:pt x="6226" y="14213"/>
                </a:cubicBezTo>
                <a:cubicBezTo>
                  <a:pt x="6229" y="14264"/>
                  <a:pt x="6205" y="14338"/>
                  <a:pt x="6152" y="14362"/>
                </a:cubicBezTo>
                <a:cubicBezTo>
                  <a:pt x="6095" y="14388"/>
                  <a:pt x="6025" y="14335"/>
                  <a:pt x="5978" y="14312"/>
                </a:cubicBezTo>
                <a:cubicBezTo>
                  <a:pt x="5896" y="14272"/>
                  <a:pt x="5849" y="14183"/>
                  <a:pt x="5879" y="14089"/>
                </a:cubicBezTo>
                <a:cubicBezTo>
                  <a:pt x="5896" y="14036"/>
                  <a:pt x="6013" y="14021"/>
                  <a:pt x="6052" y="13990"/>
                </a:cubicBezTo>
                <a:cubicBezTo>
                  <a:pt x="6127" y="13931"/>
                  <a:pt x="6199" y="13872"/>
                  <a:pt x="6276" y="13816"/>
                </a:cubicBezTo>
                <a:cubicBezTo>
                  <a:pt x="6358" y="13756"/>
                  <a:pt x="6391" y="13699"/>
                  <a:pt x="6449" y="13618"/>
                </a:cubicBezTo>
              </a:path>
              <a:path w="3027" h="1043">
                <a:moveTo>
                  <a:pt x="6573" y="13940"/>
                </a:moveTo>
                <a:cubicBezTo>
                  <a:pt x="6688" y="13979"/>
                  <a:pt x="6702" y="13995"/>
                  <a:pt x="6772" y="13990"/>
                </a:cubicBezTo>
              </a:path>
              <a:path w="3027" h="1043">
                <a:moveTo>
                  <a:pt x="6573" y="14064"/>
                </a:moveTo>
                <a:cubicBezTo>
                  <a:pt x="6639" y="14081"/>
                  <a:pt x="6706" y="14097"/>
                  <a:pt x="6772" y="141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Ink 14"/>
          <p:cNvSpPr/>
          <p:nvPr/>
        </p:nvSpPr>
        <p:spPr>
          <a:xfrm>
            <a:off x="2598840" y="4803840"/>
            <a:ext cx="322200" cy="312840"/>
          </a:xfrm>
          <a:custGeom>
            <a:avLst/>
            <a:gdLst/>
            <a:ahLst/>
            <a:rect l="l" t="t" r="r" b="b"/>
            <a:pathLst>
              <a:path w="894" h="869">
                <a:moveTo>
                  <a:pt x="7268" y="13593"/>
                </a:moveTo>
                <a:cubicBezTo>
                  <a:pt x="7268" y="13669"/>
                  <a:pt x="7260" y="13744"/>
                  <a:pt x="7243" y="13816"/>
                </a:cubicBezTo>
                <a:cubicBezTo>
                  <a:pt x="7223" y="13903"/>
                  <a:pt x="7218" y="13974"/>
                  <a:pt x="7218" y="14064"/>
                </a:cubicBezTo>
                <a:cubicBezTo>
                  <a:pt x="7218" y="14158"/>
                  <a:pt x="7214" y="14251"/>
                  <a:pt x="7317" y="14188"/>
                </a:cubicBezTo>
              </a:path>
              <a:path w="894" h="869">
                <a:moveTo>
                  <a:pt x="7689" y="13345"/>
                </a:moveTo>
                <a:cubicBezTo>
                  <a:pt x="7630" y="13439"/>
                  <a:pt x="7596" y="13498"/>
                  <a:pt x="7565" y="13593"/>
                </a:cubicBezTo>
                <a:cubicBezTo>
                  <a:pt x="7542" y="13665"/>
                  <a:pt x="7521" y="13763"/>
                  <a:pt x="7541" y="13841"/>
                </a:cubicBezTo>
                <a:cubicBezTo>
                  <a:pt x="7561" y="13921"/>
                  <a:pt x="7648" y="14016"/>
                  <a:pt x="7714" y="14064"/>
                </a:cubicBezTo>
                <a:cubicBezTo>
                  <a:pt x="7823" y="14142"/>
                  <a:pt x="7908" y="14148"/>
                  <a:pt x="8012" y="14089"/>
                </a:cubicBezTo>
                <a:cubicBezTo>
                  <a:pt x="8110" y="14034"/>
                  <a:pt x="8135" y="13959"/>
                  <a:pt x="8111" y="13841"/>
                </a:cubicBezTo>
                <a:cubicBezTo>
                  <a:pt x="8092" y="13746"/>
                  <a:pt x="8048" y="13651"/>
                  <a:pt x="7938" y="13667"/>
                </a:cubicBezTo>
                <a:cubicBezTo>
                  <a:pt x="7809" y="13686"/>
                  <a:pt x="7738" y="13998"/>
                  <a:pt x="7714" y="140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nk 15"/>
          <p:cNvSpPr/>
          <p:nvPr/>
        </p:nvSpPr>
        <p:spPr>
          <a:xfrm>
            <a:off x="4606920" y="4867200"/>
            <a:ext cx="1787400" cy="455760"/>
          </a:xfrm>
          <a:custGeom>
            <a:avLst/>
            <a:gdLst/>
            <a:ahLst/>
            <a:rect l="l" t="t" r="r" b="b"/>
            <a:pathLst>
              <a:path w="4962" h="1266">
                <a:moveTo>
                  <a:pt x="12799" y="13891"/>
                </a:moveTo>
                <a:cubicBezTo>
                  <a:pt x="12927" y="13914"/>
                  <a:pt x="12992" y="13911"/>
                  <a:pt x="13122" y="13891"/>
                </a:cubicBezTo>
              </a:path>
              <a:path w="4962" h="1266">
                <a:moveTo>
                  <a:pt x="13543" y="13667"/>
                </a:moveTo>
                <a:cubicBezTo>
                  <a:pt x="13543" y="13803"/>
                  <a:pt x="13523" y="13930"/>
                  <a:pt x="13519" y="14064"/>
                </a:cubicBezTo>
                <a:cubicBezTo>
                  <a:pt x="13515" y="14211"/>
                  <a:pt x="13492" y="14395"/>
                  <a:pt x="13543" y="14536"/>
                </a:cubicBezTo>
                <a:cubicBezTo>
                  <a:pt x="13551" y="14544"/>
                  <a:pt x="13560" y="14552"/>
                  <a:pt x="13568" y="14560"/>
                </a:cubicBezTo>
              </a:path>
              <a:path w="4962" h="1266">
                <a:moveTo>
                  <a:pt x="13940" y="13643"/>
                </a:moveTo>
                <a:cubicBezTo>
                  <a:pt x="14041" y="13631"/>
                  <a:pt x="14158" y="13620"/>
                  <a:pt x="14263" y="13643"/>
                </a:cubicBezTo>
                <a:cubicBezTo>
                  <a:pt x="14306" y="13664"/>
                  <a:pt x="14318" y="13677"/>
                  <a:pt x="14337" y="13643"/>
                </a:cubicBezTo>
              </a:path>
              <a:path w="4962" h="1266">
                <a:moveTo>
                  <a:pt x="13965" y="13519"/>
                </a:moveTo>
                <a:cubicBezTo>
                  <a:pt x="13858" y="13586"/>
                  <a:pt x="13798" y="13593"/>
                  <a:pt x="13791" y="13717"/>
                </a:cubicBezTo>
                <a:cubicBezTo>
                  <a:pt x="13785" y="13825"/>
                  <a:pt x="13813" y="13838"/>
                  <a:pt x="13891" y="13866"/>
                </a:cubicBezTo>
                <a:cubicBezTo>
                  <a:pt x="13958" y="13890"/>
                  <a:pt x="13996" y="13896"/>
                  <a:pt x="14064" y="13915"/>
                </a:cubicBezTo>
                <a:cubicBezTo>
                  <a:pt x="14136" y="13935"/>
                  <a:pt x="14230" y="13995"/>
                  <a:pt x="14288" y="14039"/>
                </a:cubicBezTo>
                <a:cubicBezTo>
                  <a:pt x="14348" y="14084"/>
                  <a:pt x="14410" y="14134"/>
                  <a:pt x="14436" y="14213"/>
                </a:cubicBezTo>
                <a:cubicBezTo>
                  <a:pt x="14474" y="14329"/>
                  <a:pt x="14413" y="14447"/>
                  <a:pt x="14362" y="14536"/>
                </a:cubicBezTo>
                <a:cubicBezTo>
                  <a:pt x="14315" y="14617"/>
                  <a:pt x="14276" y="14610"/>
                  <a:pt x="14188" y="14610"/>
                </a:cubicBezTo>
                <a:cubicBezTo>
                  <a:pt x="14116" y="14610"/>
                  <a:pt x="14011" y="14601"/>
                  <a:pt x="13965" y="14536"/>
                </a:cubicBezTo>
                <a:cubicBezTo>
                  <a:pt x="13912" y="14462"/>
                  <a:pt x="13925" y="14444"/>
                  <a:pt x="13940" y="14362"/>
                </a:cubicBezTo>
              </a:path>
              <a:path w="4962" h="1266">
                <a:moveTo>
                  <a:pt x="14635" y="14064"/>
                </a:moveTo>
                <a:cubicBezTo>
                  <a:pt x="14729" y="14082"/>
                  <a:pt x="14819" y="14096"/>
                  <a:pt x="14908" y="14114"/>
                </a:cubicBezTo>
              </a:path>
              <a:path w="4962" h="1266">
                <a:moveTo>
                  <a:pt x="14660" y="14362"/>
                </a:moveTo>
                <a:cubicBezTo>
                  <a:pt x="14782" y="14403"/>
                  <a:pt x="14805" y="14420"/>
                  <a:pt x="14883" y="14412"/>
                </a:cubicBezTo>
              </a:path>
              <a:path w="4962" h="1266">
                <a:moveTo>
                  <a:pt x="15304" y="13742"/>
                </a:moveTo>
                <a:cubicBezTo>
                  <a:pt x="15437" y="13640"/>
                  <a:pt x="15396" y="13650"/>
                  <a:pt x="15528" y="13667"/>
                </a:cubicBezTo>
                <a:cubicBezTo>
                  <a:pt x="15626" y="13679"/>
                  <a:pt x="15694" y="13714"/>
                  <a:pt x="15677" y="13841"/>
                </a:cubicBezTo>
                <a:cubicBezTo>
                  <a:pt x="15671" y="13884"/>
                  <a:pt x="15587" y="13995"/>
                  <a:pt x="15553" y="14015"/>
                </a:cubicBezTo>
                <a:cubicBezTo>
                  <a:pt x="15476" y="14060"/>
                  <a:pt x="15407" y="14050"/>
                  <a:pt x="15329" y="14089"/>
                </a:cubicBezTo>
                <a:cubicBezTo>
                  <a:pt x="15321" y="14097"/>
                  <a:pt x="15312" y="14106"/>
                  <a:pt x="15304" y="14114"/>
                </a:cubicBezTo>
                <a:cubicBezTo>
                  <a:pt x="15358" y="14178"/>
                  <a:pt x="15377" y="14161"/>
                  <a:pt x="15453" y="14188"/>
                </a:cubicBezTo>
                <a:cubicBezTo>
                  <a:pt x="15524" y="14213"/>
                  <a:pt x="15587" y="14226"/>
                  <a:pt x="15652" y="14263"/>
                </a:cubicBezTo>
                <a:cubicBezTo>
                  <a:pt x="15752" y="14320"/>
                  <a:pt x="15757" y="14403"/>
                  <a:pt x="15726" y="14511"/>
                </a:cubicBezTo>
                <a:cubicBezTo>
                  <a:pt x="15698" y="14609"/>
                  <a:pt x="15660" y="14613"/>
                  <a:pt x="15577" y="14635"/>
                </a:cubicBezTo>
                <a:cubicBezTo>
                  <a:pt x="15512" y="14652"/>
                  <a:pt x="15424" y="14680"/>
                  <a:pt x="15354" y="14660"/>
                </a:cubicBezTo>
                <a:cubicBezTo>
                  <a:pt x="15281" y="14640"/>
                  <a:pt x="15287" y="14597"/>
                  <a:pt x="15280" y="14536"/>
                </a:cubicBezTo>
              </a:path>
              <a:path w="4962" h="1266">
                <a:moveTo>
                  <a:pt x="15974" y="14412"/>
                </a:moveTo>
                <a:cubicBezTo>
                  <a:pt x="16034" y="14394"/>
                  <a:pt x="16257" y="14365"/>
                  <a:pt x="16247" y="14238"/>
                </a:cubicBezTo>
                <a:cubicBezTo>
                  <a:pt x="16245" y="14213"/>
                  <a:pt x="16209" y="14128"/>
                  <a:pt x="16173" y="14114"/>
                </a:cubicBezTo>
                <a:cubicBezTo>
                  <a:pt x="16071" y="14076"/>
                  <a:pt x="15973" y="14074"/>
                  <a:pt x="15900" y="14163"/>
                </a:cubicBezTo>
                <a:cubicBezTo>
                  <a:pt x="15853" y="14220"/>
                  <a:pt x="15835" y="14287"/>
                  <a:pt x="15850" y="14362"/>
                </a:cubicBezTo>
                <a:cubicBezTo>
                  <a:pt x="15867" y="14449"/>
                  <a:pt x="15916" y="14547"/>
                  <a:pt x="15974" y="14610"/>
                </a:cubicBezTo>
                <a:cubicBezTo>
                  <a:pt x="16077" y="14721"/>
                  <a:pt x="16131" y="14771"/>
                  <a:pt x="16247" y="14684"/>
                </a:cubicBezTo>
              </a:path>
              <a:path w="4962" h="1266">
                <a:moveTo>
                  <a:pt x="16718" y="13891"/>
                </a:moveTo>
                <a:cubicBezTo>
                  <a:pt x="16718" y="13986"/>
                  <a:pt x="16682" y="14073"/>
                  <a:pt x="16694" y="14163"/>
                </a:cubicBezTo>
                <a:cubicBezTo>
                  <a:pt x="16710" y="14279"/>
                  <a:pt x="16738" y="14393"/>
                  <a:pt x="16743" y="14511"/>
                </a:cubicBezTo>
                <a:cubicBezTo>
                  <a:pt x="16743" y="14560"/>
                  <a:pt x="16743" y="14577"/>
                  <a:pt x="16743" y="14610"/>
                </a:cubicBezTo>
              </a:path>
              <a:path w="4962" h="1266">
                <a:moveTo>
                  <a:pt x="16545" y="14238"/>
                </a:moveTo>
                <a:cubicBezTo>
                  <a:pt x="16655" y="14223"/>
                  <a:pt x="16756" y="14259"/>
                  <a:pt x="16867" y="14238"/>
                </a:cubicBezTo>
                <a:cubicBezTo>
                  <a:pt x="16892" y="14230"/>
                  <a:pt x="16917" y="14221"/>
                  <a:pt x="16942" y="14213"/>
                </a:cubicBezTo>
              </a:path>
              <a:path w="4962" h="1266">
                <a:moveTo>
                  <a:pt x="17165" y="13692"/>
                </a:moveTo>
                <a:cubicBezTo>
                  <a:pt x="17303" y="13649"/>
                  <a:pt x="17352" y="13659"/>
                  <a:pt x="17487" y="13717"/>
                </a:cubicBezTo>
                <a:cubicBezTo>
                  <a:pt x="17568" y="13752"/>
                  <a:pt x="17616" y="13819"/>
                  <a:pt x="17661" y="13891"/>
                </a:cubicBezTo>
                <a:cubicBezTo>
                  <a:pt x="17589" y="13991"/>
                  <a:pt x="17562" y="13973"/>
                  <a:pt x="17438" y="14015"/>
                </a:cubicBezTo>
                <a:cubicBezTo>
                  <a:pt x="17400" y="14028"/>
                  <a:pt x="17289" y="14043"/>
                  <a:pt x="17264" y="14064"/>
                </a:cubicBezTo>
                <a:cubicBezTo>
                  <a:pt x="17264" y="14072"/>
                  <a:pt x="17264" y="14081"/>
                  <a:pt x="17264" y="14089"/>
                </a:cubicBezTo>
                <a:cubicBezTo>
                  <a:pt x="17298" y="14123"/>
                  <a:pt x="17331" y="14186"/>
                  <a:pt x="17363" y="14213"/>
                </a:cubicBezTo>
                <a:cubicBezTo>
                  <a:pt x="17451" y="14288"/>
                  <a:pt x="17569" y="14325"/>
                  <a:pt x="17661" y="14412"/>
                </a:cubicBezTo>
                <a:cubicBezTo>
                  <a:pt x="17736" y="14483"/>
                  <a:pt x="17745" y="14556"/>
                  <a:pt x="17735" y="14635"/>
                </a:cubicBezTo>
                <a:cubicBezTo>
                  <a:pt x="17725" y="14712"/>
                  <a:pt x="17643" y="14743"/>
                  <a:pt x="17562" y="14759"/>
                </a:cubicBezTo>
                <a:cubicBezTo>
                  <a:pt x="17441" y="14782"/>
                  <a:pt x="17314" y="14784"/>
                  <a:pt x="17190" y="147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nk 16"/>
          <p:cNvSpPr/>
          <p:nvPr/>
        </p:nvSpPr>
        <p:spPr>
          <a:xfrm>
            <a:off x="1847880" y="5072040"/>
            <a:ext cx="1135080" cy="822240"/>
          </a:xfrm>
          <a:custGeom>
            <a:avLst/>
            <a:gdLst/>
            <a:ahLst/>
            <a:rect l="l" t="t" r="r" b="b"/>
            <a:pathLst>
              <a:path w="3151" h="2283">
                <a:moveTo>
                  <a:pt x="5308" y="14412"/>
                </a:moveTo>
                <a:cubicBezTo>
                  <a:pt x="5403" y="14401"/>
                  <a:pt x="5482" y="14387"/>
                  <a:pt x="5581" y="14387"/>
                </a:cubicBezTo>
              </a:path>
              <a:path w="3151" h="2283">
                <a:moveTo>
                  <a:pt x="6077" y="14263"/>
                </a:moveTo>
                <a:cubicBezTo>
                  <a:pt x="6027" y="14130"/>
                  <a:pt x="6039" y="14178"/>
                  <a:pt x="5904" y="14114"/>
                </a:cubicBezTo>
                <a:cubicBezTo>
                  <a:pt x="5874" y="14084"/>
                  <a:pt x="5860" y="14079"/>
                  <a:pt x="5829" y="14114"/>
                </a:cubicBezTo>
                <a:cubicBezTo>
                  <a:pt x="5837" y="14180"/>
                  <a:pt x="5866" y="14279"/>
                  <a:pt x="5904" y="14337"/>
                </a:cubicBezTo>
                <a:cubicBezTo>
                  <a:pt x="5969" y="14435"/>
                  <a:pt x="6017" y="14513"/>
                  <a:pt x="6028" y="14635"/>
                </a:cubicBezTo>
                <a:cubicBezTo>
                  <a:pt x="6033" y="14691"/>
                  <a:pt x="6005" y="14785"/>
                  <a:pt x="5928" y="14759"/>
                </a:cubicBezTo>
                <a:cubicBezTo>
                  <a:pt x="5866" y="14738"/>
                  <a:pt x="5839" y="14725"/>
                  <a:pt x="5804" y="14660"/>
                </a:cubicBezTo>
                <a:cubicBezTo>
                  <a:pt x="5758" y="14574"/>
                  <a:pt x="5787" y="14576"/>
                  <a:pt x="5829" y="14511"/>
                </a:cubicBezTo>
                <a:cubicBezTo>
                  <a:pt x="5880" y="14431"/>
                  <a:pt x="5916" y="14429"/>
                  <a:pt x="6003" y="14387"/>
                </a:cubicBezTo>
                <a:cubicBezTo>
                  <a:pt x="6073" y="14351"/>
                  <a:pt x="6113" y="14338"/>
                  <a:pt x="6176" y="14337"/>
                </a:cubicBezTo>
              </a:path>
              <a:path w="3151" h="2283">
                <a:moveTo>
                  <a:pt x="7342" y="14585"/>
                </a:moveTo>
                <a:cubicBezTo>
                  <a:pt x="7474" y="14604"/>
                  <a:pt x="7490" y="14612"/>
                  <a:pt x="7565" y="14610"/>
                </a:cubicBezTo>
              </a:path>
              <a:path w="3151" h="2283">
                <a:moveTo>
                  <a:pt x="8260" y="14461"/>
                </a:moveTo>
                <a:cubicBezTo>
                  <a:pt x="8235" y="14419"/>
                  <a:pt x="8186" y="14355"/>
                  <a:pt x="8136" y="14362"/>
                </a:cubicBezTo>
                <a:cubicBezTo>
                  <a:pt x="8037" y="14375"/>
                  <a:pt x="8021" y="14481"/>
                  <a:pt x="8037" y="14560"/>
                </a:cubicBezTo>
                <a:cubicBezTo>
                  <a:pt x="8061" y="14676"/>
                  <a:pt x="8083" y="14788"/>
                  <a:pt x="8086" y="14908"/>
                </a:cubicBezTo>
                <a:cubicBezTo>
                  <a:pt x="8089" y="15037"/>
                  <a:pt x="8102" y="15049"/>
                  <a:pt x="8037" y="15131"/>
                </a:cubicBezTo>
                <a:cubicBezTo>
                  <a:pt x="7973" y="15094"/>
                  <a:pt x="7941" y="15083"/>
                  <a:pt x="7938" y="15007"/>
                </a:cubicBezTo>
                <a:cubicBezTo>
                  <a:pt x="7935" y="14929"/>
                  <a:pt x="7920" y="14828"/>
                  <a:pt x="7962" y="14759"/>
                </a:cubicBezTo>
                <a:cubicBezTo>
                  <a:pt x="7993" y="14709"/>
                  <a:pt x="8109" y="14670"/>
                  <a:pt x="8161" y="14660"/>
                </a:cubicBezTo>
                <a:cubicBezTo>
                  <a:pt x="8249" y="14644"/>
                  <a:pt x="8290" y="14692"/>
                  <a:pt x="8260" y="14585"/>
                </a:cubicBezTo>
              </a:path>
              <a:path w="3151" h="2283">
                <a:moveTo>
                  <a:pt x="5135" y="15106"/>
                </a:moveTo>
                <a:cubicBezTo>
                  <a:pt x="5198" y="15085"/>
                  <a:pt x="5288" y="15061"/>
                  <a:pt x="5358" y="15081"/>
                </a:cubicBezTo>
                <a:cubicBezTo>
                  <a:pt x="5459" y="15109"/>
                  <a:pt x="5482" y="15136"/>
                  <a:pt x="5531" y="15205"/>
                </a:cubicBezTo>
                <a:cubicBezTo>
                  <a:pt x="5561" y="15247"/>
                  <a:pt x="5523" y="15286"/>
                  <a:pt x="5482" y="15329"/>
                </a:cubicBezTo>
                <a:cubicBezTo>
                  <a:pt x="5432" y="15382"/>
                  <a:pt x="5351" y="15428"/>
                  <a:pt x="5308" y="15478"/>
                </a:cubicBezTo>
                <a:cubicBezTo>
                  <a:pt x="5266" y="15527"/>
                  <a:pt x="5263" y="15659"/>
                  <a:pt x="5308" y="15701"/>
                </a:cubicBezTo>
                <a:cubicBezTo>
                  <a:pt x="5405" y="15790"/>
                  <a:pt x="5418" y="15776"/>
                  <a:pt x="5531" y="15776"/>
                </a:cubicBezTo>
              </a:path>
              <a:path w="3151" h="2283">
                <a:moveTo>
                  <a:pt x="5953" y="15379"/>
                </a:moveTo>
                <a:cubicBezTo>
                  <a:pt x="5890" y="15304"/>
                  <a:pt x="5838" y="15203"/>
                  <a:pt x="5730" y="15280"/>
                </a:cubicBezTo>
                <a:cubicBezTo>
                  <a:pt x="5649" y="15338"/>
                  <a:pt x="5636" y="15435"/>
                  <a:pt x="5655" y="15528"/>
                </a:cubicBezTo>
                <a:cubicBezTo>
                  <a:pt x="5673" y="15616"/>
                  <a:pt x="5704" y="15662"/>
                  <a:pt x="5779" y="15701"/>
                </a:cubicBezTo>
                <a:cubicBezTo>
                  <a:pt x="5869" y="15748"/>
                  <a:pt x="5876" y="15664"/>
                  <a:pt x="5928" y="15602"/>
                </a:cubicBezTo>
                <a:cubicBezTo>
                  <a:pt x="6006" y="15509"/>
                  <a:pt x="6004" y="15442"/>
                  <a:pt x="6028" y="15329"/>
                </a:cubicBezTo>
                <a:cubicBezTo>
                  <a:pt x="6050" y="15229"/>
                  <a:pt x="6052" y="15136"/>
                  <a:pt x="6052" y="15032"/>
                </a:cubicBezTo>
                <a:cubicBezTo>
                  <a:pt x="6027" y="15134"/>
                  <a:pt x="6028" y="15223"/>
                  <a:pt x="6028" y="15329"/>
                </a:cubicBezTo>
                <a:cubicBezTo>
                  <a:pt x="6028" y="15429"/>
                  <a:pt x="6051" y="15507"/>
                  <a:pt x="6077" y="15602"/>
                </a:cubicBezTo>
              </a:path>
              <a:path w="3151" h="2283">
                <a:moveTo>
                  <a:pt x="6325" y="15180"/>
                </a:moveTo>
                <a:cubicBezTo>
                  <a:pt x="6435" y="15134"/>
                  <a:pt x="6481" y="15131"/>
                  <a:pt x="6598" y="15131"/>
                </a:cubicBezTo>
                <a:cubicBezTo>
                  <a:pt x="6606" y="15131"/>
                  <a:pt x="6615" y="15131"/>
                  <a:pt x="6623" y="15131"/>
                </a:cubicBezTo>
              </a:path>
              <a:path w="3151" h="2283">
                <a:moveTo>
                  <a:pt x="6400" y="15280"/>
                </a:moveTo>
                <a:cubicBezTo>
                  <a:pt x="6481" y="15397"/>
                  <a:pt x="6506" y="15416"/>
                  <a:pt x="6648" y="15429"/>
                </a:cubicBezTo>
              </a:path>
              <a:path w="3151" h="2283">
                <a:moveTo>
                  <a:pt x="7590" y="15106"/>
                </a:moveTo>
                <a:cubicBezTo>
                  <a:pt x="7584" y="15023"/>
                  <a:pt x="7595" y="14932"/>
                  <a:pt x="7491" y="14908"/>
                </a:cubicBezTo>
                <a:cubicBezTo>
                  <a:pt x="7389" y="14885"/>
                  <a:pt x="7372" y="14916"/>
                  <a:pt x="7367" y="15007"/>
                </a:cubicBezTo>
                <a:cubicBezTo>
                  <a:pt x="7362" y="15104"/>
                  <a:pt x="7384" y="15189"/>
                  <a:pt x="7417" y="15280"/>
                </a:cubicBezTo>
                <a:cubicBezTo>
                  <a:pt x="7475" y="15442"/>
                  <a:pt x="7516" y="15559"/>
                  <a:pt x="7516" y="15726"/>
                </a:cubicBezTo>
                <a:cubicBezTo>
                  <a:pt x="7516" y="15811"/>
                  <a:pt x="7517" y="15799"/>
                  <a:pt x="7466" y="15850"/>
                </a:cubicBezTo>
                <a:cubicBezTo>
                  <a:pt x="7412" y="15842"/>
                  <a:pt x="7375" y="15828"/>
                  <a:pt x="7342" y="15776"/>
                </a:cubicBezTo>
                <a:cubicBezTo>
                  <a:pt x="7291" y="15697"/>
                  <a:pt x="7268" y="15672"/>
                  <a:pt x="7268" y="15577"/>
                </a:cubicBezTo>
                <a:cubicBezTo>
                  <a:pt x="7268" y="15501"/>
                  <a:pt x="7272" y="15445"/>
                  <a:pt x="7317" y="15379"/>
                </a:cubicBezTo>
                <a:cubicBezTo>
                  <a:pt x="7394" y="15266"/>
                  <a:pt x="7438" y="15257"/>
                  <a:pt x="7541" y="15180"/>
                </a:cubicBezTo>
                <a:cubicBezTo>
                  <a:pt x="7605" y="15132"/>
                  <a:pt x="7627" y="15131"/>
                  <a:pt x="7714" y="15131"/>
                </a:cubicBezTo>
                <a:cubicBezTo>
                  <a:pt x="7706" y="15131"/>
                  <a:pt x="7697" y="15131"/>
                  <a:pt x="7689" y="15131"/>
                </a:cubicBezTo>
              </a:path>
              <a:path w="3151" h="2283">
                <a:moveTo>
                  <a:pt x="5383" y="15602"/>
                </a:moveTo>
                <a:cubicBezTo>
                  <a:pt x="5496" y="15586"/>
                  <a:pt x="5617" y="15556"/>
                  <a:pt x="5730" y="15553"/>
                </a:cubicBezTo>
                <a:cubicBezTo>
                  <a:pt x="5882" y="15549"/>
                  <a:pt x="6028" y="15548"/>
                  <a:pt x="6176" y="15577"/>
                </a:cubicBezTo>
              </a:path>
              <a:path w="3151" h="2283">
                <a:moveTo>
                  <a:pt x="5804" y="15726"/>
                </a:moveTo>
                <a:cubicBezTo>
                  <a:pt x="5868" y="15790"/>
                  <a:pt x="5936" y="15811"/>
                  <a:pt x="6028" y="15825"/>
                </a:cubicBezTo>
                <a:cubicBezTo>
                  <a:pt x="6097" y="15836"/>
                  <a:pt x="6133" y="15857"/>
                  <a:pt x="6077" y="15925"/>
                </a:cubicBezTo>
                <a:cubicBezTo>
                  <a:pt x="6035" y="15977"/>
                  <a:pt x="5980" y="15987"/>
                  <a:pt x="5928" y="16024"/>
                </a:cubicBezTo>
                <a:cubicBezTo>
                  <a:pt x="5860" y="16072"/>
                  <a:pt x="5917" y="16157"/>
                  <a:pt x="5953" y="16197"/>
                </a:cubicBezTo>
                <a:cubicBezTo>
                  <a:pt x="6003" y="16247"/>
                  <a:pt x="6019" y="16263"/>
                  <a:pt x="6052" y="16297"/>
                </a:cubicBezTo>
              </a:path>
              <a:path w="3151" h="2283">
                <a:moveTo>
                  <a:pt x="6995" y="15627"/>
                </a:moveTo>
                <a:cubicBezTo>
                  <a:pt x="7134" y="15627"/>
                  <a:pt x="7281" y="15623"/>
                  <a:pt x="7417" y="15652"/>
                </a:cubicBezTo>
                <a:cubicBezTo>
                  <a:pt x="7519" y="15674"/>
                  <a:pt x="7608" y="15677"/>
                  <a:pt x="7714" y="15677"/>
                </a:cubicBezTo>
              </a:path>
              <a:path w="3151" h="2283">
                <a:moveTo>
                  <a:pt x="7169" y="15825"/>
                </a:moveTo>
                <a:cubicBezTo>
                  <a:pt x="7230" y="15903"/>
                  <a:pt x="7260" y="15921"/>
                  <a:pt x="7367" y="15925"/>
                </a:cubicBezTo>
                <a:cubicBezTo>
                  <a:pt x="7433" y="15925"/>
                  <a:pt x="7450" y="15925"/>
                  <a:pt x="7491" y="15925"/>
                </a:cubicBezTo>
                <a:cubicBezTo>
                  <a:pt x="7443" y="15966"/>
                  <a:pt x="7353" y="15999"/>
                  <a:pt x="7317" y="16049"/>
                </a:cubicBezTo>
                <a:cubicBezTo>
                  <a:pt x="7262" y="16126"/>
                  <a:pt x="7331" y="16142"/>
                  <a:pt x="7367" y="16197"/>
                </a:cubicBezTo>
                <a:cubicBezTo>
                  <a:pt x="7436" y="16303"/>
                  <a:pt x="7471" y="16328"/>
                  <a:pt x="7590" y="163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nk 17"/>
          <p:cNvSpPr/>
          <p:nvPr/>
        </p:nvSpPr>
        <p:spPr>
          <a:xfrm>
            <a:off x="2000160" y="5840280"/>
            <a:ext cx="581040" cy="509760"/>
          </a:xfrm>
          <a:custGeom>
            <a:avLst/>
            <a:gdLst/>
            <a:ahLst/>
            <a:rect l="l" t="t" r="r" b="b"/>
            <a:pathLst>
              <a:path w="1614" h="1415">
                <a:moveTo>
                  <a:pt x="5904" y="16669"/>
                </a:moveTo>
                <a:cubicBezTo>
                  <a:pt x="5894" y="16571"/>
                  <a:pt x="5886" y="16551"/>
                  <a:pt x="5779" y="16545"/>
                </a:cubicBezTo>
                <a:cubicBezTo>
                  <a:pt x="5699" y="16541"/>
                  <a:pt x="5668" y="16581"/>
                  <a:pt x="5631" y="16644"/>
                </a:cubicBezTo>
                <a:cubicBezTo>
                  <a:pt x="5586" y="16720"/>
                  <a:pt x="5560" y="16780"/>
                  <a:pt x="5556" y="16867"/>
                </a:cubicBezTo>
                <a:cubicBezTo>
                  <a:pt x="5554" y="16917"/>
                  <a:pt x="5572" y="17045"/>
                  <a:pt x="5631" y="17066"/>
                </a:cubicBezTo>
                <a:cubicBezTo>
                  <a:pt x="5704" y="17092"/>
                  <a:pt x="5793" y="16991"/>
                  <a:pt x="5829" y="16942"/>
                </a:cubicBezTo>
                <a:cubicBezTo>
                  <a:pt x="5895" y="16851"/>
                  <a:pt x="5908" y="16721"/>
                  <a:pt x="5928" y="16619"/>
                </a:cubicBezTo>
                <a:cubicBezTo>
                  <a:pt x="5948" y="16514"/>
                  <a:pt x="5953" y="16429"/>
                  <a:pt x="5953" y="16321"/>
                </a:cubicBezTo>
                <a:cubicBezTo>
                  <a:pt x="5953" y="16270"/>
                  <a:pt x="5952" y="16251"/>
                  <a:pt x="5928" y="16222"/>
                </a:cubicBezTo>
                <a:cubicBezTo>
                  <a:pt x="5888" y="16303"/>
                  <a:pt x="5864" y="16378"/>
                  <a:pt x="5854" y="16470"/>
                </a:cubicBezTo>
                <a:cubicBezTo>
                  <a:pt x="5838" y="16619"/>
                  <a:pt x="5829" y="16765"/>
                  <a:pt x="5829" y="16917"/>
                </a:cubicBezTo>
                <a:cubicBezTo>
                  <a:pt x="5829" y="17032"/>
                  <a:pt x="5840" y="17084"/>
                  <a:pt x="5879" y="17190"/>
                </a:cubicBezTo>
              </a:path>
              <a:path w="1614" h="1415">
                <a:moveTo>
                  <a:pt x="6226" y="16570"/>
                </a:moveTo>
                <a:cubicBezTo>
                  <a:pt x="6335" y="16581"/>
                  <a:pt x="6439" y="16610"/>
                  <a:pt x="6548" y="16619"/>
                </a:cubicBezTo>
              </a:path>
              <a:path w="1614" h="1415">
                <a:moveTo>
                  <a:pt x="6251" y="16743"/>
                </a:moveTo>
                <a:cubicBezTo>
                  <a:pt x="6334" y="16841"/>
                  <a:pt x="6314" y="16853"/>
                  <a:pt x="6424" y="16867"/>
                </a:cubicBezTo>
              </a:path>
              <a:path w="1614" h="1415">
                <a:moveTo>
                  <a:pt x="6821" y="16446"/>
                </a:moveTo>
                <a:cubicBezTo>
                  <a:pt x="6781" y="16477"/>
                  <a:pt x="6726" y="16500"/>
                  <a:pt x="6697" y="16545"/>
                </a:cubicBezTo>
                <a:cubicBezTo>
                  <a:pt x="6653" y="16612"/>
                  <a:pt x="6638" y="16653"/>
                  <a:pt x="6672" y="16718"/>
                </a:cubicBezTo>
                <a:cubicBezTo>
                  <a:pt x="6711" y="16792"/>
                  <a:pt x="6758" y="16886"/>
                  <a:pt x="6821" y="16942"/>
                </a:cubicBezTo>
                <a:cubicBezTo>
                  <a:pt x="6869" y="16965"/>
                  <a:pt x="6884" y="16973"/>
                  <a:pt x="6921" y="16966"/>
                </a:cubicBezTo>
              </a:path>
              <a:path w="1614" h="1415">
                <a:moveTo>
                  <a:pt x="7169" y="16321"/>
                </a:moveTo>
                <a:cubicBezTo>
                  <a:pt x="7097" y="16531"/>
                  <a:pt x="7011" y="16748"/>
                  <a:pt x="6970" y="16966"/>
                </a:cubicBezTo>
                <a:cubicBezTo>
                  <a:pt x="6925" y="17205"/>
                  <a:pt x="6851" y="17399"/>
                  <a:pt x="6772" y="176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mbin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6(2g + 4) + 10g = 24g + 2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Ink 4"/>
          <p:cNvSpPr/>
          <p:nvPr/>
        </p:nvSpPr>
        <p:spPr>
          <a:xfrm>
            <a:off x="561960" y="1295280"/>
            <a:ext cx="2644920" cy="509760"/>
          </a:xfrm>
          <a:custGeom>
            <a:avLst/>
            <a:gdLst/>
            <a:ahLst/>
            <a:rect l="l" t="t" r="r" b="b"/>
            <a:pathLst>
              <a:path w="7343" h="1415">
                <a:moveTo>
                  <a:pt x="1563" y="4589"/>
                </a:moveTo>
                <a:cubicBezTo>
                  <a:pt x="1615" y="4510"/>
                  <a:pt x="1655" y="4440"/>
                  <a:pt x="1736" y="4390"/>
                </a:cubicBezTo>
                <a:cubicBezTo>
                  <a:pt x="1856" y="4315"/>
                  <a:pt x="1964" y="4257"/>
                  <a:pt x="2108" y="4242"/>
                </a:cubicBezTo>
                <a:cubicBezTo>
                  <a:pt x="2332" y="4219"/>
                  <a:pt x="2511" y="4268"/>
                  <a:pt x="2729" y="4316"/>
                </a:cubicBezTo>
                <a:cubicBezTo>
                  <a:pt x="2924" y="4359"/>
                  <a:pt x="3052" y="4468"/>
                  <a:pt x="3225" y="4564"/>
                </a:cubicBezTo>
                <a:cubicBezTo>
                  <a:pt x="3297" y="4604"/>
                  <a:pt x="3339" y="4663"/>
                  <a:pt x="3398" y="4713"/>
                </a:cubicBezTo>
                <a:cubicBezTo>
                  <a:pt x="3474" y="4777"/>
                  <a:pt x="3292" y="4720"/>
                  <a:pt x="3274" y="4713"/>
                </a:cubicBezTo>
              </a:path>
              <a:path w="7343" h="1415">
                <a:moveTo>
                  <a:pt x="2927" y="4614"/>
                </a:moveTo>
                <a:cubicBezTo>
                  <a:pt x="2942" y="4718"/>
                  <a:pt x="2969" y="4681"/>
                  <a:pt x="3051" y="4738"/>
                </a:cubicBezTo>
                <a:cubicBezTo>
                  <a:pt x="3137" y="4798"/>
                  <a:pt x="3181" y="4823"/>
                  <a:pt x="3274" y="4862"/>
                </a:cubicBezTo>
                <a:cubicBezTo>
                  <a:pt x="3318" y="4880"/>
                  <a:pt x="3453" y="4926"/>
                  <a:pt x="3497" y="4862"/>
                </a:cubicBezTo>
                <a:cubicBezTo>
                  <a:pt x="3542" y="4797"/>
                  <a:pt x="3505" y="4706"/>
                  <a:pt x="3497" y="4638"/>
                </a:cubicBezTo>
                <a:cubicBezTo>
                  <a:pt x="3487" y="4548"/>
                  <a:pt x="3482" y="4454"/>
                  <a:pt x="3473" y="4366"/>
                </a:cubicBezTo>
                <a:cubicBezTo>
                  <a:pt x="3473" y="4286"/>
                  <a:pt x="3470" y="4257"/>
                  <a:pt x="3423" y="4217"/>
                </a:cubicBezTo>
              </a:path>
              <a:path w="7343" h="1415">
                <a:moveTo>
                  <a:pt x="1612" y="4316"/>
                </a:moveTo>
                <a:cubicBezTo>
                  <a:pt x="1772" y="4229"/>
                  <a:pt x="1910" y="4155"/>
                  <a:pt x="2084" y="4093"/>
                </a:cubicBezTo>
                <a:cubicBezTo>
                  <a:pt x="2469" y="3957"/>
                  <a:pt x="2892" y="3848"/>
                  <a:pt x="3299" y="3820"/>
                </a:cubicBezTo>
                <a:cubicBezTo>
                  <a:pt x="3744" y="3789"/>
                  <a:pt x="4149" y="3802"/>
                  <a:pt x="4589" y="3845"/>
                </a:cubicBezTo>
                <a:cubicBezTo>
                  <a:pt x="4998" y="3885"/>
                  <a:pt x="5385" y="4015"/>
                  <a:pt x="5755" y="4192"/>
                </a:cubicBezTo>
                <a:cubicBezTo>
                  <a:pt x="6043" y="4330"/>
                  <a:pt x="6269" y="4530"/>
                  <a:pt x="6524" y="4713"/>
                </a:cubicBezTo>
                <a:cubicBezTo>
                  <a:pt x="6571" y="4747"/>
                  <a:pt x="6757" y="4915"/>
                  <a:pt x="6821" y="4911"/>
                </a:cubicBezTo>
                <a:cubicBezTo>
                  <a:pt x="6821" y="4895"/>
                  <a:pt x="6821" y="4878"/>
                  <a:pt x="6821" y="4862"/>
                </a:cubicBezTo>
              </a:path>
              <a:path w="7343" h="1415">
                <a:moveTo>
                  <a:pt x="6350" y="4837"/>
                </a:moveTo>
                <a:cubicBezTo>
                  <a:pt x="6342" y="4972"/>
                  <a:pt x="6325" y="5003"/>
                  <a:pt x="6474" y="5011"/>
                </a:cubicBezTo>
                <a:cubicBezTo>
                  <a:pt x="6557" y="5016"/>
                  <a:pt x="6622" y="4996"/>
                  <a:pt x="6697" y="4986"/>
                </a:cubicBezTo>
                <a:cubicBezTo>
                  <a:pt x="6773" y="4976"/>
                  <a:pt x="6906" y="4963"/>
                  <a:pt x="6970" y="4911"/>
                </a:cubicBezTo>
                <a:cubicBezTo>
                  <a:pt x="7011" y="4878"/>
                  <a:pt x="7093" y="4738"/>
                  <a:pt x="7119" y="4688"/>
                </a:cubicBezTo>
                <a:cubicBezTo>
                  <a:pt x="7149" y="4632"/>
                  <a:pt x="7162" y="4574"/>
                  <a:pt x="7169" y="4514"/>
                </a:cubicBezTo>
              </a:path>
              <a:path w="7343" h="1415">
                <a:moveTo>
                  <a:pt x="7392" y="3894"/>
                </a:moveTo>
                <a:cubicBezTo>
                  <a:pt x="7450" y="3814"/>
                  <a:pt x="7486" y="3832"/>
                  <a:pt x="7565" y="3795"/>
                </a:cubicBezTo>
                <a:cubicBezTo>
                  <a:pt x="7655" y="3753"/>
                  <a:pt x="7702" y="3776"/>
                  <a:pt x="7789" y="3820"/>
                </a:cubicBezTo>
                <a:cubicBezTo>
                  <a:pt x="7805" y="3828"/>
                  <a:pt x="7822" y="3837"/>
                  <a:pt x="7838" y="3845"/>
                </a:cubicBezTo>
                <a:cubicBezTo>
                  <a:pt x="7801" y="3947"/>
                  <a:pt x="7765" y="3991"/>
                  <a:pt x="7689" y="4068"/>
                </a:cubicBezTo>
                <a:cubicBezTo>
                  <a:pt x="7623" y="4134"/>
                  <a:pt x="7517" y="4208"/>
                  <a:pt x="7615" y="4291"/>
                </a:cubicBezTo>
                <a:cubicBezTo>
                  <a:pt x="7661" y="4330"/>
                  <a:pt x="7783" y="4327"/>
                  <a:pt x="7838" y="4316"/>
                </a:cubicBezTo>
                <a:cubicBezTo>
                  <a:pt x="7925" y="4299"/>
                  <a:pt x="7975" y="4248"/>
                  <a:pt x="8037" y="4192"/>
                </a:cubicBezTo>
              </a:path>
              <a:path w="7343" h="1415">
                <a:moveTo>
                  <a:pt x="8186" y="3795"/>
                </a:moveTo>
                <a:cubicBezTo>
                  <a:pt x="8145" y="3836"/>
                  <a:pt x="8099" y="3885"/>
                  <a:pt x="8086" y="3944"/>
                </a:cubicBezTo>
                <a:cubicBezTo>
                  <a:pt x="8078" y="3981"/>
                  <a:pt x="8047" y="4055"/>
                  <a:pt x="8111" y="4068"/>
                </a:cubicBezTo>
                <a:cubicBezTo>
                  <a:pt x="8164" y="4079"/>
                  <a:pt x="8281" y="4049"/>
                  <a:pt x="8310" y="3994"/>
                </a:cubicBezTo>
                <a:cubicBezTo>
                  <a:pt x="8392" y="3836"/>
                  <a:pt x="8304" y="3911"/>
                  <a:pt x="8310" y="4018"/>
                </a:cubicBezTo>
                <a:cubicBezTo>
                  <a:pt x="8313" y="4067"/>
                  <a:pt x="8407" y="4065"/>
                  <a:pt x="8434" y="4068"/>
                </a:cubicBezTo>
              </a:path>
              <a:path w="7343" h="1415">
                <a:moveTo>
                  <a:pt x="8558" y="3597"/>
                </a:moveTo>
                <a:cubicBezTo>
                  <a:pt x="8531" y="3671"/>
                  <a:pt x="8461" y="3787"/>
                  <a:pt x="8582" y="3820"/>
                </a:cubicBezTo>
                <a:cubicBezTo>
                  <a:pt x="8630" y="3833"/>
                  <a:pt x="8850" y="3844"/>
                  <a:pt x="8880" y="3795"/>
                </a:cubicBezTo>
                <a:cubicBezTo>
                  <a:pt x="8898" y="3767"/>
                  <a:pt x="8901" y="3681"/>
                  <a:pt x="8905" y="3646"/>
                </a:cubicBezTo>
                <a:cubicBezTo>
                  <a:pt x="8803" y="3697"/>
                  <a:pt x="8752" y="3734"/>
                  <a:pt x="8756" y="3870"/>
                </a:cubicBezTo>
                <a:cubicBezTo>
                  <a:pt x="8758" y="3947"/>
                  <a:pt x="8819" y="4031"/>
                  <a:pt x="8855" y="40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Ink 5"/>
          <p:cNvSpPr/>
          <p:nvPr/>
        </p:nvSpPr>
        <p:spPr>
          <a:xfrm>
            <a:off x="990720" y="2732040"/>
            <a:ext cx="1358640" cy="785880"/>
          </a:xfrm>
          <a:custGeom>
            <a:avLst/>
            <a:gdLst/>
            <a:ahLst/>
            <a:rect l="l" t="t" r="r" b="b"/>
            <a:pathLst>
              <a:path w="3772" h="2184">
                <a:moveTo>
                  <a:pt x="2753" y="7665"/>
                </a:moveTo>
                <a:cubicBezTo>
                  <a:pt x="2753" y="7801"/>
                  <a:pt x="2766" y="7931"/>
                  <a:pt x="2778" y="8062"/>
                </a:cubicBezTo>
                <a:cubicBezTo>
                  <a:pt x="2790" y="8194"/>
                  <a:pt x="2799" y="8327"/>
                  <a:pt x="2803" y="8458"/>
                </a:cubicBezTo>
                <a:cubicBezTo>
                  <a:pt x="2806" y="8547"/>
                  <a:pt x="2805" y="8622"/>
                  <a:pt x="2828" y="8706"/>
                </a:cubicBezTo>
              </a:path>
              <a:path w="3772" h="2184">
                <a:moveTo>
                  <a:pt x="3125" y="7987"/>
                </a:moveTo>
                <a:cubicBezTo>
                  <a:pt x="3265" y="7854"/>
                  <a:pt x="3291" y="7797"/>
                  <a:pt x="3473" y="7789"/>
                </a:cubicBezTo>
                <a:cubicBezTo>
                  <a:pt x="3547" y="7786"/>
                  <a:pt x="3650" y="7768"/>
                  <a:pt x="3671" y="7863"/>
                </a:cubicBezTo>
                <a:cubicBezTo>
                  <a:pt x="3701" y="7996"/>
                  <a:pt x="3699" y="8067"/>
                  <a:pt x="3646" y="8210"/>
                </a:cubicBezTo>
                <a:cubicBezTo>
                  <a:pt x="3613" y="8300"/>
                  <a:pt x="3502" y="8466"/>
                  <a:pt x="3448" y="8533"/>
                </a:cubicBezTo>
                <a:cubicBezTo>
                  <a:pt x="3402" y="8591"/>
                  <a:pt x="3324" y="8642"/>
                  <a:pt x="3274" y="8706"/>
                </a:cubicBezTo>
                <a:cubicBezTo>
                  <a:pt x="3266" y="8714"/>
                  <a:pt x="3257" y="8723"/>
                  <a:pt x="3249" y="8731"/>
                </a:cubicBezTo>
                <a:cubicBezTo>
                  <a:pt x="3299" y="8781"/>
                  <a:pt x="3354" y="8795"/>
                  <a:pt x="3423" y="8806"/>
                </a:cubicBezTo>
                <a:cubicBezTo>
                  <a:pt x="3494" y="8817"/>
                  <a:pt x="3575" y="8806"/>
                  <a:pt x="3646" y="8806"/>
                </a:cubicBezTo>
              </a:path>
              <a:path w="3772" h="2184">
                <a:moveTo>
                  <a:pt x="4192" y="8434"/>
                </a:moveTo>
                <a:cubicBezTo>
                  <a:pt x="4213" y="8350"/>
                  <a:pt x="4229" y="8330"/>
                  <a:pt x="4192" y="8285"/>
                </a:cubicBezTo>
                <a:cubicBezTo>
                  <a:pt x="4084" y="8258"/>
                  <a:pt x="4075" y="8313"/>
                  <a:pt x="3994" y="8359"/>
                </a:cubicBezTo>
                <a:cubicBezTo>
                  <a:pt x="3911" y="8406"/>
                  <a:pt x="3819" y="8445"/>
                  <a:pt x="3795" y="8558"/>
                </a:cubicBezTo>
                <a:cubicBezTo>
                  <a:pt x="3778" y="8638"/>
                  <a:pt x="3793" y="8679"/>
                  <a:pt x="3845" y="8731"/>
                </a:cubicBezTo>
                <a:cubicBezTo>
                  <a:pt x="3893" y="8779"/>
                  <a:pt x="4012" y="8769"/>
                  <a:pt x="4068" y="8731"/>
                </a:cubicBezTo>
                <a:cubicBezTo>
                  <a:pt x="4154" y="8673"/>
                  <a:pt x="4163" y="8645"/>
                  <a:pt x="4192" y="8558"/>
                </a:cubicBezTo>
                <a:cubicBezTo>
                  <a:pt x="4210" y="8505"/>
                  <a:pt x="4222" y="8462"/>
                  <a:pt x="4242" y="8409"/>
                </a:cubicBezTo>
                <a:cubicBezTo>
                  <a:pt x="4211" y="8471"/>
                  <a:pt x="4217" y="8533"/>
                  <a:pt x="4217" y="8607"/>
                </a:cubicBezTo>
                <a:cubicBezTo>
                  <a:pt x="4217" y="8769"/>
                  <a:pt x="4236" y="8942"/>
                  <a:pt x="4266" y="9103"/>
                </a:cubicBezTo>
                <a:cubicBezTo>
                  <a:pt x="4287" y="9218"/>
                  <a:pt x="4325" y="9384"/>
                  <a:pt x="4291" y="9500"/>
                </a:cubicBezTo>
                <a:cubicBezTo>
                  <a:pt x="4265" y="9590"/>
                  <a:pt x="4202" y="9704"/>
                  <a:pt x="4118" y="9748"/>
                </a:cubicBezTo>
                <a:cubicBezTo>
                  <a:pt x="4022" y="9798"/>
                  <a:pt x="3910" y="9773"/>
                  <a:pt x="3820" y="9723"/>
                </a:cubicBezTo>
                <a:cubicBezTo>
                  <a:pt x="3714" y="9664"/>
                  <a:pt x="3632" y="9638"/>
                  <a:pt x="3621" y="9500"/>
                </a:cubicBezTo>
                <a:cubicBezTo>
                  <a:pt x="3621" y="9434"/>
                  <a:pt x="3621" y="9368"/>
                  <a:pt x="3621" y="9302"/>
                </a:cubicBezTo>
              </a:path>
              <a:path w="3772" h="2184">
                <a:moveTo>
                  <a:pt x="4862" y="7838"/>
                </a:moveTo>
                <a:cubicBezTo>
                  <a:pt x="4879" y="7979"/>
                  <a:pt x="4877" y="8124"/>
                  <a:pt x="4911" y="8260"/>
                </a:cubicBezTo>
                <a:cubicBezTo>
                  <a:pt x="4931" y="8341"/>
                  <a:pt x="4957" y="8427"/>
                  <a:pt x="4961" y="8508"/>
                </a:cubicBezTo>
                <a:cubicBezTo>
                  <a:pt x="4961" y="8525"/>
                  <a:pt x="4961" y="8541"/>
                  <a:pt x="4961" y="8558"/>
                </a:cubicBezTo>
              </a:path>
              <a:path w="3772" h="2184">
                <a:moveTo>
                  <a:pt x="4614" y="8235"/>
                </a:moveTo>
                <a:cubicBezTo>
                  <a:pt x="4732" y="8195"/>
                  <a:pt x="4815" y="8200"/>
                  <a:pt x="4936" y="8186"/>
                </a:cubicBezTo>
                <a:cubicBezTo>
                  <a:pt x="4986" y="8178"/>
                  <a:pt x="5035" y="8169"/>
                  <a:pt x="5085" y="8161"/>
                </a:cubicBezTo>
              </a:path>
              <a:path w="3772" h="2184">
                <a:moveTo>
                  <a:pt x="5383" y="7813"/>
                </a:moveTo>
                <a:cubicBezTo>
                  <a:pt x="5492" y="7756"/>
                  <a:pt x="5575" y="7706"/>
                  <a:pt x="5705" y="7739"/>
                </a:cubicBezTo>
                <a:cubicBezTo>
                  <a:pt x="5780" y="7758"/>
                  <a:pt x="5825" y="7821"/>
                  <a:pt x="5829" y="7888"/>
                </a:cubicBezTo>
                <a:cubicBezTo>
                  <a:pt x="5836" y="7999"/>
                  <a:pt x="5711" y="8141"/>
                  <a:pt x="5655" y="8210"/>
                </a:cubicBezTo>
                <a:cubicBezTo>
                  <a:pt x="5581" y="8301"/>
                  <a:pt x="5522" y="8393"/>
                  <a:pt x="5457" y="8483"/>
                </a:cubicBezTo>
                <a:cubicBezTo>
                  <a:pt x="5411" y="8548"/>
                  <a:pt x="5332" y="8561"/>
                  <a:pt x="5358" y="8657"/>
                </a:cubicBezTo>
                <a:cubicBezTo>
                  <a:pt x="5373" y="8714"/>
                  <a:pt x="5463" y="8729"/>
                  <a:pt x="5507" y="8731"/>
                </a:cubicBezTo>
                <a:cubicBezTo>
                  <a:pt x="5678" y="8738"/>
                  <a:pt x="5739" y="8721"/>
                  <a:pt x="5904" y="8657"/>
                </a:cubicBezTo>
              </a:path>
              <a:path w="3772" h="2184">
                <a:moveTo>
                  <a:pt x="6052" y="7863"/>
                </a:moveTo>
                <a:cubicBezTo>
                  <a:pt x="6083" y="8066"/>
                  <a:pt x="6056" y="8106"/>
                  <a:pt x="6226" y="8186"/>
                </a:cubicBezTo>
                <a:cubicBezTo>
                  <a:pt x="6282" y="8212"/>
                  <a:pt x="6386" y="8274"/>
                  <a:pt x="6449" y="8235"/>
                </a:cubicBezTo>
                <a:cubicBezTo>
                  <a:pt x="6474" y="8210"/>
                  <a:pt x="6499" y="8186"/>
                  <a:pt x="6524" y="8161"/>
                </a:cubicBezTo>
              </a:path>
              <a:path w="3772" h="2184">
                <a:moveTo>
                  <a:pt x="6474" y="7590"/>
                </a:moveTo>
                <a:cubicBezTo>
                  <a:pt x="6451" y="7793"/>
                  <a:pt x="6424" y="7982"/>
                  <a:pt x="6424" y="8186"/>
                </a:cubicBezTo>
                <a:cubicBezTo>
                  <a:pt x="6424" y="8426"/>
                  <a:pt x="6424" y="8665"/>
                  <a:pt x="6424" y="89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Ink 6"/>
          <p:cNvSpPr/>
          <p:nvPr/>
        </p:nvSpPr>
        <p:spPr>
          <a:xfrm>
            <a:off x="2625840" y="2705040"/>
            <a:ext cx="3392280" cy="947880"/>
          </a:xfrm>
          <a:custGeom>
            <a:avLst/>
            <a:gdLst/>
            <a:ahLst/>
            <a:rect l="l" t="t" r="r" b="b"/>
            <a:pathLst>
              <a:path w="9426" h="2630">
                <a:moveTo>
                  <a:pt x="7689" y="7938"/>
                </a:moveTo>
                <a:cubicBezTo>
                  <a:pt x="7656" y="8078"/>
                  <a:pt x="7558" y="8339"/>
                  <a:pt x="7590" y="8508"/>
                </a:cubicBezTo>
                <a:cubicBezTo>
                  <a:pt x="7605" y="8587"/>
                  <a:pt x="7615" y="8624"/>
                  <a:pt x="7615" y="8706"/>
                </a:cubicBezTo>
              </a:path>
              <a:path w="9426" h="2630">
                <a:moveTo>
                  <a:pt x="7293" y="8210"/>
                </a:moveTo>
                <a:cubicBezTo>
                  <a:pt x="7460" y="8210"/>
                  <a:pt x="7625" y="8224"/>
                  <a:pt x="7789" y="8235"/>
                </a:cubicBezTo>
                <a:cubicBezTo>
                  <a:pt x="7906" y="8235"/>
                  <a:pt x="7940" y="8237"/>
                  <a:pt x="8012" y="8210"/>
                </a:cubicBezTo>
              </a:path>
              <a:path w="9426" h="2630">
                <a:moveTo>
                  <a:pt x="8359" y="7640"/>
                </a:moveTo>
                <a:cubicBezTo>
                  <a:pt x="8335" y="7835"/>
                  <a:pt x="8310" y="8015"/>
                  <a:pt x="8310" y="8210"/>
                </a:cubicBezTo>
                <a:cubicBezTo>
                  <a:pt x="8310" y="8329"/>
                  <a:pt x="8250" y="8847"/>
                  <a:pt x="8334" y="8905"/>
                </a:cubicBezTo>
              </a:path>
              <a:path w="9426" h="2630">
                <a:moveTo>
                  <a:pt x="8682" y="8037"/>
                </a:moveTo>
                <a:cubicBezTo>
                  <a:pt x="8597" y="8213"/>
                  <a:pt x="8539" y="8338"/>
                  <a:pt x="8533" y="8533"/>
                </a:cubicBezTo>
                <a:cubicBezTo>
                  <a:pt x="8529" y="8671"/>
                  <a:pt x="8571" y="8774"/>
                  <a:pt x="8657" y="8880"/>
                </a:cubicBezTo>
                <a:cubicBezTo>
                  <a:pt x="8718" y="8955"/>
                  <a:pt x="8814" y="8976"/>
                  <a:pt x="8905" y="8979"/>
                </a:cubicBezTo>
                <a:cubicBezTo>
                  <a:pt x="9070" y="8984"/>
                  <a:pt x="9150" y="8865"/>
                  <a:pt x="9227" y="8731"/>
                </a:cubicBezTo>
                <a:cubicBezTo>
                  <a:pt x="9296" y="8612"/>
                  <a:pt x="9340" y="8473"/>
                  <a:pt x="9327" y="8334"/>
                </a:cubicBezTo>
                <a:cubicBezTo>
                  <a:pt x="9314" y="8197"/>
                  <a:pt x="9268" y="8067"/>
                  <a:pt x="9178" y="7962"/>
                </a:cubicBezTo>
                <a:cubicBezTo>
                  <a:pt x="9100" y="7871"/>
                  <a:pt x="9049" y="7817"/>
                  <a:pt x="8930" y="7813"/>
                </a:cubicBezTo>
                <a:cubicBezTo>
                  <a:pt x="8802" y="7809"/>
                  <a:pt x="8770" y="7835"/>
                  <a:pt x="8706" y="7938"/>
                </a:cubicBezTo>
              </a:path>
              <a:path w="9426" h="2630">
                <a:moveTo>
                  <a:pt x="10046" y="8582"/>
                </a:moveTo>
                <a:cubicBezTo>
                  <a:pt x="9936" y="8553"/>
                  <a:pt x="9860" y="8555"/>
                  <a:pt x="9748" y="8582"/>
                </a:cubicBezTo>
                <a:cubicBezTo>
                  <a:pt x="9603" y="8617"/>
                  <a:pt x="9482" y="8686"/>
                  <a:pt x="9451" y="8830"/>
                </a:cubicBezTo>
                <a:cubicBezTo>
                  <a:pt x="9430" y="8925"/>
                  <a:pt x="9523" y="8963"/>
                  <a:pt x="9599" y="8979"/>
                </a:cubicBezTo>
                <a:cubicBezTo>
                  <a:pt x="9670" y="8994"/>
                  <a:pt x="9765" y="8978"/>
                  <a:pt x="9823" y="8930"/>
                </a:cubicBezTo>
                <a:cubicBezTo>
                  <a:pt x="9893" y="8872"/>
                  <a:pt x="9997" y="8774"/>
                  <a:pt x="10021" y="8682"/>
                </a:cubicBezTo>
                <a:cubicBezTo>
                  <a:pt x="10042" y="8603"/>
                  <a:pt x="10021" y="8580"/>
                  <a:pt x="10021" y="8508"/>
                </a:cubicBezTo>
                <a:cubicBezTo>
                  <a:pt x="10004" y="8569"/>
                  <a:pt x="9984" y="8629"/>
                  <a:pt x="9996" y="8706"/>
                </a:cubicBezTo>
                <a:cubicBezTo>
                  <a:pt x="10020" y="8856"/>
                  <a:pt x="10069" y="9003"/>
                  <a:pt x="10096" y="9153"/>
                </a:cubicBezTo>
                <a:cubicBezTo>
                  <a:pt x="10127" y="9326"/>
                  <a:pt x="10186" y="9523"/>
                  <a:pt x="10170" y="9699"/>
                </a:cubicBezTo>
                <a:cubicBezTo>
                  <a:pt x="10154" y="9873"/>
                  <a:pt x="10028" y="9990"/>
                  <a:pt x="9897" y="10071"/>
                </a:cubicBezTo>
                <a:cubicBezTo>
                  <a:pt x="9763" y="10153"/>
                  <a:pt x="9680" y="10153"/>
                  <a:pt x="9525" y="10120"/>
                </a:cubicBezTo>
                <a:cubicBezTo>
                  <a:pt x="9406" y="10095"/>
                  <a:pt x="9330" y="10044"/>
                  <a:pt x="9277" y="9947"/>
                </a:cubicBezTo>
                <a:cubicBezTo>
                  <a:pt x="9241" y="9876"/>
                  <a:pt x="9238" y="9836"/>
                  <a:pt x="9277" y="9773"/>
                </a:cubicBezTo>
              </a:path>
              <a:path w="9426" h="2630">
                <a:moveTo>
                  <a:pt x="10740" y="8384"/>
                </a:moveTo>
                <a:cubicBezTo>
                  <a:pt x="10854" y="8338"/>
                  <a:pt x="10941" y="8334"/>
                  <a:pt x="11063" y="8334"/>
                </a:cubicBezTo>
                <a:cubicBezTo>
                  <a:pt x="11088" y="8334"/>
                  <a:pt x="11112" y="8334"/>
                  <a:pt x="11137" y="8334"/>
                </a:cubicBezTo>
              </a:path>
              <a:path w="9426" h="2630">
                <a:moveTo>
                  <a:pt x="10939" y="8607"/>
                </a:moveTo>
                <a:cubicBezTo>
                  <a:pt x="11121" y="8597"/>
                  <a:pt x="11236" y="8571"/>
                  <a:pt x="11410" y="8508"/>
                </a:cubicBezTo>
              </a:path>
              <a:path w="9426" h="2630">
                <a:moveTo>
                  <a:pt x="11832" y="7714"/>
                </a:moveTo>
                <a:cubicBezTo>
                  <a:pt x="11935" y="7637"/>
                  <a:pt x="11997" y="7606"/>
                  <a:pt x="12129" y="7640"/>
                </a:cubicBezTo>
                <a:cubicBezTo>
                  <a:pt x="12241" y="7669"/>
                  <a:pt x="12298" y="7753"/>
                  <a:pt x="12328" y="7863"/>
                </a:cubicBezTo>
                <a:cubicBezTo>
                  <a:pt x="12371" y="8022"/>
                  <a:pt x="12299" y="8241"/>
                  <a:pt x="12229" y="8384"/>
                </a:cubicBezTo>
                <a:cubicBezTo>
                  <a:pt x="12165" y="8513"/>
                  <a:pt x="11994" y="8645"/>
                  <a:pt x="11881" y="8731"/>
                </a:cubicBezTo>
                <a:cubicBezTo>
                  <a:pt x="11832" y="8768"/>
                  <a:pt x="11720" y="8815"/>
                  <a:pt x="11658" y="8806"/>
                </a:cubicBezTo>
                <a:cubicBezTo>
                  <a:pt x="11581" y="8786"/>
                  <a:pt x="11563" y="8794"/>
                  <a:pt x="11534" y="8756"/>
                </a:cubicBezTo>
                <a:cubicBezTo>
                  <a:pt x="11639" y="8651"/>
                  <a:pt x="11644" y="8612"/>
                  <a:pt x="11782" y="8607"/>
                </a:cubicBezTo>
                <a:cubicBezTo>
                  <a:pt x="11899" y="8603"/>
                  <a:pt x="11958" y="8674"/>
                  <a:pt x="12055" y="8731"/>
                </a:cubicBezTo>
                <a:cubicBezTo>
                  <a:pt x="12082" y="8747"/>
                  <a:pt x="12208" y="8857"/>
                  <a:pt x="12229" y="8855"/>
                </a:cubicBezTo>
                <a:cubicBezTo>
                  <a:pt x="12300" y="8847"/>
                  <a:pt x="12315" y="8742"/>
                  <a:pt x="12353" y="8682"/>
                </a:cubicBezTo>
              </a:path>
              <a:path w="9426" h="2630">
                <a:moveTo>
                  <a:pt x="12675" y="7813"/>
                </a:moveTo>
                <a:cubicBezTo>
                  <a:pt x="12649" y="7912"/>
                  <a:pt x="12595" y="8012"/>
                  <a:pt x="12576" y="8111"/>
                </a:cubicBezTo>
                <a:cubicBezTo>
                  <a:pt x="12551" y="8240"/>
                  <a:pt x="12678" y="8283"/>
                  <a:pt x="12774" y="8310"/>
                </a:cubicBezTo>
                <a:cubicBezTo>
                  <a:pt x="12844" y="8329"/>
                  <a:pt x="12963" y="8269"/>
                  <a:pt x="13022" y="8235"/>
                </a:cubicBezTo>
                <a:cubicBezTo>
                  <a:pt x="13047" y="8219"/>
                  <a:pt x="13072" y="8202"/>
                  <a:pt x="13097" y="8186"/>
                </a:cubicBezTo>
              </a:path>
              <a:path w="9426" h="2630">
                <a:moveTo>
                  <a:pt x="13022" y="7516"/>
                </a:moveTo>
                <a:cubicBezTo>
                  <a:pt x="12964" y="7741"/>
                  <a:pt x="12895" y="7979"/>
                  <a:pt x="12874" y="8210"/>
                </a:cubicBezTo>
                <a:cubicBezTo>
                  <a:pt x="12855" y="8419"/>
                  <a:pt x="12835" y="8726"/>
                  <a:pt x="12898" y="8930"/>
                </a:cubicBezTo>
                <a:cubicBezTo>
                  <a:pt x="12923" y="8954"/>
                  <a:pt x="12932" y="8962"/>
                  <a:pt x="12948" y="8979"/>
                </a:cubicBezTo>
              </a:path>
              <a:path w="9426" h="2630">
                <a:moveTo>
                  <a:pt x="13643" y="8235"/>
                </a:moveTo>
                <a:cubicBezTo>
                  <a:pt x="13487" y="8261"/>
                  <a:pt x="13419" y="8299"/>
                  <a:pt x="13320" y="8434"/>
                </a:cubicBezTo>
                <a:cubicBezTo>
                  <a:pt x="13255" y="8523"/>
                  <a:pt x="13257" y="8605"/>
                  <a:pt x="13295" y="8706"/>
                </a:cubicBezTo>
                <a:cubicBezTo>
                  <a:pt x="13329" y="8797"/>
                  <a:pt x="13390" y="8819"/>
                  <a:pt x="13469" y="8855"/>
                </a:cubicBezTo>
                <a:cubicBezTo>
                  <a:pt x="13566" y="8899"/>
                  <a:pt x="13659" y="8811"/>
                  <a:pt x="13717" y="8731"/>
                </a:cubicBezTo>
                <a:cubicBezTo>
                  <a:pt x="13752" y="8683"/>
                  <a:pt x="13790" y="8593"/>
                  <a:pt x="13767" y="8533"/>
                </a:cubicBezTo>
                <a:cubicBezTo>
                  <a:pt x="13759" y="8525"/>
                  <a:pt x="13750" y="8516"/>
                  <a:pt x="13742" y="8508"/>
                </a:cubicBezTo>
                <a:cubicBezTo>
                  <a:pt x="13662" y="8587"/>
                  <a:pt x="13651" y="8708"/>
                  <a:pt x="13643" y="8830"/>
                </a:cubicBezTo>
                <a:cubicBezTo>
                  <a:pt x="13629" y="9054"/>
                  <a:pt x="13666" y="9278"/>
                  <a:pt x="13618" y="9500"/>
                </a:cubicBezTo>
                <a:cubicBezTo>
                  <a:pt x="13582" y="9664"/>
                  <a:pt x="13564" y="9687"/>
                  <a:pt x="13419" y="9748"/>
                </a:cubicBezTo>
                <a:cubicBezTo>
                  <a:pt x="13298" y="9799"/>
                  <a:pt x="13136" y="9788"/>
                  <a:pt x="13047" y="9674"/>
                </a:cubicBezTo>
                <a:cubicBezTo>
                  <a:pt x="13000" y="9578"/>
                  <a:pt x="12983" y="9549"/>
                  <a:pt x="12998" y="9475"/>
                </a:cubicBezTo>
              </a:path>
              <a:path w="9426" h="2630">
                <a:moveTo>
                  <a:pt x="14362" y="8186"/>
                </a:moveTo>
                <a:cubicBezTo>
                  <a:pt x="14321" y="8465"/>
                  <a:pt x="14304" y="8582"/>
                  <a:pt x="14312" y="8830"/>
                </a:cubicBezTo>
                <a:cubicBezTo>
                  <a:pt x="14314" y="8897"/>
                  <a:pt x="14329" y="8940"/>
                  <a:pt x="14337" y="9004"/>
                </a:cubicBezTo>
              </a:path>
              <a:path w="9426" h="2630">
                <a:moveTo>
                  <a:pt x="13990" y="8508"/>
                </a:moveTo>
                <a:cubicBezTo>
                  <a:pt x="14125" y="8499"/>
                  <a:pt x="14251" y="8473"/>
                  <a:pt x="14387" y="8458"/>
                </a:cubicBezTo>
                <a:cubicBezTo>
                  <a:pt x="14470" y="8450"/>
                  <a:pt x="14552" y="8442"/>
                  <a:pt x="14635" y="8434"/>
                </a:cubicBezTo>
              </a:path>
              <a:path w="9426" h="2630">
                <a:moveTo>
                  <a:pt x="15032" y="8037"/>
                </a:moveTo>
                <a:cubicBezTo>
                  <a:pt x="15180" y="7938"/>
                  <a:pt x="15295" y="7854"/>
                  <a:pt x="15478" y="7863"/>
                </a:cubicBezTo>
                <a:cubicBezTo>
                  <a:pt x="15582" y="7868"/>
                  <a:pt x="15769" y="7874"/>
                  <a:pt x="15825" y="7987"/>
                </a:cubicBezTo>
                <a:cubicBezTo>
                  <a:pt x="15891" y="8121"/>
                  <a:pt x="15728" y="8272"/>
                  <a:pt x="15652" y="8359"/>
                </a:cubicBezTo>
                <a:cubicBezTo>
                  <a:pt x="15555" y="8470"/>
                  <a:pt x="15423" y="8541"/>
                  <a:pt x="15329" y="8657"/>
                </a:cubicBezTo>
                <a:cubicBezTo>
                  <a:pt x="15277" y="8720"/>
                  <a:pt x="15220" y="8784"/>
                  <a:pt x="15180" y="8855"/>
                </a:cubicBezTo>
                <a:cubicBezTo>
                  <a:pt x="15147" y="8912"/>
                  <a:pt x="15144" y="8920"/>
                  <a:pt x="15131" y="8979"/>
                </a:cubicBezTo>
                <a:cubicBezTo>
                  <a:pt x="15281" y="8988"/>
                  <a:pt x="15427" y="9018"/>
                  <a:pt x="15577" y="9029"/>
                </a:cubicBezTo>
                <a:cubicBezTo>
                  <a:pt x="15768" y="9043"/>
                  <a:pt x="15955" y="9075"/>
                  <a:pt x="16148" y="9079"/>
                </a:cubicBezTo>
                <a:cubicBezTo>
                  <a:pt x="16364" y="9083"/>
                  <a:pt x="16531" y="9003"/>
                  <a:pt x="16718" y="89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Ink 7"/>
          <p:cNvSpPr/>
          <p:nvPr/>
        </p:nvSpPr>
        <p:spPr>
          <a:xfrm>
            <a:off x="1803240" y="3606840"/>
            <a:ext cx="3724560" cy="1054080"/>
          </a:xfrm>
          <a:custGeom>
            <a:avLst/>
            <a:gdLst/>
            <a:ahLst/>
            <a:rect l="l" t="t" r="r" b="b"/>
            <a:pathLst>
              <a:path w="10344" h="2928">
                <a:moveTo>
                  <a:pt x="5035" y="10220"/>
                </a:moveTo>
                <a:cubicBezTo>
                  <a:pt x="5087" y="10168"/>
                  <a:pt x="5145" y="10075"/>
                  <a:pt x="5209" y="10046"/>
                </a:cubicBezTo>
                <a:cubicBezTo>
                  <a:pt x="5285" y="10011"/>
                  <a:pt x="5414" y="10013"/>
                  <a:pt x="5482" y="10071"/>
                </a:cubicBezTo>
                <a:cubicBezTo>
                  <a:pt x="5625" y="10195"/>
                  <a:pt x="5641" y="10362"/>
                  <a:pt x="5655" y="10542"/>
                </a:cubicBezTo>
                <a:cubicBezTo>
                  <a:pt x="5670" y="10744"/>
                  <a:pt x="5574" y="10886"/>
                  <a:pt x="5507" y="11063"/>
                </a:cubicBezTo>
                <a:cubicBezTo>
                  <a:pt x="5463" y="11180"/>
                  <a:pt x="5391" y="11313"/>
                  <a:pt x="5283" y="11385"/>
                </a:cubicBezTo>
                <a:cubicBezTo>
                  <a:pt x="5196" y="11443"/>
                  <a:pt x="5159" y="11429"/>
                  <a:pt x="5085" y="11385"/>
                </a:cubicBezTo>
                <a:cubicBezTo>
                  <a:pt x="4989" y="11328"/>
                  <a:pt x="4996" y="11195"/>
                  <a:pt x="5011" y="11088"/>
                </a:cubicBezTo>
                <a:cubicBezTo>
                  <a:pt x="5018" y="11036"/>
                  <a:pt x="5074" y="10907"/>
                  <a:pt x="5135" y="10889"/>
                </a:cubicBezTo>
                <a:cubicBezTo>
                  <a:pt x="5243" y="10858"/>
                  <a:pt x="5291" y="10964"/>
                  <a:pt x="5333" y="11038"/>
                </a:cubicBezTo>
                <a:cubicBezTo>
                  <a:pt x="5380" y="11120"/>
                  <a:pt x="5416" y="11201"/>
                  <a:pt x="5457" y="11286"/>
                </a:cubicBezTo>
                <a:cubicBezTo>
                  <a:pt x="5496" y="11367"/>
                  <a:pt x="5527" y="11406"/>
                  <a:pt x="5606" y="11361"/>
                </a:cubicBezTo>
              </a:path>
              <a:path w="10344" h="2928">
                <a:moveTo>
                  <a:pt x="6077" y="10220"/>
                </a:moveTo>
                <a:cubicBezTo>
                  <a:pt x="6174" y="10171"/>
                  <a:pt x="6287" y="10074"/>
                  <a:pt x="6400" y="10145"/>
                </a:cubicBezTo>
                <a:cubicBezTo>
                  <a:pt x="6497" y="10206"/>
                  <a:pt x="6560" y="10334"/>
                  <a:pt x="6573" y="10443"/>
                </a:cubicBezTo>
                <a:cubicBezTo>
                  <a:pt x="6598" y="10650"/>
                  <a:pt x="6548" y="10847"/>
                  <a:pt x="6474" y="11038"/>
                </a:cubicBezTo>
                <a:cubicBezTo>
                  <a:pt x="6432" y="11146"/>
                  <a:pt x="6372" y="11266"/>
                  <a:pt x="6276" y="11336"/>
                </a:cubicBezTo>
                <a:cubicBezTo>
                  <a:pt x="6213" y="11382"/>
                  <a:pt x="6146" y="11403"/>
                  <a:pt x="6077" y="11361"/>
                </a:cubicBezTo>
                <a:cubicBezTo>
                  <a:pt x="6037" y="11337"/>
                  <a:pt x="5963" y="11281"/>
                  <a:pt x="5953" y="11237"/>
                </a:cubicBezTo>
                <a:cubicBezTo>
                  <a:pt x="5942" y="11190"/>
                  <a:pt x="5938" y="11071"/>
                  <a:pt x="5978" y="11038"/>
                </a:cubicBezTo>
                <a:cubicBezTo>
                  <a:pt x="6003" y="11021"/>
                  <a:pt x="6027" y="11005"/>
                  <a:pt x="6052" y="10988"/>
                </a:cubicBezTo>
                <a:cubicBezTo>
                  <a:pt x="6135" y="11071"/>
                  <a:pt x="6201" y="11133"/>
                  <a:pt x="6251" y="11237"/>
                </a:cubicBezTo>
                <a:cubicBezTo>
                  <a:pt x="6298" y="11335"/>
                  <a:pt x="6340" y="11397"/>
                  <a:pt x="6424" y="11460"/>
                </a:cubicBezTo>
                <a:cubicBezTo>
                  <a:pt x="6458" y="11494"/>
                  <a:pt x="6480" y="11503"/>
                  <a:pt x="6524" y="11485"/>
                </a:cubicBezTo>
              </a:path>
              <a:path w="10344" h="2928">
                <a:moveTo>
                  <a:pt x="7069" y="10939"/>
                </a:moveTo>
                <a:cubicBezTo>
                  <a:pt x="6891" y="10931"/>
                  <a:pt x="6854" y="10915"/>
                  <a:pt x="6747" y="11063"/>
                </a:cubicBezTo>
                <a:cubicBezTo>
                  <a:pt x="6693" y="11137"/>
                  <a:pt x="6687" y="11208"/>
                  <a:pt x="6722" y="11286"/>
                </a:cubicBezTo>
                <a:cubicBezTo>
                  <a:pt x="6734" y="11312"/>
                  <a:pt x="6785" y="11403"/>
                  <a:pt x="6821" y="11410"/>
                </a:cubicBezTo>
                <a:cubicBezTo>
                  <a:pt x="6962" y="11438"/>
                  <a:pt x="6958" y="11375"/>
                  <a:pt x="7020" y="11286"/>
                </a:cubicBezTo>
                <a:cubicBezTo>
                  <a:pt x="7070" y="11214"/>
                  <a:pt x="7114" y="11131"/>
                  <a:pt x="7169" y="11063"/>
                </a:cubicBezTo>
                <a:cubicBezTo>
                  <a:pt x="7169" y="11404"/>
                  <a:pt x="7171" y="11742"/>
                  <a:pt x="7193" y="12080"/>
                </a:cubicBezTo>
                <a:cubicBezTo>
                  <a:pt x="7201" y="12211"/>
                  <a:pt x="7206" y="12352"/>
                  <a:pt x="7169" y="12477"/>
                </a:cubicBezTo>
                <a:cubicBezTo>
                  <a:pt x="7145" y="12560"/>
                  <a:pt x="7067" y="12624"/>
                  <a:pt x="6970" y="12601"/>
                </a:cubicBezTo>
                <a:cubicBezTo>
                  <a:pt x="6870" y="12578"/>
                  <a:pt x="6679" y="12473"/>
                  <a:pt x="6623" y="12378"/>
                </a:cubicBezTo>
                <a:cubicBezTo>
                  <a:pt x="6598" y="12279"/>
                  <a:pt x="6590" y="12247"/>
                  <a:pt x="6598" y="12179"/>
                </a:cubicBezTo>
              </a:path>
              <a:path w="10344" h="2928">
                <a:moveTo>
                  <a:pt x="7813" y="10716"/>
                </a:moveTo>
                <a:cubicBezTo>
                  <a:pt x="7813" y="10857"/>
                  <a:pt x="7814" y="10999"/>
                  <a:pt x="7838" y="11137"/>
                </a:cubicBezTo>
                <a:cubicBezTo>
                  <a:pt x="7858" y="11248"/>
                  <a:pt x="7870" y="11355"/>
                  <a:pt x="7913" y="11460"/>
                </a:cubicBezTo>
                <a:cubicBezTo>
                  <a:pt x="7921" y="11476"/>
                  <a:pt x="7930" y="11493"/>
                  <a:pt x="7938" y="11509"/>
                </a:cubicBezTo>
              </a:path>
              <a:path w="10344" h="2928">
                <a:moveTo>
                  <a:pt x="7640" y="10988"/>
                </a:moveTo>
                <a:cubicBezTo>
                  <a:pt x="7775" y="10962"/>
                  <a:pt x="7902" y="10981"/>
                  <a:pt x="8037" y="10964"/>
                </a:cubicBezTo>
                <a:cubicBezTo>
                  <a:pt x="8070" y="10956"/>
                  <a:pt x="8103" y="10947"/>
                  <a:pt x="8136" y="10939"/>
                </a:cubicBezTo>
              </a:path>
              <a:path w="10344" h="2928">
                <a:moveTo>
                  <a:pt x="8632" y="10468"/>
                </a:moveTo>
                <a:cubicBezTo>
                  <a:pt x="8761" y="10382"/>
                  <a:pt x="8782" y="10434"/>
                  <a:pt x="8880" y="10542"/>
                </a:cubicBezTo>
                <a:cubicBezTo>
                  <a:pt x="8972" y="10643"/>
                  <a:pt x="9045" y="10747"/>
                  <a:pt x="9029" y="10889"/>
                </a:cubicBezTo>
                <a:cubicBezTo>
                  <a:pt x="9016" y="11006"/>
                  <a:pt x="8968" y="11153"/>
                  <a:pt x="8880" y="11237"/>
                </a:cubicBezTo>
                <a:cubicBezTo>
                  <a:pt x="8817" y="11297"/>
                  <a:pt x="8714" y="11353"/>
                  <a:pt x="8632" y="11385"/>
                </a:cubicBezTo>
                <a:cubicBezTo>
                  <a:pt x="8527" y="11426"/>
                  <a:pt x="8454" y="11414"/>
                  <a:pt x="8434" y="11286"/>
                </a:cubicBezTo>
                <a:cubicBezTo>
                  <a:pt x="8419" y="11189"/>
                  <a:pt x="8437" y="11118"/>
                  <a:pt x="8533" y="11112"/>
                </a:cubicBezTo>
                <a:cubicBezTo>
                  <a:pt x="8689" y="11103"/>
                  <a:pt x="8764" y="11254"/>
                  <a:pt x="8880" y="11336"/>
                </a:cubicBezTo>
                <a:cubicBezTo>
                  <a:pt x="9013" y="11431"/>
                  <a:pt x="9087" y="11427"/>
                  <a:pt x="9227" y="11385"/>
                </a:cubicBezTo>
              </a:path>
              <a:path w="10344" h="2928">
                <a:moveTo>
                  <a:pt x="9451" y="10542"/>
                </a:moveTo>
                <a:cubicBezTo>
                  <a:pt x="9431" y="10621"/>
                  <a:pt x="9411" y="10712"/>
                  <a:pt x="9401" y="10790"/>
                </a:cubicBezTo>
                <a:cubicBezTo>
                  <a:pt x="9392" y="10860"/>
                  <a:pt x="9405" y="10949"/>
                  <a:pt x="9426" y="11013"/>
                </a:cubicBezTo>
                <a:cubicBezTo>
                  <a:pt x="9446" y="11073"/>
                  <a:pt x="9538" y="11123"/>
                  <a:pt x="9599" y="11137"/>
                </a:cubicBezTo>
                <a:cubicBezTo>
                  <a:pt x="9677" y="11137"/>
                  <a:pt x="9719" y="11127"/>
                  <a:pt x="9773" y="11088"/>
                </a:cubicBezTo>
              </a:path>
              <a:path w="10344" h="2928">
                <a:moveTo>
                  <a:pt x="9847" y="10319"/>
                </a:moveTo>
                <a:cubicBezTo>
                  <a:pt x="9823" y="10510"/>
                  <a:pt x="9785" y="10696"/>
                  <a:pt x="9798" y="10889"/>
                </a:cubicBezTo>
                <a:cubicBezTo>
                  <a:pt x="9812" y="11096"/>
                  <a:pt x="9842" y="11303"/>
                  <a:pt x="9847" y="11509"/>
                </a:cubicBezTo>
                <a:cubicBezTo>
                  <a:pt x="9849" y="11584"/>
                  <a:pt x="9813" y="11740"/>
                  <a:pt x="9823" y="11807"/>
                </a:cubicBezTo>
                <a:cubicBezTo>
                  <a:pt x="9831" y="11815"/>
                  <a:pt x="9839" y="11824"/>
                  <a:pt x="9847" y="11832"/>
                </a:cubicBezTo>
              </a:path>
              <a:path w="10344" h="2928">
                <a:moveTo>
                  <a:pt x="10145" y="10988"/>
                </a:moveTo>
                <a:cubicBezTo>
                  <a:pt x="10318" y="10939"/>
                  <a:pt x="10372" y="10944"/>
                  <a:pt x="10542" y="10964"/>
                </a:cubicBezTo>
                <a:cubicBezTo>
                  <a:pt x="10601" y="10964"/>
                  <a:pt x="10627" y="10967"/>
                  <a:pt x="10666" y="10988"/>
                </a:cubicBezTo>
              </a:path>
              <a:path w="10344" h="2928">
                <a:moveTo>
                  <a:pt x="10244" y="11261"/>
                </a:moveTo>
                <a:cubicBezTo>
                  <a:pt x="10384" y="11331"/>
                  <a:pt x="10507" y="11328"/>
                  <a:pt x="10666" y="11311"/>
                </a:cubicBezTo>
              </a:path>
              <a:path w="10344" h="2928">
                <a:moveTo>
                  <a:pt x="11088" y="10616"/>
                </a:moveTo>
                <a:cubicBezTo>
                  <a:pt x="11179" y="10529"/>
                  <a:pt x="11270" y="10379"/>
                  <a:pt x="11410" y="10443"/>
                </a:cubicBezTo>
                <a:cubicBezTo>
                  <a:pt x="11526" y="10496"/>
                  <a:pt x="11636" y="10618"/>
                  <a:pt x="11658" y="10740"/>
                </a:cubicBezTo>
                <a:cubicBezTo>
                  <a:pt x="11710" y="11025"/>
                  <a:pt x="11636" y="11059"/>
                  <a:pt x="11534" y="11286"/>
                </a:cubicBezTo>
                <a:cubicBezTo>
                  <a:pt x="11485" y="11394"/>
                  <a:pt x="11400" y="11517"/>
                  <a:pt x="11286" y="11584"/>
                </a:cubicBezTo>
                <a:cubicBezTo>
                  <a:pt x="11219" y="11623"/>
                  <a:pt x="11150" y="11646"/>
                  <a:pt x="11088" y="11609"/>
                </a:cubicBezTo>
                <a:cubicBezTo>
                  <a:pt x="11088" y="11523"/>
                  <a:pt x="11082" y="11435"/>
                  <a:pt x="11137" y="11361"/>
                </a:cubicBezTo>
                <a:cubicBezTo>
                  <a:pt x="11201" y="11275"/>
                  <a:pt x="11287" y="11305"/>
                  <a:pt x="11361" y="11361"/>
                </a:cubicBezTo>
                <a:cubicBezTo>
                  <a:pt x="11434" y="11417"/>
                  <a:pt x="11533" y="11597"/>
                  <a:pt x="11633" y="11584"/>
                </a:cubicBezTo>
                <a:cubicBezTo>
                  <a:pt x="11658" y="11576"/>
                  <a:pt x="11683" y="11567"/>
                  <a:pt x="11708" y="11559"/>
                </a:cubicBezTo>
              </a:path>
              <a:path w="10344" h="2928">
                <a:moveTo>
                  <a:pt x="11956" y="10517"/>
                </a:moveTo>
                <a:cubicBezTo>
                  <a:pt x="11930" y="10635"/>
                  <a:pt x="11887" y="10771"/>
                  <a:pt x="11931" y="10889"/>
                </a:cubicBezTo>
                <a:cubicBezTo>
                  <a:pt x="11963" y="10976"/>
                  <a:pt x="12053" y="11091"/>
                  <a:pt x="12129" y="11137"/>
                </a:cubicBezTo>
                <a:cubicBezTo>
                  <a:pt x="12169" y="11162"/>
                  <a:pt x="12210" y="11178"/>
                  <a:pt x="12254" y="11187"/>
                </a:cubicBezTo>
              </a:path>
              <a:path w="10344" h="2928">
                <a:moveTo>
                  <a:pt x="12402" y="10393"/>
                </a:moveTo>
                <a:cubicBezTo>
                  <a:pt x="12375" y="10534"/>
                  <a:pt x="12356" y="10671"/>
                  <a:pt x="12353" y="10815"/>
                </a:cubicBezTo>
                <a:cubicBezTo>
                  <a:pt x="12347" y="11069"/>
                  <a:pt x="12235" y="11772"/>
                  <a:pt x="12378" y="12005"/>
                </a:cubicBezTo>
              </a:path>
              <a:path w="10344" h="2928">
                <a:moveTo>
                  <a:pt x="12849" y="11336"/>
                </a:moveTo>
                <a:cubicBezTo>
                  <a:pt x="12849" y="11240"/>
                  <a:pt x="12851" y="11209"/>
                  <a:pt x="12799" y="11162"/>
                </a:cubicBezTo>
                <a:cubicBezTo>
                  <a:pt x="12726" y="11162"/>
                  <a:pt x="12656" y="11154"/>
                  <a:pt x="12601" y="11212"/>
                </a:cubicBezTo>
                <a:cubicBezTo>
                  <a:pt x="12480" y="11341"/>
                  <a:pt x="12467" y="11437"/>
                  <a:pt x="12576" y="11559"/>
                </a:cubicBezTo>
                <a:cubicBezTo>
                  <a:pt x="12640" y="11630"/>
                  <a:pt x="12662" y="11700"/>
                  <a:pt x="12774" y="11683"/>
                </a:cubicBezTo>
                <a:cubicBezTo>
                  <a:pt x="12848" y="11671"/>
                  <a:pt x="12892" y="11581"/>
                  <a:pt x="12923" y="11509"/>
                </a:cubicBezTo>
                <a:cubicBezTo>
                  <a:pt x="12963" y="11418"/>
                  <a:pt x="12934" y="11428"/>
                  <a:pt x="12923" y="11361"/>
                </a:cubicBezTo>
                <a:cubicBezTo>
                  <a:pt x="12899" y="11381"/>
                  <a:pt x="12867" y="11410"/>
                  <a:pt x="12849" y="11509"/>
                </a:cubicBezTo>
                <a:cubicBezTo>
                  <a:pt x="12817" y="11691"/>
                  <a:pt x="12831" y="11871"/>
                  <a:pt x="12849" y="12055"/>
                </a:cubicBezTo>
                <a:cubicBezTo>
                  <a:pt x="12868" y="12254"/>
                  <a:pt x="12884" y="12428"/>
                  <a:pt x="12849" y="12626"/>
                </a:cubicBezTo>
                <a:cubicBezTo>
                  <a:pt x="12830" y="12733"/>
                  <a:pt x="12817" y="12863"/>
                  <a:pt x="12725" y="12923"/>
                </a:cubicBezTo>
                <a:cubicBezTo>
                  <a:pt x="12616" y="12994"/>
                  <a:pt x="12439" y="12816"/>
                  <a:pt x="12378" y="12725"/>
                </a:cubicBezTo>
                <a:cubicBezTo>
                  <a:pt x="12290" y="12594"/>
                  <a:pt x="12269" y="12474"/>
                  <a:pt x="12303" y="12328"/>
                </a:cubicBezTo>
              </a:path>
              <a:path w="10344" h="2928">
                <a:moveTo>
                  <a:pt x="13543" y="10914"/>
                </a:moveTo>
                <a:cubicBezTo>
                  <a:pt x="13536" y="11076"/>
                  <a:pt x="13498" y="11248"/>
                  <a:pt x="13519" y="11410"/>
                </a:cubicBezTo>
                <a:cubicBezTo>
                  <a:pt x="13534" y="11525"/>
                  <a:pt x="13583" y="11691"/>
                  <a:pt x="13543" y="11807"/>
                </a:cubicBezTo>
                <a:cubicBezTo>
                  <a:pt x="13535" y="11815"/>
                  <a:pt x="13527" y="11824"/>
                  <a:pt x="13519" y="11832"/>
                </a:cubicBezTo>
              </a:path>
              <a:path w="10344" h="2928">
                <a:moveTo>
                  <a:pt x="13271" y="11385"/>
                </a:moveTo>
                <a:cubicBezTo>
                  <a:pt x="13424" y="11392"/>
                  <a:pt x="13543" y="11415"/>
                  <a:pt x="13692" y="11385"/>
                </a:cubicBezTo>
              </a:path>
              <a:path w="10344" h="2928">
                <a:moveTo>
                  <a:pt x="14238" y="10716"/>
                </a:moveTo>
                <a:cubicBezTo>
                  <a:pt x="14338" y="10705"/>
                  <a:pt x="14544" y="10686"/>
                  <a:pt x="14635" y="10765"/>
                </a:cubicBezTo>
                <a:cubicBezTo>
                  <a:pt x="14783" y="10893"/>
                  <a:pt x="14913" y="11082"/>
                  <a:pt x="14908" y="11286"/>
                </a:cubicBezTo>
                <a:cubicBezTo>
                  <a:pt x="14904" y="11445"/>
                  <a:pt x="14827" y="11582"/>
                  <a:pt x="14709" y="11683"/>
                </a:cubicBezTo>
                <a:cubicBezTo>
                  <a:pt x="14637" y="11745"/>
                  <a:pt x="14529" y="11824"/>
                  <a:pt x="14436" y="11832"/>
                </a:cubicBezTo>
                <a:cubicBezTo>
                  <a:pt x="14327" y="11841"/>
                  <a:pt x="14293" y="11774"/>
                  <a:pt x="14263" y="11683"/>
                </a:cubicBezTo>
                <a:cubicBezTo>
                  <a:pt x="14316" y="11619"/>
                  <a:pt x="14413" y="11609"/>
                  <a:pt x="14511" y="11633"/>
                </a:cubicBezTo>
                <a:cubicBezTo>
                  <a:pt x="14685" y="11675"/>
                  <a:pt x="14875" y="11749"/>
                  <a:pt x="15032" y="11832"/>
                </a:cubicBezTo>
                <a:cubicBezTo>
                  <a:pt x="15141" y="11889"/>
                  <a:pt x="15248" y="11945"/>
                  <a:pt x="15354" y="120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Ink 8"/>
          <p:cNvSpPr/>
          <p:nvPr/>
        </p:nvSpPr>
        <p:spPr>
          <a:xfrm>
            <a:off x="1500120" y="3660840"/>
            <a:ext cx="1036800" cy="1332000"/>
          </a:xfrm>
          <a:custGeom>
            <a:avLst/>
            <a:gdLst/>
            <a:ahLst/>
            <a:rect l="l" t="t" r="r" b="b"/>
            <a:pathLst>
              <a:path w="2879" h="3697">
                <a:moveTo>
                  <a:pt x="4167" y="12204"/>
                </a:moveTo>
                <a:cubicBezTo>
                  <a:pt x="4310" y="12168"/>
                  <a:pt x="4446" y="12156"/>
                  <a:pt x="4589" y="12129"/>
                </a:cubicBezTo>
                <a:cubicBezTo>
                  <a:pt x="4697" y="12108"/>
                  <a:pt x="4723" y="12105"/>
                  <a:pt x="4787" y="12080"/>
                </a:cubicBezTo>
              </a:path>
              <a:path w="2879" h="3697">
                <a:moveTo>
                  <a:pt x="5035" y="11757"/>
                </a:moveTo>
                <a:cubicBezTo>
                  <a:pt x="5202" y="11727"/>
                  <a:pt x="5331" y="11724"/>
                  <a:pt x="5457" y="11881"/>
                </a:cubicBezTo>
                <a:cubicBezTo>
                  <a:pt x="5563" y="12013"/>
                  <a:pt x="5610" y="12220"/>
                  <a:pt x="5556" y="12378"/>
                </a:cubicBezTo>
                <a:cubicBezTo>
                  <a:pt x="5517" y="12493"/>
                  <a:pt x="5330" y="12605"/>
                  <a:pt x="5234" y="12650"/>
                </a:cubicBezTo>
                <a:cubicBezTo>
                  <a:pt x="5149" y="12690"/>
                  <a:pt x="5022" y="12724"/>
                  <a:pt x="4936" y="12675"/>
                </a:cubicBezTo>
                <a:cubicBezTo>
                  <a:pt x="4876" y="12640"/>
                  <a:pt x="4876" y="12563"/>
                  <a:pt x="4887" y="12502"/>
                </a:cubicBezTo>
                <a:cubicBezTo>
                  <a:pt x="4907" y="12394"/>
                  <a:pt x="4982" y="12354"/>
                  <a:pt x="5085" y="12402"/>
                </a:cubicBezTo>
                <a:cubicBezTo>
                  <a:pt x="5198" y="12454"/>
                  <a:pt x="5333" y="12552"/>
                  <a:pt x="5432" y="12626"/>
                </a:cubicBezTo>
                <a:cubicBezTo>
                  <a:pt x="5483" y="12676"/>
                  <a:pt x="5501" y="12692"/>
                  <a:pt x="5556" y="12675"/>
                </a:cubicBezTo>
              </a:path>
              <a:path w="2879" h="3697">
                <a:moveTo>
                  <a:pt x="5854" y="11807"/>
                </a:moveTo>
                <a:cubicBezTo>
                  <a:pt x="6057" y="11822"/>
                  <a:pt x="6184" y="11813"/>
                  <a:pt x="6251" y="12030"/>
                </a:cubicBezTo>
                <a:cubicBezTo>
                  <a:pt x="6305" y="12207"/>
                  <a:pt x="6319" y="12364"/>
                  <a:pt x="6176" y="12502"/>
                </a:cubicBezTo>
                <a:cubicBezTo>
                  <a:pt x="6091" y="12584"/>
                  <a:pt x="5949" y="12698"/>
                  <a:pt x="5829" y="12725"/>
                </a:cubicBezTo>
                <a:cubicBezTo>
                  <a:pt x="5784" y="12725"/>
                  <a:pt x="5771" y="12729"/>
                  <a:pt x="5755" y="12700"/>
                </a:cubicBezTo>
                <a:cubicBezTo>
                  <a:pt x="5725" y="12651"/>
                  <a:pt x="5726" y="12597"/>
                  <a:pt x="5779" y="12551"/>
                </a:cubicBezTo>
                <a:cubicBezTo>
                  <a:pt x="5839" y="12499"/>
                  <a:pt x="5961" y="12474"/>
                  <a:pt x="6028" y="12526"/>
                </a:cubicBezTo>
                <a:cubicBezTo>
                  <a:pt x="6088" y="12572"/>
                  <a:pt x="6174" y="12660"/>
                  <a:pt x="6226" y="12725"/>
                </a:cubicBezTo>
                <a:cubicBezTo>
                  <a:pt x="6266" y="12784"/>
                  <a:pt x="6270" y="12795"/>
                  <a:pt x="6300" y="12824"/>
                </a:cubicBezTo>
              </a:path>
              <a:path w="2879" h="3697">
                <a:moveTo>
                  <a:pt x="6821" y="12378"/>
                </a:moveTo>
                <a:cubicBezTo>
                  <a:pt x="6625" y="12385"/>
                  <a:pt x="6539" y="12354"/>
                  <a:pt x="6449" y="12526"/>
                </a:cubicBezTo>
                <a:cubicBezTo>
                  <a:pt x="6401" y="12617"/>
                  <a:pt x="6472" y="12698"/>
                  <a:pt x="6548" y="12750"/>
                </a:cubicBezTo>
                <a:cubicBezTo>
                  <a:pt x="6639" y="12813"/>
                  <a:pt x="6744" y="12816"/>
                  <a:pt x="6846" y="12774"/>
                </a:cubicBezTo>
                <a:cubicBezTo>
                  <a:pt x="6910" y="12748"/>
                  <a:pt x="6942" y="12657"/>
                  <a:pt x="6970" y="12601"/>
                </a:cubicBezTo>
                <a:cubicBezTo>
                  <a:pt x="6994" y="12553"/>
                  <a:pt x="7002" y="12539"/>
                  <a:pt x="6995" y="12502"/>
                </a:cubicBezTo>
                <a:cubicBezTo>
                  <a:pt x="6978" y="12657"/>
                  <a:pt x="6972" y="12757"/>
                  <a:pt x="6995" y="12923"/>
                </a:cubicBezTo>
                <a:cubicBezTo>
                  <a:pt x="7019" y="13096"/>
                  <a:pt x="7061" y="13294"/>
                  <a:pt x="7045" y="13469"/>
                </a:cubicBezTo>
                <a:cubicBezTo>
                  <a:pt x="7034" y="13583"/>
                  <a:pt x="6995" y="13722"/>
                  <a:pt x="6896" y="13791"/>
                </a:cubicBezTo>
                <a:cubicBezTo>
                  <a:pt x="6781" y="13872"/>
                  <a:pt x="6630" y="13895"/>
                  <a:pt x="6499" y="13841"/>
                </a:cubicBezTo>
                <a:cubicBezTo>
                  <a:pt x="6308" y="13763"/>
                  <a:pt x="6346" y="13586"/>
                  <a:pt x="6400" y="13444"/>
                </a:cubicBezTo>
              </a:path>
              <a:path w="2879" h="3697">
                <a:moveTo>
                  <a:pt x="6697" y="10170"/>
                </a:moveTo>
                <a:cubicBezTo>
                  <a:pt x="6617" y="10377"/>
                  <a:pt x="6489" y="10588"/>
                  <a:pt x="6424" y="10790"/>
                </a:cubicBezTo>
                <a:cubicBezTo>
                  <a:pt x="6348" y="11025"/>
                  <a:pt x="6289" y="11273"/>
                  <a:pt x="6201" y="11509"/>
                </a:cubicBezTo>
                <a:cubicBezTo>
                  <a:pt x="6110" y="11753"/>
                  <a:pt x="6008" y="11992"/>
                  <a:pt x="5904" y="12229"/>
                </a:cubicBezTo>
                <a:cubicBezTo>
                  <a:pt x="5812" y="12438"/>
                  <a:pt x="5745" y="12656"/>
                  <a:pt x="5680" y="12874"/>
                </a:cubicBezTo>
                <a:cubicBezTo>
                  <a:pt x="5646" y="12989"/>
                  <a:pt x="5652" y="12992"/>
                  <a:pt x="5705" y="130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Ink 9"/>
          <p:cNvSpPr/>
          <p:nvPr/>
        </p:nvSpPr>
        <p:spPr>
          <a:xfrm>
            <a:off x="3625920" y="4394160"/>
            <a:ext cx="1098360" cy="766800"/>
          </a:xfrm>
          <a:custGeom>
            <a:avLst/>
            <a:gdLst/>
            <a:ahLst/>
            <a:rect l="l" t="t" r="r" b="b"/>
            <a:pathLst>
              <a:path w="3052" h="2134">
                <a:moveTo>
                  <a:pt x="10071" y="12675"/>
                </a:moveTo>
                <a:cubicBezTo>
                  <a:pt x="10263" y="12683"/>
                  <a:pt x="10453" y="12695"/>
                  <a:pt x="10641" y="12725"/>
                </a:cubicBezTo>
              </a:path>
              <a:path w="3052" h="2134">
                <a:moveTo>
                  <a:pt x="11286" y="12204"/>
                </a:moveTo>
                <a:cubicBezTo>
                  <a:pt x="11450" y="12213"/>
                  <a:pt x="11523" y="12221"/>
                  <a:pt x="11609" y="12378"/>
                </a:cubicBezTo>
                <a:cubicBezTo>
                  <a:pt x="11703" y="12550"/>
                  <a:pt x="11609" y="12690"/>
                  <a:pt x="11534" y="12849"/>
                </a:cubicBezTo>
                <a:cubicBezTo>
                  <a:pt x="11491" y="12939"/>
                  <a:pt x="11366" y="13092"/>
                  <a:pt x="11261" y="13122"/>
                </a:cubicBezTo>
                <a:cubicBezTo>
                  <a:pt x="11194" y="13141"/>
                  <a:pt x="11094" y="13152"/>
                  <a:pt x="11038" y="13122"/>
                </a:cubicBezTo>
                <a:cubicBezTo>
                  <a:pt x="10957" y="13079"/>
                  <a:pt x="10930" y="12966"/>
                  <a:pt x="10964" y="12874"/>
                </a:cubicBezTo>
                <a:cubicBezTo>
                  <a:pt x="10994" y="12791"/>
                  <a:pt x="11103" y="12781"/>
                  <a:pt x="11162" y="12799"/>
                </a:cubicBezTo>
                <a:cubicBezTo>
                  <a:pt x="11276" y="12834"/>
                  <a:pt x="11411" y="13066"/>
                  <a:pt x="11485" y="13146"/>
                </a:cubicBezTo>
                <a:cubicBezTo>
                  <a:pt x="11507" y="13169"/>
                  <a:pt x="11512" y="13177"/>
                  <a:pt x="11534" y="13171"/>
                </a:cubicBezTo>
              </a:path>
              <a:path w="3052" h="2134">
                <a:moveTo>
                  <a:pt x="11733" y="12601"/>
                </a:moveTo>
                <a:cubicBezTo>
                  <a:pt x="11818" y="12448"/>
                  <a:pt x="11838" y="12340"/>
                  <a:pt x="12030" y="12353"/>
                </a:cubicBezTo>
                <a:cubicBezTo>
                  <a:pt x="12180" y="12363"/>
                  <a:pt x="12233" y="12453"/>
                  <a:pt x="12278" y="12576"/>
                </a:cubicBezTo>
                <a:cubicBezTo>
                  <a:pt x="12316" y="12680"/>
                  <a:pt x="12310" y="12823"/>
                  <a:pt x="12254" y="12923"/>
                </a:cubicBezTo>
                <a:cubicBezTo>
                  <a:pt x="12193" y="13032"/>
                  <a:pt x="12046" y="13111"/>
                  <a:pt x="11931" y="13122"/>
                </a:cubicBezTo>
                <a:cubicBezTo>
                  <a:pt x="11857" y="13129"/>
                  <a:pt x="11836" y="13087"/>
                  <a:pt x="11832" y="13022"/>
                </a:cubicBezTo>
                <a:cubicBezTo>
                  <a:pt x="11832" y="12973"/>
                  <a:pt x="11832" y="12956"/>
                  <a:pt x="11832" y="12923"/>
                </a:cubicBezTo>
                <a:cubicBezTo>
                  <a:pt x="11893" y="12886"/>
                  <a:pt x="11985" y="12882"/>
                  <a:pt x="12055" y="12923"/>
                </a:cubicBezTo>
                <a:cubicBezTo>
                  <a:pt x="12188" y="13002"/>
                  <a:pt x="12203" y="13142"/>
                  <a:pt x="12303" y="13246"/>
                </a:cubicBezTo>
                <a:cubicBezTo>
                  <a:pt x="12328" y="13262"/>
                  <a:pt x="12353" y="13279"/>
                  <a:pt x="12378" y="13295"/>
                </a:cubicBezTo>
              </a:path>
              <a:path w="3052" h="2134">
                <a:moveTo>
                  <a:pt x="12948" y="12948"/>
                </a:moveTo>
                <a:cubicBezTo>
                  <a:pt x="12926" y="12866"/>
                  <a:pt x="12909" y="12719"/>
                  <a:pt x="12774" y="12725"/>
                </a:cubicBezTo>
                <a:cubicBezTo>
                  <a:pt x="12698" y="12728"/>
                  <a:pt x="12600" y="12771"/>
                  <a:pt x="12576" y="12849"/>
                </a:cubicBezTo>
                <a:cubicBezTo>
                  <a:pt x="12554" y="12921"/>
                  <a:pt x="12642" y="13089"/>
                  <a:pt x="12700" y="13122"/>
                </a:cubicBezTo>
                <a:cubicBezTo>
                  <a:pt x="12755" y="13153"/>
                  <a:pt x="12889" y="13138"/>
                  <a:pt x="12948" y="13122"/>
                </a:cubicBezTo>
                <a:cubicBezTo>
                  <a:pt x="13043" y="13096"/>
                  <a:pt x="13035" y="13062"/>
                  <a:pt x="13122" y="13072"/>
                </a:cubicBezTo>
                <a:cubicBezTo>
                  <a:pt x="13071" y="13242"/>
                  <a:pt x="13052" y="13433"/>
                  <a:pt x="12973" y="13593"/>
                </a:cubicBezTo>
                <a:cubicBezTo>
                  <a:pt x="12881" y="13780"/>
                  <a:pt x="12817" y="13931"/>
                  <a:pt x="12700" y="14089"/>
                </a:cubicBezTo>
                <a:cubicBezTo>
                  <a:pt x="12603" y="14220"/>
                  <a:pt x="12516" y="14343"/>
                  <a:pt x="12328" y="14337"/>
                </a:cubicBezTo>
                <a:cubicBezTo>
                  <a:pt x="12080" y="14330"/>
                  <a:pt x="11897" y="14055"/>
                  <a:pt x="11757" y="138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Ink 10"/>
          <p:cNvSpPr/>
          <p:nvPr/>
        </p:nvSpPr>
        <p:spPr>
          <a:xfrm>
            <a:off x="2982960" y="4894200"/>
            <a:ext cx="1295280" cy="731880"/>
          </a:xfrm>
          <a:custGeom>
            <a:avLst/>
            <a:gdLst/>
            <a:ahLst/>
            <a:rect l="l" t="t" r="r" b="b"/>
            <a:pathLst>
              <a:path w="3597" h="2035">
                <a:moveTo>
                  <a:pt x="8285" y="13667"/>
                </a:moveTo>
                <a:cubicBezTo>
                  <a:pt x="8381" y="13611"/>
                  <a:pt x="8465" y="13649"/>
                  <a:pt x="8558" y="13717"/>
                </a:cubicBezTo>
                <a:cubicBezTo>
                  <a:pt x="8633" y="13771"/>
                  <a:pt x="8736" y="13888"/>
                  <a:pt x="8731" y="13990"/>
                </a:cubicBezTo>
                <a:cubicBezTo>
                  <a:pt x="8729" y="14037"/>
                  <a:pt x="8642" y="14166"/>
                  <a:pt x="8607" y="14188"/>
                </a:cubicBezTo>
                <a:cubicBezTo>
                  <a:pt x="8515" y="14247"/>
                  <a:pt x="8422" y="14290"/>
                  <a:pt x="8334" y="14362"/>
                </a:cubicBezTo>
                <a:cubicBezTo>
                  <a:pt x="8271" y="14414"/>
                  <a:pt x="8264" y="14499"/>
                  <a:pt x="8310" y="14560"/>
                </a:cubicBezTo>
                <a:cubicBezTo>
                  <a:pt x="8366" y="14634"/>
                  <a:pt x="8542" y="14685"/>
                  <a:pt x="8632" y="14660"/>
                </a:cubicBezTo>
                <a:cubicBezTo>
                  <a:pt x="8712" y="14606"/>
                  <a:pt x="8744" y="14586"/>
                  <a:pt x="8806" y="14560"/>
                </a:cubicBezTo>
              </a:path>
              <a:path w="3597" h="2035">
                <a:moveTo>
                  <a:pt x="9178" y="13767"/>
                </a:moveTo>
                <a:cubicBezTo>
                  <a:pt x="9127" y="13862"/>
                  <a:pt x="9054" y="13956"/>
                  <a:pt x="9128" y="14064"/>
                </a:cubicBezTo>
                <a:cubicBezTo>
                  <a:pt x="9153" y="14100"/>
                  <a:pt x="9228" y="14238"/>
                  <a:pt x="9277" y="14238"/>
                </a:cubicBezTo>
                <a:cubicBezTo>
                  <a:pt x="9302" y="14230"/>
                  <a:pt x="9326" y="14221"/>
                  <a:pt x="9351" y="14213"/>
                </a:cubicBezTo>
              </a:path>
              <a:path w="3597" h="2035">
                <a:moveTo>
                  <a:pt x="9525" y="13593"/>
                </a:moveTo>
                <a:cubicBezTo>
                  <a:pt x="9487" y="13716"/>
                  <a:pt x="9457" y="13840"/>
                  <a:pt x="9426" y="13965"/>
                </a:cubicBezTo>
                <a:cubicBezTo>
                  <a:pt x="9379" y="14150"/>
                  <a:pt x="9342" y="14325"/>
                  <a:pt x="9302" y="14511"/>
                </a:cubicBezTo>
                <a:cubicBezTo>
                  <a:pt x="9284" y="14597"/>
                  <a:pt x="9277" y="14670"/>
                  <a:pt x="9277" y="14759"/>
                </a:cubicBezTo>
              </a:path>
              <a:path w="3597" h="2035">
                <a:moveTo>
                  <a:pt x="9847" y="14064"/>
                </a:moveTo>
                <a:cubicBezTo>
                  <a:pt x="9913" y="14064"/>
                  <a:pt x="9980" y="14064"/>
                  <a:pt x="10046" y="14064"/>
                </a:cubicBezTo>
              </a:path>
              <a:path w="3597" h="2035">
                <a:moveTo>
                  <a:pt x="9674" y="14288"/>
                </a:moveTo>
                <a:cubicBezTo>
                  <a:pt x="9806" y="14408"/>
                  <a:pt x="9810" y="14390"/>
                  <a:pt x="9996" y="14362"/>
                </a:cubicBezTo>
              </a:path>
              <a:path w="3597" h="2035">
                <a:moveTo>
                  <a:pt x="10368" y="13866"/>
                </a:moveTo>
                <a:cubicBezTo>
                  <a:pt x="10437" y="13826"/>
                  <a:pt x="10594" y="13737"/>
                  <a:pt x="10666" y="13841"/>
                </a:cubicBezTo>
                <a:cubicBezTo>
                  <a:pt x="10806" y="14045"/>
                  <a:pt x="10688" y="14104"/>
                  <a:pt x="10567" y="14263"/>
                </a:cubicBezTo>
                <a:cubicBezTo>
                  <a:pt x="10504" y="14346"/>
                  <a:pt x="10418" y="14394"/>
                  <a:pt x="10368" y="14486"/>
                </a:cubicBezTo>
                <a:cubicBezTo>
                  <a:pt x="10341" y="14536"/>
                  <a:pt x="10312" y="14666"/>
                  <a:pt x="10368" y="14709"/>
                </a:cubicBezTo>
                <a:cubicBezTo>
                  <a:pt x="10457" y="14778"/>
                  <a:pt x="10570" y="14755"/>
                  <a:pt x="10666" y="14734"/>
                </a:cubicBezTo>
              </a:path>
              <a:path w="3597" h="2035">
                <a:moveTo>
                  <a:pt x="11063" y="14213"/>
                </a:moveTo>
                <a:cubicBezTo>
                  <a:pt x="10859" y="14220"/>
                  <a:pt x="10799" y="14171"/>
                  <a:pt x="10716" y="14337"/>
                </a:cubicBezTo>
                <a:cubicBezTo>
                  <a:pt x="10677" y="14415"/>
                  <a:pt x="10685" y="14490"/>
                  <a:pt x="10740" y="14560"/>
                </a:cubicBezTo>
                <a:cubicBezTo>
                  <a:pt x="10787" y="14620"/>
                  <a:pt x="10885" y="14680"/>
                  <a:pt x="10964" y="14660"/>
                </a:cubicBezTo>
                <a:cubicBezTo>
                  <a:pt x="11004" y="14650"/>
                  <a:pt x="11076" y="14604"/>
                  <a:pt x="11112" y="14585"/>
                </a:cubicBezTo>
                <a:cubicBezTo>
                  <a:pt x="11173" y="14552"/>
                  <a:pt x="11202" y="14495"/>
                  <a:pt x="11237" y="14436"/>
                </a:cubicBezTo>
                <a:cubicBezTo>
                  <a:pt x="11260" y="14388"/>
                  <a:pt x="11268" y="14374"/>
                  <a:pt x="11261" y="14337"/>
                </a:cubicBezTo>
                <a:cubicBezTo>
                  <a:pt x="11213" y="14448"/>
                  <a:pt x="11229" y="14519"/>
                  <a:pt x="11212" y="14635"/>
                </a:cubicBezTo>
                <a:cubicBezTo>
                  <a:pt x="11187" y="14809"/>
                  <a:pt x="11204" y="14980"/>
                  <a:pt x="11187" y="15156"/>
                </a:cubicBezTo>
                <a:cubicBezTo>
                  <a:pt x="11177" y="15265"/>
                  <a:pt x="11157" y="15479"/>
                  <a:pt x="11063" y="15553"/>
                </a:cubicBezTo>
                <a:cubicBezTo>
                  <a:pt x="10892" y="15687"/>
                  <a:pt x="10807" y="15607"/>
                  <a:pt x="10641" y="15503"/>
                </a:cubicBezTo>
                <a:cubicBezTo>
                  <a:pt x="10561" y="15453"/>
                  <a:pt x="10478" y="15372"/>
                  <a:pt x="10468" y="15280"/>
                </a:cubicBezTo>
                <a:cubicBezTo>
                  <a:pt x="10459" y="15199"/>
                  <a:pt x="10519" y="15160"/>
                  <a:pt x="10567" y="15106"/>
                </a:cubicBezTo>
              </a:path>
              <a:path w="3597" h="2035">
                <a:moveTo>
                  <a:pt x="11733" y="14263"/>
                </a:moveTo>
                <a:cubicBezTo>
                  <a:pt x="11733" y="14409"/>
                  <a:pt x="11738" y="14543"/>
                  <a:pt x="11757" y="14684"/>
                </a:cubicBezTo>
                <a:cubicBezTo>
                  <a:pt x="11757" y="14701"/>
                  <a:pt x="11757" y="14717"/>
                  <a:pt x="11757" y="14734"/>
                </a:cubicBezTo>
              </a:path>
              <a:path w="3597" h="2035">
                <a:moveTo>
                  <a:pt x="11609" y="14412"/>
                </a:moveTo>
                <a:cubicBezTo>
                  <a:pt x="11710" y="14448"/>
                  <a:pt x="11797" y="14476"/>
                  <a:pt x="11881" y="145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Ink 11"/>
          <p:cNvSpPr/>
          <p:nvPr/>
        </p:nvSpPr>
        <p:spPr>
          <a:xfrm>
            <a:off x="4491000" y="5116680"/>
            <a:ext cx="223920" cy="27756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12576" y="14213"/>
                </a:moveTo>
                <a:cubicBezTo>
                  <a:pt x="12802" y="14222"/>
                  <a:pt x="12845" y="14217"/>
                  <a:pt x="12973" y="14412"/>
                </a:cubicBezTo>
                <a:cubicBezTo>
                  <a:pt x="13055" y="14537"/>
                  <a:pt x="12966" y="14595"/>
                  <a:pt x="12898" y="14684"/>
                </a:cubicBezTo>
                <a:cubicBezTo>
                  <a:pt x="12838" y="14762"/>
                  <a:pt x="12742" y="14849"/>
                  <a:pt x="12650" y="14883"/>
                </a:cubicBezTo>
                <a:cubicBezTo>
                  <a:pt x="12607" y="14899"/>
                  <a:pt x="12496" y="14885"/>
                  <a:pt x="12477" y="14833"/>
                </a:cubicBezTo>
                <a:cubicBezTo>
                  <a:pt x="12477" y="14817"/>
                  <a:pt x="12477" y="14800"/>
                  <a:pt x="12477" y="14784"/>
                </a:cubicBezTo>
                <a:cubicBezTo>
                  <a:pt x="12557" y="14703"/>
                  <a:pt x="12641" y="14733"/>
                  <a:pt x="12750" y="14759"/>
                </a:cubicBezTo>
                <a:cubicBezTo>
                  <a:pt x="12866" y="14787"/>
                  <a:pt x="12944" y="14898"/>
                  <a:pt x="13047" y="14957"/>
                </a:cubicBezTo>
                <a:cubicBezTo>
                  <a:pt x="13064" y="14965"/>
                  <a:pt x="13080" y="14974"/>
                  <a:pt x="13097" y="149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Ink 12"/>
          <p:cNvSpPr/>
          <p:nvPr/>
        </p:nvSpPr>
        <p:spPr>
          <a:xfrm>
            <a:off x="3106800" y="5562720"/>
            <a:ext cx="1100160" cy="492120"/>
          </a:xfrm>
          <a:custGeom>
            <a:avLst/>
            <a:gdLst/>
            <a:ahLst/>
            <a:rect l="l" t="t" r="r" b="b"/>
            <a:pathLst>
              <a:path w="3052" h="1366">
                <a:moveTo>
                  <a:pt x="8657" y="15553"/>
                </a:moveTo>
                <a:cubicBezTo>
                  <a:pt x="8668" y="15479"/>
                  <a:pt x="8725" y="15444"/>
                  <a:pt x="8806" y="15453"/>
                </a:cubicBezTo>
                <a:cubicBezTo>
                  <a:pt x="8885" y="15461"/>
                  <a:pt x="9001" y="15482"/>
                  <a:pt x="9054" y="15553"/>
                </a:cubicBezTo>
                <a:cubicBezTo>
                  <a:pt x="9153" y="15686"/>
                  <a:pt x="9169" y="15795"/>
                  <a:pt x="9128" y="15949"/>
                </a:cubicBezTo>
                <a:cubicBezTo>
                  <a:pt x="9080" y="16129"/>
                  <a:pt x="9034" y="16131"/>
                  <a:pt x="8880" y="16173"/>
                </a:cubicBezTo>
                <a:cubicBezTo>
                  <a:pt x="8766" y="16204"/>
                  <a:pt x="8747" y="16223"/>
                  <a:pt x="8632" y="16173"/>
                </a:cubicBezTo>
                <a:cubicBezTo>
                  <a:pt x="8645" y="16093"/>
                  <a:pt x="8642" y="16039"/>
                  <a:pt x="8706" y="15999"/>
                </a:cubicBezTo>
                <a:cubicBezTo>
                  <a:pt x="8782" y="15951"/>
                  <a:pt x="8838" y="15979"/>
                  <a:pt x="8905" y="16024"/>
                </a:cubicBezTo>
                <a:cubicBezTo>
                  <a:pt x="8984" y="16077"/>
                  <a:pt x="9009" y="16162"/>
                  <a:pt x="9103" y="16173"/>
                </a:cubicBezTo>
                <a:cubicBezTo>
                  <a:pt x="9120" y="16173"/>
                  <a:pt x="9136" y="16173"/>
                  <a:pt x="9153" y="16173"/>
                </a:cubicBezTo>
              </a:path>
              <a:path w="3052" h="1366">
                <a:moveTo>
                  <a:pt x="9451" y="15577"/>
                </a:moveTo>
                <a:cubicBezTo>
                  <a:pt x="9560" y="15505"/>
                  <a:pt x="9573" y="15527"/>
                  <a:pt x="9674" y="15602"/>
                </a:cubicBezTo>
                <a:cubicBezTo>
                  <a:pt x="9810" y="15703"/>
                  <a:pt x="9836" y="15788"/>
                  <a:pt x="9748" y="15949"/>
                </a:cubicBezTo>
                <a:cubicBezTo>
                  <a:pt x="9732" y="15966"/>
                  <a:pt x="9715" y="15982"/>
                  <a:pt x="9699" y="15999"/>
                </a:cubicBezTo>
              </a:path>
              <a:path w="3052" h="1366">
                <a:moveTo>
                  <a:pt x="9575" y="16073"/>
                </a:moveTo>
                <a:cubicBezTo>
                  <a:pt x="9461" y="16073"/>
                  <a:pt x="9420" y="16083"/>
                  <a:pt x="9327" y="16049"/>
                </a:cubicBezTo>
                <a:cubicBezTo>
                  <a:pt x="9375" y="15990"/>
                  <a:pt x="9435" y="15982"/>
                  <a:pt x="9525" y="15999"/>
                </a:cubicBezTo>
                <a:cubicBezTo>
                  <a:pt x="9627" y="16019"/>
                  <a:pt x="9699" y="16103"/>
                  <a:pt x="9798" y="16123"/>
                </a:cubicBezTo>
              </a:path>
              <a:path w="3052" h="1366">
                <a:moveTo>
                  <a:pt x="10021" y="15776"/>
                </a:moveTo>
                <a:cubicBezTo>
                  <a:pt x="10131" y="15795"/>
                  <a:pt x="10215" y="15816"/>
                  <a:pt x="10319" y="15825"/>
                </a:cubicBezTo>
              </a:path>
              <a:path w="3052" h="1366">
                <a:moveTo>
                  <a:pt x="10145" y="15999"/>
                </a:moveTo>
                <a:cubicBezTo>
                  <a:pt x="10237" y="16033"/>
                  <a:pt x="10294" y="16049"/>
                  <a:pt x="10393" y="16049"/>
                </a:cubicBezTo>
              </a:path>
              <a:path w="3052" h="1366">
                <a:moveTo>
                  <a:pt x="10790" y="15701"/>
                </a:moveTo>
                <a:cubicBezTo>
                  <a:pt x="10932" y="15722"/>
                  <a:pt x="11076" y="15739"/>
                  <a:pt x="11137" y="15900"/>
                </a:cubicBezTo>
                <a:cubicBezTo>
                  <a:pt x="11169" y="15983"/>
                  <a:pt x="11179" y="16114"/>
                  <a:pt x="11088" y="16173"/>
                </a:cubicBezTo>
                <a:cubicBezTo>
                  <a:pt x="11032" y="16209"/>
                  <a:pt x="10880" y="16197"/>
                  <a:pt x="10815" y="16197"/>
                </a:cubicBezTo>
                <a:cubicBezTo>
                  <a:pt x="10750" y="16197"/>
                  <a:pt x="10727" y="16181"/>
                  <a:pt x="10666" y="16173"/>
                </a:cubicBezTo>
                <a:cubicBezTo>
                  <a:pt x="10753" y="16032"/>
                  <a:pt x="10801" y="16084"/>
                  <a:pt x="10939" y="16173"/>
                </a:cubicBezTo>
                <a:cubicBezTo>
                  <a:pt x="10986" y="16203"/>
                  <a:pt x="11020" y="16279"/>
                  <a:pt x="11063" y="16321"/>
                </a:cubicBezTo>
              </a:path>
              <a:path w="3052" h="1366">
                <a:moveTo>
                  <a:pt x="11534" y="15925"/>
                </a:moveTo>
                <a:cubicBezTo>
                  <a:pt x="11520" y="15909"/>
                  <a:pt x="11385" y="15775"/>
                  <a:pt x="11336" y="15850"/>
                </a:cubicBezTo>
                <a:cubicBezTo>
                  <a:pt x="11290" y="15921"/>
                  <a:pt x="11286" y="16025"/>
                  <a:pt x="11311" y="16098"/>
                </a:cubicBezTo>
                <a:cubicBezTo>
                  <a:pt x="11337" y="16175"/>
                  <a:pt x="11435" y="16196"/>
                  <a:pt x="11509" y="16173"/>
                </a:cubicBezTo>
                <a:cubicBezTo>
                  <a:pt x="11551" y="16160"/>
                  <a:pt x="11619" y="16079"/>
                  <a:pt x="11658" y="16049"/>
                </a:cubicBezTo>
                <a:cubicBezTo>
                  <a:pt x="11702" y="16003"/>
                  <a:pt x="11599" y="16162"/>
                  <a:pt x="11584" y="16222"/>
                </a:cubicBezTo>
                <a:cubicBezTo>
                  <a:pt x="11549" y="16364"/>
                  <a:pt x="11556" y="16576"/>
                  <a:pt x="11460" y="16694"/>
                </a:cubicBezTo>
                <a:cubicBezTo>
                  <a:pt x="11410" y="16755"/>
                  <a:pt x="11240" y="16833"/>
                  <a:pt x="11162" y="16818"/>
                </a:cubicBezTo>
                <a:cubicBezTo>
                  <a:pt x="11029" y="16793"/>
                  <a:pt x="10950" y="16595"/>
                  <a:pt x="10889" y="164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Ink 13"/>
          <p:cNvSpPr/>
          <p:nvPr/>
        </p:nvSpPr>
        <p:spPr>
          <a:xfrm>
            <a:off x="3268800" y="5965920"/>
            <a:ext cx="660240" cy="428400"/>
          </a:xfrm>
          <a:custGeom>
            <a:avLst/>
            <a:gdLst/>
            <a:ahLst/>
            <a:rect l="l" t="t" r="r" b="b"/>
            <a:pathLst>
              <a:path w="1836" h="1191">
                <a:moveTo>
                  <a:pt x="9723" y="16644"/>
                </a:moveTo>
                <a:cubicBezTo>
                  <a:pt x="9660" y="16573"/>
                  <a:pt x="9582" y="16517"/>
                  <a:pt x="9475" y="16594"/>
                </a:cubicBezTo>
                <a:cubicBezTo>
                  <a:pt x="9410" y="16641"/>
                  <a:pt x="9356" y="16717"/>
                  <a:pt x="9351" y="16793"/>
                </a:cubicBezTo>
                <a:cubicBezTo>
                  <a:pt x="9347" y="16852"/>
                  <a:pt x="9367" y="16874"/>
                  <a:pt x="9401" y="16917"/>
                </a:cubicBezTo>
                <a:cubicBezTo>
                  <a:pt x="9479" y="16878"/>
                  <a:pt x="9521" y="16854"/>
                  <a:pt x="9575" y="16793"/>
                </a:cubicBezTo>
                <a:cubicBezTo>
                  <a:pt x="9631" y="16730"/>
                  <a:pt x="9663" y="16723"/>
                  <a:pt x="9674" y="16644"/>
                </a:cubicBezTo>
                <a:cubicBezTo>
                  <a:pt x="9662" y="16727"/>
                  <a:pt x="9611" y="16799"/>
                  <a:pt x="9599" y="16892"/>
                </a:cubicBezTo>
                <a:cubicBezTo>
                  <a:pt x="9578" y="17045"/>
                  <a:pt x="9547" y="17169"/>
                  <a:pt x="9500" y="17314"/>
                </a:cubicBezTo>
                <a:cubicBezTo>
                  <a:pt x="9465" y="17423"/>
                  <a:pt x="9417" y="17587"/>
                  <a:pt x="9302" y="17636"/>
                </a:cubicBezTo>
                <a:cubicBezTo>
                  <a:pt x="9147" y="17701"/>
                  <a:pt x="9076" y="17447"/>
                  <a:pt x="9079" y="17338"/>
                </a:cubicBezTo>
                <a:cubicBezTo>
                  <a:pt x="9104" y="17260"/>
                  <a:pt x="9114" y="17233"/>
                  <a:pt x="9153" y="17190"/>
                </a:cubicBezTo>
              </a:path>
              <a:path w="1836" h="1191">
                <a:moveTo>
                  <a:pt x="9971" y="16743"/>
                </a:moveTo>
                <a:cubicBezTo>
                  <a:pt x="10041" y="16789"/>
                  <a:pt x="10104" y="16823"/>
                  <a:pt x="10170" y="16867"/>
                </a:cubicBezTo>
              </a:path>
              <a:path w="1836" h="1191">
                <a:moveTo>
                  <a:pt x="9971" y="16867"/>
                </a:moveTo>
                <a:cubicBezTo>
                  <a:pt x="10076" y="16957"/>
                  <a:pt x="10071" y="16977"/>
                  <a:pt x="10195" y="16991"/>
                </a:cubicBezTo>
              </a:path>
              <a:path w="1836" h="1191">
                <a:moveTo>
                  <a:pt x="10542" y="16570"/>
                </a:moveTo>
                <a:cubicBezTo>
                  <a:pt x="10514" y="16689"/>
                  <a:pt x="10475" y="16799"/>
                  <a:pt x="10443" y="16917"/>
                </a:cubicBezTo>
                <a:cubicBezTo>
                  <a:pt x="10417" y="17013"/>
                  <a:pt x="10400" y="17118"/>
                  <a:pt x="10393" y="17214"/>
                </a:cubicBezTo>
                <a:cubicBezTo>
                  <a:pt x="10393" y="17222"/>
                  <a:pt x="10393" y="17231"/>
                  <a:pt x="10393" y="17239"/>
                </a:cubicBezTo>
              </a:path>
              <a:path w="1836" h="1191">
                <a:moveTo>
                  <a:pt x="10914" y="16594"/>
                </a:moveTo>
                <a:cubicBezTo>
                  <a:pt x="10880" y="16885"/>
                  <a:pt x="10827" y="17176"/>
                  <a:pt x="10765" y="17462"/>
                </a:cubicBezTo>
                <a:cubicBezTo>
                  <a:pt x="10720" y="17621"/>
                  <a:pt x="10710" y="17664"/>
                  <a:pt x="10666" y="177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Ink 14"/>
          <p:cNvSpPr/>
          <p:nvPr/>
        </p:nvSpPr>
        <p:spPr>
          <a:xfrm>
            <a:off x="5813280" y="1276200"/>
            <a:ext cx="563760" cy="250920"/>
          </a:xfrm>
          <a:custGeom>
            <a:avLst/>
            <a:gdLst/>
            <a:ahLst/>
            <a:rect l="l" t="t" r="r" b="b"/>
            <a:pathLst>
              <a:path w="1564" h="696">
                <a:moveTo>
                  <a:pt x="16148" y="3795"/>
                </a:moveTo>
                <a:cubicBezTo>
                  <a:pt x="16203" y="3740"/>
                  <a:pt x="16224" y="3729"/>
                  <a:pt x="16297" y="3696"/>
                </a:cubicBezTo>
                <a:cubicBezTo>
                  <a:pt x="16379" y="3659"/>
                  <a:pt x="16489" y="3645"/>
                  <a:pt x="16570" y="3696"/>
                </a:cubicBezTo>
                <a:cubicBezTo>
                  <a:pt x="16668" y="3758"/>
                  <a:pt x="16572" y="3819"/>
                  <a:pt x="16520" y="3870"/>
                </a:cubicBezTo>
                <a:cubicBezTo>
                  <a:pt x="16464" y="3925"/>
                  <a:pt x="16304" y="4001"/>
                  <a:pt x="16272" y="4068"/>
                </a:cubicBezTo>
                <a:cubicBezTo>
                  <a:pt x="16247" y="4119"/>
                  <a:pt x="16309" y="4219"/>
                  <a:pt x="16371" y="4217"/>
                </a:cubicBezTo>
                <a:cubicBezTo>
                  <a:pt x="16481" y="4213"/>
                  <a:pt x="16533" y="4176"/>
                  <a:pt x="16619" y="4118"/>
                </a:cubicBezTo>
                <a:cubicBezTo>
                  <a:pt x="16644" y="4101"/>
                  <a:pt x="16669" y="4085"/>
                  <a:pt x="16694" y="4068"/>
                </a:cubicBezTo>
              </a:path>
              <a:path w="1564" h="696">
                <a:moveTo>
                  <a:pt x="16867" y="3547"/>
                </a:moveTo>
                <a:cubicBezTo>
                  <a:pt x="16821" y="3593"/>
                  <a:pt x="16766" y="3633"/>
                  <a:pt x="16743" y="3696"/>
                </a:cubicBezTo>
                <a:cubicBezTo>
                  <a:pt x="16716" y="3770"/>
                  <a:pt x="16631" y="3855"/>
                  <a:pt x="16669" y="3919"/>
                </a:cubicBezTo>
                <a:cubicBezTo>
                  <a:pt x="16690" y="3954"/>
                  <a:pt x="16753" y="4011"/>
                  <a:pt x="16793" y="4018"/>
                </a:cubicBezTo>
                <a:cubicBezTo>
                  <a:pt x="16898" y="4037"/>
                  <a:pt x="17071" y="4038"/>
                  <a:pt x="17140" y="3944"/>
                </a:cubicBezTo>
                <a:cubicBezTo>
                  <a:pt x="17140" y="3927"/>
                  <a:pt x="17140" y="3911"/>
                  <a:pt x="17140" y="3894"/>
                </a:cubicBezTo>
                <a:cubicBezTo>
                  <a:pt x="17084" y="3867"/>
                  <a:pt x="17070" y="3904"/>
                  <a:pt x="17066" y="3969"/>
                </a:cubicBezTo>
                <a:cubicBezTo>
                  <a:pt x="17061" y="4049"/>
                  <a:pt x="17102" y="4035"/>
                  <a:pt x="17165" y="4043"/>
                </a:cubicBezTo>
              </a:path>
              <a:path w="1564" h="696">
                <a:moveTo>
                  <a:pt x="17314" y="3547"/>
                </a:moveTo>
                <a:cubicBezTo>
                  <a:pt x="17269" y="3674"/>
                  <a:pt x="17197" y="3794"/>
                  <a:pt x="17289" y="3919"/>
                </a:cubicBezTo>
                <a:cubicBezTo>
                  <a:pt x="17351" y="4004"/>
                  <a:pt x="17448" y="4026"/>
                  <a:pt x="17537" y="4068"/>
                </a:cubicBezTo>
                <a:cubicBezTo>
                  <a:pt x="17600" y="4098"/>
                  <a:pt x="17646" y="4079"/>
                  <a:pt x="17686" y="4018"/>
                </a:cubicBezTo>
                <a:cubicBezTo>
                  <a:pt x="17730" y="3951"/>
                  <a:pt x="17709" y="3912"/>
                  <a:pt x="17686" y="3845"/>
                </a:cubicBezTo>
                <a:cubicBezTo>
                  <a:pt x="17611" y="3860"/>
                  <a:pt x="17569" y="3897"/>
                  <a:pt x="17537" y="3969"/>
                </a:cubicBezTo>
                <a:cubicBezTo>
                  <a:pt x="17494" y="4067"/>
                  <a:pt x="17487" y="4136"/>
                  <a:pt x="17487" y="42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6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r>
              <a:rPr b="0" lang="en-US" sz="5900" spc="-1" strike="noStrike">
                <a:solidFill>
                  <a:srgbClr val="7b9899"/>
                </a:solidFill>
                <a:latin typeface="Georgia"/>
              </a:rPr>
              <a:t>   </a:t>
            </a: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r>
              <a:rPr b="0" lang="en-US" sz="5900" spc="-1" strike="noStrike">
                <a:solidFill>
                  <a:srgbClr val="7b9899"/>
                </a:solidFill>
                <a:latin typeface="Georgia"/>
              </a:rPr>
              <a:t>Homework </a:t>
            </a:r>
            <a:br>
              <a:rPr sz="5900"/>
            </a:br>
            <a:r>
              <a:rPr b="0" lang="en-US" sz="5900" spc="-1" strike="noStrike">
                <a:solidFill>
                  <a:srgbClr val="7b9899"/>
                </a:solidFill>
                <a:latin typeface="Georgia"/>
              </a:rPr>
              <a:t>worksheet P1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YOU WILL NOT NEED YOUR TEXTBOOK THIS WEEK AS I WILL PROVIDE YOU WITH WORKSHEETS INSTEA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We begin this course by doing </a:t>
            </a:r>
            <a:r>
              <a:rPr b="0" lang="en-US" sz="4200" spc="-1" strike="noStrike" u="sng">
                <a:solidFill>
                  <a:srgbClr val="d16349"/>
                </a:solidFill>
                <a:uFillTx/>
                <a:latin typeface="Georgia"/>
              </a:rPr>
              <a:t>one</a:t>
            </a: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 lesson from Chapter P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Ink 4"/>
          <p:cNvSpPr/>
          <p:nvPr/>
        </p:nvSpPr>
        <p:spPr>
          <a:xfrm>
            <a:off x="465120" y="6510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90" y="18083"/>
                </a:moveTo>
                <a:lnTo>
                  <a:pt x="1290" y="1808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b9899"/>
                </a:solidFill>
                <a:latin typeface="Georgia"/>
              </a:rPr>
              <a:t>Anything in Chapter P is </a:t>
            </a:r>
            <a:r>
              <a:rPr b="0" i="1" lang="en-US" sz="4500" spc="-1" strike="noStrike">
                <a:solidFill>
                  <a:srgbClr val="7b9899"/>
                </a:solidFill>
                <a:latin typeface="Georgia"/>
              </a:rPr>
              <a:t>supposed</a:t>
            </a:r>
            <a:r>
              <a:rPr b="0" lang="en-US" sz="4500" spc="-1" strike="noStrike">
                <a:solidFill>
                  <a:srgbClr val="7b9899"/>
                </a:solidFill>
                <a:latin typeface="Georgia"/>
              </a:rPr>
              <a:t> to be completely review!</a:t>
            </a:r>
            <a:endParaRPr b="0" lang="en-US" sz="45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7b9899"/>
                </a:solidFill>
                <a:latin typeface="Georgia"/>
              </a:rPr>
              <a:t>Lesson P.4</a:t>
            </a:r>
            <a:br>
              <a:rPr sz="6800"/>
            </a:br>
            <a:r>
              <a:rPr b="0" lang="en-US" sz="6800" spc="-1" strike="noStrike">
                <a:solidFill>
                  <a:srgbClr val="7b9899"/>
                </a:solidFill>
                <a:latin typeface="Georgia"/>
              </a:rPr>
              <a:t>part one</a:t>
            </a:r>
            <a:endParaRPr b="0" lang="en-US" sz="6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46b86"/>
                </a:solidFill>
                <a:latin typeface="Georgia"/>
              </a:rPr>
              <a:t>AN EQUATION WITH A DEGREE OF ONE (THERE IS ONLY ONE SOLUTION)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Linear Equa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ne Step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x + 8 = 15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3y = 12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Ink 4"/>
          <p:cNvSpPr/>
          <p:nvPr/>
        </p:nvSpPr>
        <p:spPr>
          <a:xfrm>
            <a:off x="1374840" y="2473200"/>
            <a:ext cx="635040" cy="376200"/>
          </a:xfrm>
          <a:custGeom>
            <a:avLst/>
            <a:gdLst/>
            <a:ahLst/>
            <a:rect l="l" t="t" r="r" b="b"/>
            <a:pathLst>
              <a:path w="1762" h="1043">
                <a:moveTo>
                  <a:pt x="4514" y="7268"/>
                </a:moveTo>
                <a:cubicBezTo>
                  <a:pt x="4434" y="7268"/>
                  <a:pt x="4393" y="7246"/>
                  <a:pt x="4316" y="7243"/>
                </a:cubicBezTo>
                <a:cubicBezTo>
                  <a:pt x="4234" y="7240"/>
                  <a:pt x="4174" y="7206"/>
                  <a:pt x="4093" y="7193"/>
                </a:cubicBezTo>
                <a:cubicBezTo>
                  <a:pt x="3999" y="7178"/>
                  <a:pt x="3901" y="7216"/>
                  <a:pt x="3820" y="7169"/>
                </a:cubicBezTo>
              </a:path>
              <a:path w="1762" h="1043">
                <a:moveTo>
                  <a:pt x="4564" y="6896"/>
                </a:moveTo>
                <a:cubicBezTo>
                  <a:pt x="4653" y="6896"/>
                  <a:pt x="4737" y="6886"/>
                  <a:pt x="4812" y="6871"/>
                </a:cubicBezTo>
                <a:cubicBezTo>
                  <a:pt x="4952" y="6843"/>
                  <a:pt x="5126" y="6875"/>
                  <a:pt x="5259" y="6896"/>
                </a:cubicBezTo>
                <a:cubicBezTo>
                  <a:pt x="5275" y="6896"/>
                  <a:pt x="5292" y="6896"/>
                  <a:pt x="5308" y="6896"/>
                </a:cubicBezTo>
                <a:cubicBezTo>
                  <a:pt x="5279" y="6943"/>
                  <a:pt x="5265" y="6993"/>
                  <a:pt x="5234" y="7045"/>
                </a:cubicBezTo>
                <a:cubicBezTo>
                  <a:pt x="5189" y="7120"/>
                  <a:pt x="5162" y="7162"/>
                  <a:pt x="5135" y="7243"/>
                </a:cubicBezTo>
                <a:cubicBezTo>
                  <a:pt x="5113" y="7308"/>
                  <a:pt x="5106" y="7378"/>
                  <a:pt x="5085" y="7441"/>
                </a:cubicBezTo>
                <a:cubicBezTo>
                  <a:pt x="5062" y="7510"/>
                  <a:pt x="5012" y="7570"/>
                  <a:pt x="4986" y="7640"/>
                </a:cubicBezTo>
                <a:cubicBezTo>
                  <a:pt x="4962" y="7704"/>
                  <a:pt x="4926" y="7803"/>
                  <a:pt x="4911" y="7863"/>
                </a:cubicBezTo>
                <a:cubicBezTo>
                  <a:pt x="4911" y="7880"/>
                  <a:pt x="4911" y="7896"/>
                  <a:pt x="4911" y="7913"/>
                </a:cubicBezTo>
              </a:path>
              <a:path w="1762" h="1043">
                <a:moveTo>
                  <a:pt x="4961" y="7888"/>
                </a:moveTo>
                <a:cubicBezTo>
                  <a:pt x="5063" y="7916"/>
                  <a:pt x="5070" y="7893"/>
                  <a:pt x="5159" y="7888"/>
                </a:cubicBezTo>
                <a:cubicBezTo>
                  <a:pt x="5225" y="7884"/>
                  <a:pt x="5289" y="7859"/>
                  <a:pt x="5358" y="7838"/>
                </a:cubicBezTo>
                <a:cubicBezTo>
                  <a:pt x="5411" y="7822"/>
                  <a:pt x="5537" y="7780"/>
                  <a:pt x="5556" y="7714"/>
                </a:cubicBezTo>
                <a:cubicBezTo>
                  <a:pt x="5573" y="7655"/>
                  <a:pt x="5580" y="7580"/>
                  <a:pt x="5556" y="7516"/>
                </a:cubicBezTo>
                <a:cubicBezTo>
                  <a:pt x="5555" y="7513"/>
                  <a:pt x="5436" y="7395"/>
                  <a:pt x="5432" y="7392"/>
                </a:cubicBezTo>
                <a:cubicBezTo>
                  <a:pt x="5383" y="7361"/>
                  <a:pt x="5291" y="7311"/>
                  <a:pt x="5234" y="7293"/>
                </a:cubicBezTo>
                <a:cubicBezTo>
                  <a:pt x="5146" y="7265"/>
                  <a:pt x="5094" y="7234"/>
                  <a:pt x="5011" y="7193"/>
                </a:cubicBezTo>
                <a:cubicBezTo>
                  <a:pt x="4932" y="7154"/>
                  <a:pt x="4837" y="7137"/>
                  <a:pt x="4762" y="7094"/>
                </a:cubicBezTo>
                <a:cubicBezTo>
                  <a:pt x="4698" y="7058"/>
                  <a:pt x="4655" y="6976"/>
                  <a:pt x="4614" y="6921"/>
                </a:cubicBezTo>
                <a:cubicBezTo>
                  <a:pt x="4606" y="6913"/>
                  <a:pt x="4597" y="6904"/>
                  <a:pt x="4589" y="68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Ink 5"/>
          <p:cNvSpPr/>
          <p:nvPr/>
        </p:nvSpPr>
        <p:spPr>
          <a:xfrm>
            <a:off x="2697120" y="2455920"/>
            <a:ext cx="544680" cy="401760"/>
          </a:xfrm>
          <a:custGeom>
            <a:avLst/>
            <a:gdLst/>
            <a:ahLst/>
            <a:rect l="l" t="t" r="r" b="b"/>
            <a:pathLst>
              <a:path w="1514" h="1118">
                <a:moveTo>
                  <a:pt x="7491" y="7268"/>
                </a:moveTo>
                <a:cubicBezTo>
                  <a:pt x="7556" y="7259"/>
                  <a:pt x="7631" y="7228"/>
                  <a:pt x="7689" y="7218"/>
                </a:cubicBezTo>
                <a:cubicBezTo>
                  <a:pt x="7806" y="7197"/>
                  <a:pt x="7928" y="7225"/>
                  <a:pt x="8037" y="7243"/>
                </a:cubicBezTo>
                <a:cubicBezTo>
                  <a:pt x="8095" y="7253"/>
                  <a:pt x="8112" y="7239"/>
                  <a:pt x="8161" y="7268"/>
                </a:cubicBezTo>
              </a:path>
              <a:path w="1514" h="1118">
                <a:moveTo>
                  <a:pt x="8830" y="7838"/>
                </a:moveTo>
                <a:cubicBezTo>
                  <a:pt x="8885" y="7830"/>
                  <a:pt x="8921" y="7817"/>
                  <a:pt x="8954" y="7764"/>
                </a:cubicBezTo>
                <a:cubicBezTo>
                  <a:pt x="9000" y="7692"/>
                  <a:pt x="9024" y="7649"/>
                  <a:pt x="8979" y="7565"/>
                </a:cubicBezTo>
                <a:cubicBezTo>
                  <a:pt x="8948" y="7508"/>
                  <a:pt x="8864" y="7376"/>
                  <a:pt x="8806" y="7342"/>
                </a:cubicBezTo>
                <a:cubicBezTo>
                  <a:pt x="8731" y="7298"/>
                  <a:pt x="8655" y="7234"/>
                  <a:pt x="8582" y="7193"/>
                </a:cubicBezTo>
                <a:cubicBezTo>
                  <a:pt x="8482" y="7137"/>
                  <a:pt x="8321" y="7099"/>
                  <a:pt x="8285" y="6970"/>
                </a:cubicBezTo>
                <a:cubicBezTo>
                  <a:pt x="8260" y="6881"/>
                  <a:pt x="8298" y="6838"/>
                  <a:pt x="8384" y="6821"/>
                </a:cubicBezTo>
                <a:cubicBezTo>
                  <a:pt x="8440" y="6810"/>
                  <a:pt x="8532" y="6848"/>
                  <a:pt x="8582" y="6871"/>
                </a:cubicBezTo>
                <a:cubicBezTo>
                  <a:pt x="8634" y="6894"/>
                  <a:pt x="8692" y="6935"/>
                  <a:pt x="8706" y="6995"/>
                </a:cubicBezTo>
                <a:cubicBezTo>
                  <a:pt x="8727" y="7086"/>
                  <a:pt x="8749" y="7195"/>
                  <a:pt x="8731" y="7293"/>
                </a:cubicBezTo>
                <a:cubicBezTo>
                  <a:pt x="8721" y="7346"/>
                  <a:pt x="8679" y="7447"/>
                  <a:pt x="8657" y="7491"/>
                </a:cubicBezTo>
                <a:cubicBezTo>
                  <a:pt x="8615" y="7575"/>
                  <a:pt x="8607" y="7617"/>
                  <a:pt x="8607" y="7714"/>
                </a:cubicBezTo>
                <a:cubicBezTo>
                  <a:pt x="8607" y="7793"/>
                  <a:pt x="8629" y="7834"/>
                  <a:pt x="8682" y="7888"/>
                </a:cubicBezTo>
                <a:cubicBezTo>
                  <a:pt x="8706" y="7913"/>
                  <a:pt x="8714" y="7922"/>
                  <a:pt x="8731" y="79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Ink 6"/>
          <p:cNvSpPr/>
          <p:nvPr/>
        </p:nvSpPr>
        <p:spPr>
          <a:xfrm>
            <a:off x="1803240" y="3214800"/>
            <a:ext cx="250920" cy="312480"/>
          </a:xfrm>
          <a:custGeom>
            <a:avLst/>
            <a:gdLst/>
            <a:ahLst/>
            <a:rect l="l" t="t" r="r" b="b"/>
            <a:pathLst>
              <a:path w="695" h="869">
                <a:moveTo>
                  <a:pt x="5135" y="8930"/>
                </a:moveTo>
                <a:cubicBezTo>
                  <a:pt x="5190" y="9023"/>
                  <a:pt x="5257" y="9107"/>
                  <a:pt x="5308" y="9203"/>
                </a:cubicBezTo>
                <a:cubicBezTo>
                  <a:pt x="5346" y="9274"/>
                  <a:pt x="5415" y="9300"/>
                  <a:pt x="5457" y="9376"/>
                </a:cubicBezTo>
                <a:cubicBezTo>
                  <a:pt x="5497" y="9448"/>
                  <a:pt x="5536" y="9508"/>
                  <a:pt x="5581" y="9575"/>
                </a:cubicBezTo>
                <a:cubicBezTo>
                  <a:pt x="5605" y="9611"/>
                  <a:pt x="5662" y="9661"/>
                  <a:pt x="5680" y="9699"/>
                </a:cubicBezTo>
                <a:cubicBezTo>
                  <a:pt x="5688" y="9724"/>
                  <a:pt x="5697" y="9748"/>
                  <a:pt x="5705" y="9773"/>
                </a:cubicBezTo>
              </a:path>
              <a:path w="695" h="869">
                <a:moveTo>
                  <a:pt x="5705" y="8954"/>
                </a:moveTo>
                <a:cubicBezTo>
                  <a:pt x="5665" y="8994"/>
                  <a:pt x="5622" y="9017"/>
                  <a:pt x="5581" y="9054"/>
                </a:cubicBezTo>
                <a:cubicBezTo>
                  <a:pt x="5532" y="9098"/>
                  <a:pt x="5513" y="9144"/>
                  <a:pt x="5482" y="9178"/>
                </a:cubicBezTo>
                <a:cubicBezTo>
                  <a:pt x="5434" y="9230"/>
                  <a:pt x="5395" y="9258"/>
                  <a:pt x="5358" y="9327"/>
                </a:cubicBezTo>
                <a:cubicBezTo>
                  <a:pt x="5308" y="9420"/>
                  <a:pt x="5267" y="9490"/>
                  <a:pt x="5209" y="9575"/>
                </a:cubicBezTo>
                <a:cubicBezTo>
                  <a:pt x="5177" y="9622"/>
                  <a:pt x="5152" y="9658"/>
                  <a:pt x="5110" y="9699"/>
                </a:cubicBezTo>
                <a:cubicBezTo>
                  <a:pt x="5077" y="9732"/>
                  <a:pt x="5044" y="9764"/>
                  <a:pt x="5011" y="97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Ink 7"/>
          <p:cNvSpPr/>
          <p:nvPr/>
        </p:nvSpPr>
        <p:spPr>
          <a:xfrm>
            <a:off x="2401920" y="3098880"/>
            <a:ext cx="795240" cy="374400"/>
          </a:xfrm>
          <a:custGeom>
            <a:avLst/>
            <a:gdLst/>
            <a:ahLst/>
            <a:rect l="l" t="t" r="r" b="b"/>
            <a:pathLst>
              <a:path w="2209" h="1043">
                <a:moveTo>
                  <a:pt x="6672" y="9327"/>
                </a:moveTo>
                <a:cubicBezTo>
                  <a:pt x="6784" y="9327"/>
                  <a:pt x="6898" y="9317"/>
                  <a:pt x="6995" y="9302"/>
                </a:cubicBezTo>
                <a:cubicBezTo>
                  <a:pt x="7176" y="9275"/>
                  <a:pt x="7382" y="9302"/>
                  <a:pt x="7565" y="9302"/>
                </a:cubicBezTo>
              </a:path>
              <a:path w="2209" h="1043">
                <a:moveTo>
                  <a:pt x="6747" y="9004"/>
                </a:moveTo>
                <a:cubicBezTo>
                  <a:pt x="6824" y="8995"/>
                  <a:pt x="6891" y="8979"/>
                  <a:pt x="6970" y="8979"/>
                </a:cubicBezTo>
                <a:cubicBezTo>
                  <a:pt x="7111" y="8979"/>
                  <a:pt x="7251" y="8979"/>
                  <a:pt x="7392" y="8979"/>
                </a:cubicBezTo>
              </a:path>
              <a:path w="2209" h="1043">
                <a:moveTo>
                  <a:pt x="8111" y="8756"/>
                </a:moveTo>
                <a:cubicBezTo>
                  <a:pt x="8161" y="8726"/>
                  <a:pt x="8210" y="8730"/>
                  <a:pt x="8260" y="8706"/>
                </a:cubicBezTo>
                <a:cubicBezTo>
                  <a:pt x="8311" y="8681"/>
                  <a:pt x="8397" y="8667"/>
                  <a:pt x="8458" y="8657"/>
                </a:cubicBezTo>
                <a:cubicBezTo>
                  <a:pt x="8542" y="8643"/>
                  <a:pt x="8619" y="8632"/>
                  <a:pt x="8706" y="8632"/>
                </a:cubicBezTo>
                <a:cubicBezTo>
                  <a:pt x="8777" y="8632"/>
                  <a:pt x="8802" y="8639"/>
                  <a:pt x="8855" y="8607"/>
                </a:cubicBezTo>
                <a:cubicBezTo>
                  <a:pt x="8888" y="8662"/>
                  <a:pt x="8880" y="8713"/>
                  <a:pt x="8880" y="8781"/>
                </a:cubicBezTo>
                <a:cubicBezTo>
                  <a:pt x="8880" y="8942"/>
                  <a:pt x="8881" y="9099"/>
                  <a:pt x="8855" y="9252"/>
                </a:cubicBezTo>
                <a:cubicBezTo>
                  <a:pt x="8844" y="9319"/>
                  <a:pt x="8842" y="9394"/>
                  <a:pt x="8830" y="9451"/>
                </a:cubicBezTo>
                <a:cubicBezTo>
                  <a:pt x="8816" y="9518"/>
                  <a:pt x="8806" y="9578"/>
                  <a:pt x="8806" y="96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Ink 8"/>
          <p:cNvSpPr/>
          <p:nvPr/>
        </p:nvSpPr>
        <p:spPr>
          <a:xfrm>
            <a:off x="2125800" y="3625920"/>
            <a:ext cx="2143080" cy="731880"/>
          </a:xfrm>
          <a:custGeom>
            <a:avLst/>
            <a:gdLst/>
            <a:ahLst/>
            <a:rect l="l" t="t" r="r" b="b"/>
            <a:pathLst>
              <a:path w="5954" h="2035">
                <a:moveTo>
                  <a:pt x="6449" y="10790"/>
                </a:moveTo>
                <a:cubicBezTo>
                  <a:pt x="6446" y="10788"/>
                  <a:pt x="6389" y="10776"/>
                  <a:pt x="6300" y="10790"/>
                </a:cubicBezTo>
                <a:cubicBezTo>
                  <a:pt x="6219" y="10803"/>
                  <a:pt x="6207" y="10883"/>
                  <a:pt x="6127" y="10914"/>
                </a:cubicBezTo>
                <a:cubicBezTo>
                  <a:pt x="6049" y="10944"/>
                  <a:pt x="6058" y="10968"/>
                  <a:pt x="6003" y="11038"/>
                </a:cubicBezTo>
                <a:cubicBezTo>
                  <a:pt x="5955" y="11099"/>
                  <a:pt x="5913" y="11107"/>
                  <a:pt x="5904" y="11187"/>
                </a:cubicBezTo>
                <a:cubicBezTo>
                  <a:pt x="5893" y="11288"/>
                  <a:pt x="5902" y="11283"/>
                  <a:pt x="5978" y="11311"/>
                </a:cubicBezTo>
                <a:cubicBezTo>
                  <a:pt x="6045" y="11335"/>
                  <a:pt x="6072" y="11357"/>
                  <a:pt x="6152" y="11361"/>
                </a:cubicBezTo>
                <a:cubicBezTo>
                  <a:pt x="6182" y="11362"/>
                  <a:pt x="6327" y="11361"/>
                  <a:pt x="6251" y="11361"/>
                </a:cubicBezTo>
                <a:cubicBezTo>
                  <a:pt x="6195" y="11361"/>
                  <a:pt x="6117" y="11392"/>
                  <a:pt x="6077" y="11435"/>
                </a:cubicBezTo>
                <a:cubicBezTo>
                  <a:pt x="6017" y="11499"/>
                  <a:pt x="6028" y="11604"/>
                  <a:pt x="6028" y="11683"/>
                </a:cubicBezTo>
                <a:cubicBezTo>
                  <a:pt x="6028" y="11758"/>
                  <a:pt x="6046" y="11808"/>
                  <a:pt x="6102" y="11857"/>
                </a:cubicBezTo>
                <a:cubicBezTo>
                  <a:pt x="6177" y="11922"/>
                  <a:pt x="6193" y="11895"/>
                  <a:pt x="6276" y="11881"/>
                </a:cubicBezTo>
                <a:cubicBezTo>
                  <a:pt x="6326" y="11873"/>
                  <a:pt x="6392" y="11858"/>
                  <a:pt x="6424" y="11807"/>
                </a:cubicBezTo>
                <a:cubicBezTo>
                  <a:pt x="6443" y="11778"/>
                  <a:pt x="6504" y="11674"/>
                  <a:pt x="6524" y="11633"/>
                </a:cubicBezTo>
                <a:cubicBezTo>
                  <a:pt x="6546" y="11588"/>
                  <a:pt x="6567" y="11477"/>
                  <a:pt x="6573" y="11435"/>
                </a:cubicBezTo>
                <a:cubicBezTo>
                  <a:pt x="6579" y="11396"/>
                  <a:pt x="6621" y="11353"/>
                  <a:pt x="6672" y="11336"/>
                </a:cubicBezTo>
                <a:cubicBezTo>
                  <a:pt x="6738" y="11314"/>
                  <a:pt x="6739" y="11306"/>
                  <a:pt x="6796" y="11261"/>
                </a:cubicBezTo>
                <a:cubicBezTo>
                  <a:pt x="6812" y="11310"/>
                  <a:pt x="6830" y="11359"/>
                  <a:pt x="6846" y="11410"/>
                </a:cubicBezTo>
                <a:cubicBezTo>
                  <a:pt x="6869" y="11481"/>
                  <a:pt x="6934" y="11639"/>
                  <a:pt x="6995" y="11683"/>
                </a:cubicBezTo>
                <a:cubicBezTo>
                  <a:pt x="7051" y="11724"/>
                  <a:pt x="7075" y="11709"/>
                  <a:pt x="7119" y="11658"/>
                </a:cubicBezTo>
                <a:cubicBezTo>
                  <a:pt x="7170" y="11599"/>
                  <a:pt x="7169" y="11561"/>
                  <a:pt x="7169" y="11485"/>
                </a:cubicBezTo>
                <a:cubicBezTo>
                  <a:pt x="7169" y="11434"/>
                  <a:pt x="7139" y="11212"/>
                  <a:pt x="7193" y="11187"/>
                </a:cubicBezTo>
                <a:cubicBezTo>
                  <a:pt x="7216" y="11210"/>
                  <a:pt x="7220" y="11218"/>
                  <a:pt x="7243" y="11212"/>
                </a:cubicBezTo>
              </a:path>
              <a:path w="5954" h="2035">
                <a:moveTo>
                  <a:pt x="7169" y="10964"/>
                </a:moveTo>
                <a:cubicBezTo>
                  <a:pt x="7169" y="10947"/>
                  <a:pt x="7169" y="10931"/>
                  <a:pt x="7169" y="10914"/>
                </a:cubicBezTo>
              </a:path>
              <a:path w="5954" h="2035">
                <a:moveTo>
                  <a:pt x="7169" y="11336"/>
                </a:moveTo>
                <a:cubicBezTo>
                  <a:pt x="7103" y="11402"/>
                  <a:pt x="7130" y="11401"/>
                  <a:pt x="7144" y="11485"/>
                </a:cubicBezTo>
                <a:cubicBezTo>
                  <a:pt x="7156" y="11556"/>
                  <a:pt x="7198" y="11620"/>
                  <a:pt x="7243" y="11683"/>
                </a:cubicBezTo>
                <a:cubicBezTo>
                  <a:pt x="7265" y="11713"/>
                  <a:pt x="7359" y="11773"/>
                  <a:pt x="7392" y="11782"/>
                </a:cubicBezTo>
                <a:cubicBezTo>
                  <a:pt x="7437" y="11794"/>
                  <a:pt x="7506" y="11753"/>
                  <a:pt x="7541" y="11733"/>
                </a:cubicBezTo>
              </a:path>
              <a:path w="5954" h="2035">
                <a:moveTo>
                  <a:pt x="7689" y="11137"/>
                </a:moveTo>
                <a:cubicBezTo>
                  <a:pt x="7610" y="11153"/>
                  <a:pt x="7589" y="11161"/>
                  <a:pt x="7541" y="11212"/>
                </a:cubicBezTo>
                <a:cubicBezTo>
                  <a:pt x="7475" y="11282"/>
                  <a:pt x="7454" y="11311"/>
                  <a:pt x="7417" y="11385"/>
                </a:cubicBezTo>
                <a:cubicBezTo>
                  <a:pt x="7385" y="11449"/>
                  <a:pt x="7388" y="11456"/>
                  <a:pt x="7441" y="11509"/>
                </a:cubicBezTo>
                <a:cubicBezTo>
                  <a:pt x="7490" y="11558"/>
                  <a:pt x="7518" y="11580"/>
                  <a:pt x="7590" y="11584"/>
                </a:cubicBezTo>
                <a:cubicBezTo>
                  <a:pt x="7662" y="11588"/>
                  <a:pt x="7747" y="11580"/>
                  <a:pt x="7813" y="11559"/>
                </a:cubicBezTo>
                <a:cubicBezTo>
                  <a:pt x="7867" y="11542"/>
                  <a:pt x="7912" y="11522"/>
                  <a:pt x="7962" y="11509"/>
                </a:cubicBezTo>
              </a:path>
              <a:path w="5954" h="2035">
                <a:moveTo>
                  <a:pt x="8334" y="10294"/>
                </a:moveTo>
                <a:cubicBezTo>
                  <a:pt x="8334" y="10388"/>
                  <a:pt x="8353" y="10476"/>
                  <a:pt x="8384" y="10567"/>
                </a:cubicBezTo>
                <a:cubicBezTo>
                  <a:pt x="8416" y="10661"/>
                  <a:pt x="8437" y="10745"/>
                  <a:pt x="8458" y="10840"/>
                </a:cubicBezTo>
                <a:cubicBezTo>
                  <a:pt x="8481" y="10944"/>
                  <a:pt x="8498" y="11057"/>
                  <a:pt x="8508" y="11162"/>
                </a:cubicBezTo>
                <a:cubicBezTo>
                  <a:pt x="8517" y="11264"/>
                  <a:pt x="8521" y="11363"/>
                  <a:pt x="8558" y="11460"/>
                </a:cubicBezTo>
                <a:cubicBezTo>
                  <a:pt x="8566" y="11476"/>
                  <a:pt x="8574" y="11493"/>
                  <a:pt x="8582" y="11509"/>
                </a:cubicBezTo>
              </a:path>
              <a:path w="5954" h="2035">
                <a:moveTo>
                  <a:pt x="8930" y="10294"/>
                </a:moveTo>
                <a:cubicBezTo>
                  <a:pt x="8995" y="10226"/>
                  <a:pt x="8887" y="10359"/>
                  <a:pt x="8880" y="10368"/>
                </a:cubicBezTo>
                <a:cubicBezTo>
                  <a:pt x="8826" y="10439"/>
                  <a:pt x="8776" y="10514"/>
                  <a:pt x="8731" y="10592"/>
                </a:cubicBezTo>
                <a:cubicBezTo>
                  <a:pt x="8661" y="10713"/>
                  <a:pt x="8590" y="10807"/>
                  <a:pt x="8508" y="10914"/>
                </a:cubicBezTo>
                <a:cubicBezTo>
                  <a:pt x="8480" y="10950"/>
                  <a:pt x="8441" y="10981"/>
                  <a:pt x="8409" y="11013"/>
                </a:cubicBezTo>
                <a:cubicBezTo>
                  <a:pt x="8493" y="11002"/>
                  <a:pt x="8567" y="10988"/>
                  <a:pt x="8657" y="10988"/>
                </a:cubicBezTo>
                <a:cubicBezTo>
                  <a:pt x="8757" y="10988"/>
                  <a:pt x="8840" y="11006"/>
                  <a:pt x="8930" y="11038"/>
                </a:cubicBezTo>
                <a:cubicBezTo>
                  <a:pt x="9039" y="11076"/>
                  <a:pt x="9158" y="11120"/>
                  <a:pt x="9252" y="11187"/>
                </a:cubicBezTo>
                <a:cubicBezTo>
                  <a:pt x="9288" y="11213"/>
                  <a:pt x="9320" y="11254"/>
                  <a:pt x="9351" y="11286"/>
                </a:cubicBezTo>
              </a:path>
              <a:path w="5954" h="2035">
                <a:moveTo>
                  <a:pt x="9451" y="11112"/>
                </a:moveTo>
                <a:cubicBezTo>
                  <a:pt x="9535" y="11067"/>
                  <a:pt x="9601" y="11041"/>
                  <a:pt x="9624" y="10939"/>
                </a:cubicBezTo>
                <a:cubicBezTo>
                  <a:pt x="9638" y="10874"/>
                  <a:pt x="9624" y="10798"/>
                  <a:pt x="9599" y="10740"/>
                </a:cubicBezTo>
                <a:cubicBezTo>
                  <a:pt x="9564" y="10661"/>
                  <a:pt x="9469" y="10580"/>
                  <a:pt x="9376" y="10616"/>
                </a:cubicBezTo>
                <a:cubicBezTo>
                  <a:pt x="9306" y="10643"/>
                  <a:pt x="9270" y="10750"/>
                  <a:pt x="9277" y="10815"/>
                </a:cubicBezTo>
                <a:cubicBezTo>
                  <a:pt x="9288" y="10915"/>
                  <a:pt x="9375" y="10941"/>
                  <a:pt x="9426" y="11013"/>
                </a:cubicBezTo>
                <a:cubicBezTo>
                  <a:pt x="9480" y="11089"/>
                  <a:pt x="9500" y="11131"/>
                  <a:pt x="9599" y="11137"/>
                </a:cubicBezTo>
                <a:cubicBezTo>
                  <a:pt x="9616" y="11137"/>
                  <a:pt x="9632" y="11137"/>
                  <a:pt x="9649" y="11137"/>
                </a:cubicBezTo>
              </a:path>
              <a:path w="5954" h="2035">
                <a:moveTo>
                  <a:pt x="9897" y="10765"/>
                </a:moveTo>
                <a:cubicBezTo>
                  <a:pt x="10002" y="10730"/>
                  <a:pt x="10035" y="10724"/>
                  <a:pt x="10096" y="10641"/>
                </a:cubicBezTo>
                <a:cubicBezTo>
                  <a:pt x="10151" y="10566"/>
                  <a:pt x="10104" y="10539"/>
                  <a:pt x="10046" y="10492"/>
                </a:cubicBezTo>
                <a:cubicBezTo>
                  <a:pt x="9995" y="10450"/>
                  <a:pt x="10003" y="10430"/>
                  <a:pt x="9947" y="10468"/>
                </a:cubicBezTo>
                <a:cubicBezTo>
                  <a:pt x="9850" y="10534"/>
                  <a:pt x="9847" y="10556"/>
                  <a:pt x="9847" y="10666"/>
                </a:cubicBezTo>
                <a:cubicBezTo>
                  <a:pt x="9847" y="10760"/>
                  <a:pt x="9900" y="10792"/>
                  <a:pt x="9947" y="10864"/>
                </a:cubicBezTo>
                <a:cubicBezTo>
                  <a:pt x="9992" y="10932"/>
                  <a:pt x="10005" y="10984"/>
                  <a:pt x="10071" y="11038"/>
                </a:cubicBezTo>
                <a:cubicBezTo>
                  <a:pt x="10159" y="11109"/>
                  <a:pt x="10207" y="11156"/>
                  <a:pt x="10319" y="11162"/>
                </a:cubicBezTo>
                <a:cubicBezTo>
                  <a:pt x="10371" y="11165"/>
                  <a:pt x="10376" y="11148"/>
                  <a:pt x="10418" y="11137"/>
                </a:cubicBezTo>
              </a:path>
              <a:path w="5954" h="2035">
                <a:moveTo>
                  <a:pt x="10666" y="11013"/>
                </a:moveTo>
                <a:cubicBezTo>
                  <a:pt x="10666" y="10894"/>
                  <a:pt x="10676" y="10779"/>
                  <a:pt x="10641" y="10666"/>
                </a:cubicBezTo>
                <a:cubicBezTo>
                  <a:pt x="10603" y="10543"/>
                  <a:pt x="10575" y="10413"/>
                  <a:pt x="10542" y="10294"/>
                </a:cubicBezTo>
                <a:cubicBezTo>
                  <a:pt x="10529" y="10248"/>
                  <a:pt x="10487" y="10160"/>
                  <a:pt x="10468" y="10120"/>
                </a:cubicBezTo>
                <a:cubicBezTo>
                  <a:pt x="10443" y="10096"/>
                  <a:pt x="10434" y="10088"/>
                  <a:pt x="10418" y="10071"/>
                </a:cubicBezTo>
              </a:path>
              <a:path w="5954" h="2035">
                <a:moveTo>
                  <a:pt x="10220" y="10244"/>
                </a:moveTo>
                <a:cubicBezTo>
                  <a:pt x="10220" y="10293"/>
                  <a:pt x="10209" y="10413"/>
                  <a:pt x="10269" y="10443"/>
                </a:cubicBezTo>
                <a:cubicBezTo>
                  <a:pt x="10337" y="10477"/>
                  <a:pt x="10503" y="10440"/>
                  <a:pt x="10567" y="10418"/>
                </a:cubicBezTo>
                <a:cubicBezTo>
                  <a:pt x="10646" y="10390"/>
                  <a:pt x="10735" y="10357"/>
                  <a:pt x="10815" y="10344"/>
                </a:cubicBezTo>
                <a:cubicBezTo>
                  <a:pt x="10864" y="10344"/>
                  <a:pt x="10881" y="10344"/>
                  <a:pt x="10914" y="10344"/>
                </a:cubicBezTo>
              </a:path>
              <a:path w="5954" h="2035">
                <a:moveTo>
                  <a:pt x="11435" y="10914"/>
                </a:moveTo>
                <a:cubicBezTo>
                  <a:pt x="11489" y="10968"/>
                  <a:pt x="11428" y="10844"/>
                  <a:pt x="11410" y="10815"/>
                </a:cubicBezTo>
                <a:cubicBezTo>
                  <a:pt x="11371" y="10753"/>
                  <a:pt x="11330" y="10675"/>
                  <a:pt x="11286" y="10616"/>
                </a:cubicBezTo>
                <a:cubicBezTo>
                  <a:pt x="11231" y="10541"/>
                  <a:pt x="11132" y="10437"/>
                  <a:pt x="11038" y="10418"/>
                </a:cubicBezTo>
                <a:cubicBezTo>
                  <a:pt x="10943" y="10399"/>
                  <a:pt x="10935" y="10457"/>
                  <a:pt x="10914" y="10517"/>
                </a:cubicBezTo>
                <a:cubicBezTo>
                  <a:pt x="10887" y="10594"/>
                  <a:pt x="10908" y="10684"/>
                  <a:pt x="10939" y="10765"/>
                </a:cubicBezTo>
                <a:cubicBezTo>
                  <a:pt x="10964" y="10829"/>
                  <a:pt x="11015" y="10868"/>
                  <a:pt x="11088" y="10840"/>
                </a:cubicBezTo>
                <a:cubicBezTo>
                  <a:pt x="11132" y="10823"/>
                  <a:pt x="11166" y="10777"/>
                  <a:pt x="11212" y="10765"/>
                </a:cubicBezTo>
              </a:path>
              <a:path w="5954" h="2035">
                <a:moveTo>
                  <a:pt x="11708" y="10244"/>
                </a:moveTo>
                <a:cubicBezTo>
                  <a:pt x="11660" y="10282"/>
                  <a:pt x="11608" y="10308"/>
                  <a:pt x="11559" y="10344"/>
                </a:cubicBezTo>
                <a:cubicBezTo>
                  <a:pt x="11487" y="10397"/>
                  <a:pt x="11523" y="10437"/>
                  <a:pt x="11534" y="10492"/>
                </a:cubicBezTo>
                <a:cubicBezTo>
                  <a:pt x="11551" y="10577"/>
                  <a:pt x="11564" y="10564"/>
                  <a:pt x="11633" y="10616"/>
                </a:cubicBezTo>
                <a:cubicBezTo>
                  <a:pt x="11681" y="10652"/>
                  <a:pt x="11720" y="10740"/>
                  <a:pt x="11757" y="10790"/>
                </a:cubicBezTo>
                <a:cubicBezTo>
                  <a:pt x="11815" y="10868"/>
                  <a:pt x="11853" y="10941"/>
                  <a:pt x="11857" y="11038"/>
                </a:cubicBezTo>
                <a:cubicBezTo>
                  <a:pt x="11861" y="11127"/>
                  <a:pt x="11835" y="11250"/>
                  <a:pt x="11807" y="11336"/>
                </a:cubicBezTo>
                <a:cubicBezTo>
                  <a:pt x="11768" y="11456"/>
                  <a:pt x="11720" y="11562"/>
                  <a:pt x="11683" y="11683"/>
                </a:cubicBezTo>
                <a:cubicBezTo>
                  <a:pt x="11637" y="11833"/>
                  <a:pt x="11530" y="11963"/>
                  <a:pt x="11460" y="121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Ink 9"/>
          <p:cNvSpPr/>
          <p:nvPr/>
        </p:nvSpPr>
        <p:spPr>
          <a:xfrm>
            <a:off x="5892840" y="2500200"/>
            <a:ext cx="546120" cy="473040"/>
          </a:xfrm>
          <a:custGeom>
            <a:avLst/>
            <a:gdLst/>
            <a:ahLst/>
            <a:rect l="l" t="t" r="r" b="b"/>
            <a:pathLst>
              <a:path w="1514" h="1316">
                <a:moveTo>
                  <a:pt x="16371" y="6945"/>
                </a:moveTo>
                <a:cubicBezTo>
                  <a:pt x="16474" y="6954"/>
                  <a:pt x="16523" y="6949"/>
                  <a:pt x="16619" y="6945"/>
                </a:cubicBezTo>
                <a:cubicBezTo>
                  <a:pt x="16731" y="6940"/>
                  <a:pt x="16832" y="6967"/>
                  <a:pt x="16942" y="6970"/>
                </a:cubicBezTo>
                <a:cubicBezTo>
                  <a:pt x="17126" y="6976"/>
                  <a:pt x="17311" y="6977"/>
                  <a:pt x="17487" y="6995"/>
                </a:cubicBezTo>
                <a:cubicBezTo>
                  <a:pt x="17616" y="7008"/>
                  <a:pt x="17754" y="6995"/>
                  <a:pt x="17884" y="6995"/>
                </a:cubicBezTo>
              </a:path>
              <a:path w="1514" h="1316">
                <a:moveTo>
                  <a:pt x="16991" y="7317"/>
                </a:moveTo>
                <a:cubicBezTo>
                  <a:pt x="17049" y="7284"/>
                  <a:pt x="17115" y="7255"/>
                  <a:pt x="17190" y="7268"/>
                </a:cubicBezTo>
                <a:cubicBezTo>
                  <a:pt x="17248" y="7278"/>
                  <a:pt x="17362" y="7310"/>
                  <a:pt x="17413" y="7342"/>
                </a:cubicBezTo>
                <a:cubicBezTo>
                  <a:pt x="17461" y="7371"/>
                  <a:pt x="17482" y="7438"/>
                  <a:pt x="17462" y="7491"/>
                </a:cubicBezTo>
                <a:cubicBezTo>
                  <a:pt x="17444" y="7539"/>
                  <a:pt x="17371" y="7562"/>
                  <a:pt x="17338" y="7590"/>
                </a:cubicBezTo>
                <a:cubicBezTo>
                  <a:pt x="17273" y="7644"/>
                  <a:pt x="17229" y="7695"/>
                  <a:pt x="17140" y="7714"/>
                </a:cubicBezTo>
                <a:cubicBezTo>
                  <a:pt x="17123" y="7714"/>
                  <a:pt x="17107" y="7714"/>
                  <a:pt x="17090" y="7714"/>
                </a:cubicBezTo>
                <a:cubicBezTo>
                  <a:pt x="17187" y="7688"/>
                  <a:pt x="17208" y="7698"/>
                  <a:pt x="17289" y="7714"/>
                </a:cubicBezTo>
                <a:cubicBezTo>
                  <a:pt x="17373" y="7731"/>
                  <a:pt x="17414" y="7709"/>
                  <a:pt x="17487" y="7764"/>
                </a:cubicBezTo>
                <a:cubicBezTo>
                  <a:pt x="17529" y="7796"/>
                  <a:pt x="17618" y="7835"/>
                  <a:pt x="17636" y="7888"/>
                </a:cubicBezTo>
                <a:cubicBezTo>
                  <a:pt x="17657" y="7951"/>
                  <a:pt x="17628" y="8017"/>
                  <a:pt x="17587" y="8062"/>
                </a:cubicBezTo>
                <a:cubicBezTo>
                  <a:pt x="17536" y="8119"/>
                  <a:pt x="17504" y="8124"/>
                  <a:pt x="17438" y="8161"/>
                </a:cubicBezTo>
                <a:cubicBezTo>
                  <a:pt x="17350" y="8210"/>
                  <a:pt x="17291" y="8246"/>
                  <a:pt x="17190" y="8260"/>
                </a:cubicBezTo>
                <a:cubicBezTo>
                  <a:pt x="17100" y="8273"/>
                  <a:pt x="16999" y="8262"/>
                  <a:pt x="16917" y="8235"/>
                </a:cubicBezTo>
                <a:cubicBezTo>
                  <a:pt x="16882" y="8235"/>
                  <a:pt x="16864" y="8230"/>
                  <a:pt x="16842" y="82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Ink 10"/>
          <p:cNvSpPr/>
          <p:nvPr/>
        </p:nvSpPr>
        <p:spPr>
          <a:xfrm>
            <a:off x="7392960" y="2401920"/>
            <a:ext cx="617400" cy="519120"/>
          </a:xfrm>
          <a:custGeom>
            <a:avLst/>
            <a:gdLst/>
            <a:ahLst/>
            <a:rect l="l" t="t" r="r" b="b"/>
            <a:pathLst>
              <a:path w="1713" h="1440">
                <a:moveTo>
                  <a:pt x="20538" y="6697"/>
                </a:moveTo>
                <a:cubicBezTo>
                  <a:pt x="20636" y="6648"/>
                  <a:pt x="20722" y="6686"/>
                  <a:pt x="20836" y="6697"/>
                </a:cubicBezTo>
                <a:cubicBezTo>
                  <a:pt x="20943" y="6708"/>
                  <a:pt x="21053" y="6701"/>
                  <a:pt x="21158" y="6722"/>
                </a:cubicBezTo>
                <a:cubicBezTo>
                  <a:pt x="21275" y="6746"/>
                  <a:pt x="21388" y="6731"/>
                  <a:pt x="21506" y="6747"/>
                </a:cubicBezTo>
                <a:cubicBezTo>
                  <a:pt x="21629" y="6763"/>
                  <a:pt x="21757" y="6754"/>
                  <a:pt x="21878" y="6772"/>
                </a:cubicBezTo>
                <a:cubicBezTo>
                  <a:pt x="21987" y="6788"/>
                  <a:pt x="22089" y="6796"/>
                  <a:pt x="22200" y="6796"/>
                </a:cubicBezTo>
                <a:cubicBezTo>
                  <a:pt x="22217" y="6796"/>
                  <a:pt x="22233" y="6796"/>
                  <a:pt x="22250" y="6796"/>
                </a:cubicBezTo>
              </a:path>
              <a:path w="1713" h="1440">
                <a:moveTo>
                  <a:pt x="21258" y="7119"/>
                </a:moveTo>
                <a:cubicBezTo>
                  <a:pt x="21308" y="7089"/>
                  <a:pt x="21367" y="7087"/>
                  <a:pt x="21431" y="7094"/>
                </a:cubicBezTo>
                <a:cubicBezTo>
                  <a:pt x="21516" y="7104"/>
                  <a:pt x="21651" y="7122"/>
                  <a:pt x="21729" y="7169"/>
                </a:cubicBezTo>
                <a:cubicBezTo>
                  <a:pt x="21792" y="7207"/>
                  <a:pt x="21790" y="7259"/>
                  <a:pt x="21754" y="7317"/>
                </a:cubicBezTo>
                <a:cubicBezTo>
                  <a:pt x="21729" y="7358"/>
                  <a:pt x="21668" y="7394"/>
                  <a:pt x="21630" y="7417"/>
                </a:cubicBezTo>
                <a:cubicBezTo>
                  <a:pt x="21587" y="7442"/>
                  <a:pt x="21500" y="7504"/>
                  <a:pt x="21456" y="7516"/>
                </a:cubicBezTo>
                <a:cubicBezTo>
                  <a:pt x="21338" y="7547"/>
                  <a:pt x="21546" y="7516"/>
                  <a:pt x="21580" y="7516"/>
                </a:cubicBezTo>
                <a:cubicBezTo>
                  <a:pt x="21691" y="7516"/>
                  <a:pt x="21748" y="7519"/>
                  <a:pt x="21853" y="7565"/>
                </a:cubicBezTo>
                <a:cubicBezTo>
                  <a:pt x="21931" y="7599"/>
                  <a:pt x="21944" y="7633"/>
                  <a:pt x="21977" y="7689"/>
                </a:cubicBezTo>
                <a:cubicBezTo>
                  <a:pt x="22015" y="7753"/>
                  <a:pt x="22002" y="7797"/>
                  <a:pt x="21977" y="7863"/>
                </a:cubicBezTo>
                <a:cubicBezTo>
                  <a:pt x="21949" y="7936"/>
                  <a:pt x="21916" y="7965"/>
                  <a:pt x="21853" y="8012"/>
                </a:cubicBezTo>
                <a:cubicBezTo>
                  <a:pt x="21773" y="8071"/>
                  <a:pt x="21676" y="8097"/>
                  <a:pt x="21580" y="8111"/>
                </a:cubicBezTo>
                <a:cubicBezTo>
                  <a:pt x="21472" y="8127"/>
                  <a:pt x="21351" y="8105"/>
                  <a:pt x="21258" y="8086"/>
                </a:cubicBezTo>
                <a:cubicBezTo>
                  <a:pt x="21216" y="8086"/>
                  <a:pt x="21208" y="8086"/>
                  <a:pt x="21183" y="80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Ink 11"/>
          <p:cNvSpPr/>
          <p:nvPr/>
        </p:nvSpPr>
        <p:spPr>
          <a:xfrm>
            <a:off x="5946840" y="3438360"/>
            <a:ext cx="206280" cy="509760"/>
          </a:xfrm>
          <a:custGeom>
            <a:avLst/>
            <a:gdLst/>
            <a:ahLst/>
            <a:rect l="l" t="t" r="r" b="b"/>
            <a:pathLst>
              <a:path w="571" h="1415">
                <a:moveTo>
                  <a:pt x="16520" y="9599"/>
                </a:moveTo>
                <a:cubicBezTo>
                  <a:pt x="16532" y="9681"/>
                  <a:pt x="16572" y="9703"/>
                  <a:pt x="16619" y="9773"/>
                </a:cubicBezTo>
                <a:cubicBezTo>
                  <a:pt x="16659" y="9834"/>
                  <a:pt x="16715" y="9886"/>
                  <a:pt x="16743" y="9947"/>
                </a:cubicBezTo>
                <a:cubicBezTo>
                  <a:pt x="16793" y="10057"/>
                  <a:pt x="16876" y="10163"/>
                  <a:pt x="16942" y="10269"/>
                </a:cubicBezTo>
                <a:cubicBezTo>
                  <a:pt x="16957" y="10293"/>
                  <a:pt x="17017" y="10406"/>
                  <a:pt x="17041" y="10418"/>
                </a:cubicBezTo>
                <a:cubicBezTo>
                  <a:pt x="17041" y="10410"/>
                  <a:pt x="17041" y="10401"/>
                  <a:pt x="17041" y="10393"/>
                </a:cubicBezTo>
              </a:path>
              <a:path w="571" h="1415">
                <a:moveTo>
                  <a:pt x="17090" y="9550"/>
                </a:moveTo>
                <a:cubicBezTo>
                  <a:pt x="17081" y="9637"/>
                  <a:pt x="17083" y="9738"/>
                  <a:pt x="17066" y="9823"/>
                </a:cubicBezTo>
                <a:cubicBezTo>
                  <a:pt x="17048" y="9911"/>
                  <a:pt x="17022" y="10011"/>
                  <a:pt x="17016" y="10096"/>
                </a:cubicBezTo>
                <a:cubicBezTo>
                  <a:pt x="17007" y="10218"/>
                  <a:pt x="17011" y="10347"/>
                  <a:pt x="16991" y="10468"/>
                </a:cubicBezTo>
                <a:cubicBezTo>
                  <a:pt x="16973" y="10572"/>
                  <a:pt x="16966" y="10659"/>
                  <a:pt x="16966" y="10765"/>
                </a:cubicBezTo>
                <a:cubicBezTo>
                  <a:pt x="16966" y="10849"/>
                  <a:pt x="16950" y="10939"/>
                  <a:pt x="16917" y="109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Ink 12"/>
          <p:cNvSpPr/>
          <p:nvPr/>
        </p:nvSpPr>
        <p:spPr>
          <a:xfrm>
            <a:off x="6340320" y="3500280"/>
            <a:ext cx="214560" cy="88920"/>
          </a:xfrm>
          <a:custGeom>
            <a:avLst/>
            <a:gdLst/>
            <a:ahLst/>
            <a:rect l="l" t="t" r="r" b="b"/>
            <a:pathLst>
              <a:path w="597" h="249">
                <a:moveTo>
                  <a:pt x="17611" y="9723"/>
                </a:moveTo>
                <a:cubicBezTo>
                  <a:pt x="17676" y="9762"/>
                  <a:pt x="17755" y="9748"/>
                  <a:pt x="17835" y="9748"/>
                </a:cubicBezTo>
                <a:cubicBezTo>
                  <a:pt x="17912" y="9748"/>
                  <a:pt x="17979" y="9723"/>
                  <a:pt x="18058" y="9723"/>
                </a:cubicBezTo>
                <a:cubicBezTo>
                  <a:pt x="18099" y="9723"/>
                  <a:pt x="18107" y="9723"/>
                  <a:pt x="18132" y="9723"/>
                </a:cubicBezTo>
              </a:path>
              <a:path w="597" h="249">
                <a:moveTo>
                  <a:pt x="17785" y="9947"/>
                </a:moveTo>
                <a:cubicBezTo>
                  <a:pt x="17856" y="9988"/>
                  <a:pt x="17884" y="9959"/>
                  <a:pt x="17959" y="9947"/>
                </a:cubicBezTo>
                <a:cubicBezTo>
                  <a:pt x="18047" y="9933"/>
                  <a:pt x="18112" y="9922"/>
                  <a:pt x="18207" y="99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Ink 13"/>
          <p:cNvSpPr/>
          <p:nvPr/>
        </p:nvSpPr>
        <p:spPr>
          <a:xfrm>
            <a:off x="6892920" y="3357720"/>
            <a:ext cx="223920" cy="500040"/>
          </a:xfrm>
          <a:custGeom>
            <a:avLst/>
            <a:gdLst/>
            <a:ahLst/>
            <a:rect l="l" t="t" r="r" b="b"/>
            <a:pathLst>
              <a:path w="621" h="1390">
                <a:moveTo>
                  <a:pt x="19323" y="9327"/>
                </a:moveTo>
                <a:cubicBezTo>
                  <a:pt x="19323" y="9402"/>
                  <a:pt x="19309" y="9456"/>
                  <a:pt x="19298" y="9525"/>
                </a:cubicBezTo>
                <a:cubicBezTo>
                  <a:pt x="19282" y="9618"/>
                  <a:pt x="19217" y="9665"/>
                  <a:pt x="19199" y="9748"/>
                </a:cubicBezTo>
                <a:cubicBezTo>
                  <a:pt x="19182" y="9826"/>
                  <a:pt x="19120" y="9964"/>
                  <a:pt x="19149" y="10046"/>
                </a:cubicBezTo>
                <a:cubicBezTo>
                  <a:pt x="19177" y="10124"/>
                  <a:pt x="19372" y="10051"/>
                  <a:pt x="19422" y="10046"/>
                </a:cubicBezTo>
                <a:cubicBezTo>
                  <a:pt x="19519" y="10036"/>
                  <a:pt x="19669" y="10083"/>
                  <a:pt x="19745" y="10021"/>
                </a:cubicBezTo>
                <a:cubicBezTo>
                  <a:pt x="19753" y="10013"/>
                  <a:pt x="19761" y="10004"/>
                  <a:pt x="19769" y="9996"/>
                </a:cubicBezTo>
              </a:path>
              <a:path w="621" h="1390">
                <a:moveTo>
                  <a:pt x="19720" y="9327"/>
                </a:moveTo>
                <a:cubicBezTo>
                  <a:pt x="19691" y="9403"/>
                  <a:pt x="19692" y="9474"/>
                  <a:pt x="19670" y="9550"/>
                </a:cubicBezTo>
                <a:cubicBezTo>
                  <a:pt x="19648" y="9626"/>
                  <a:pt x="19630" y="9717"/>
                  <a:pt x="19621" y="9798"/>
                </a:cubicBezTo>
                <a:cubicBezTo>
                  <a:pt x="19610" y="9895"/>
                  <a:pt x="19635" y="9979"/>
                  <a:pt x="19645" y="10071"/>
                </a:cubicBezTo>
                <a:cubicBezTo>
                  <a:pt x="19668" y="10280"/>
                  <a:pt x="19645" y="10505"/>
                  <a:pt x="19645" y="107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Ink 14"/>
          <p:cNvSpPr/>
          <p:nvPr/>
        </p:nvSpPr>
        <p:spPr>
          <a:xfrm>
            <a:off x="6081840" y="4187880"/>
            <a:ext cx="901440" cy="554040"/>
          </a:xfrm>
          <a:custGeom>
            <a:avLst/>
            <a:gdLst/>
            <a:ahLst/>
            <a:rect l="l" t="t" r="r" b="b"/>
            <a:pathLst>
              <a:path w="2506" h="1539">
                <a:moveTo>
                  <a:pt x="16966" y="13022"/>
                </a:moveTo>
                <a:cubicBezTo>
                  <a:pt x="16966" y="12903"/>
                  <a:pt x="16996" y="12814"/>
                  <a:pt x="17016" y="12700"/>
                </a:cubicBezTo>
                <a:cubicBezTo>
                  <a:pt x="17032" y="12611"/>
                  <a:pt x="17024" y="12516"/>
                  <a:pt x="17041" y="12427"/>
                </a:cubicBezTo>
                <a:cubicBezTo>
                  <a:pt x="17059" y="12330"/>
                  <a:pt x="17069" y="12225"/>
                  <a:pt x="17090" y="12129"/>
                </a:cubicBezTo>
                <a:cubicBezTo>
                  <a:pt x="17104" y="12065"/>
                  <a:pt x="17129" y="11987"/>
                  <a:pt x="17140" y="11931"/>
                </a:cubicBezTo>
                <a:cubicBezTo>
                  <a:pt x="17140" y="11914"/>
                  <a:pt x="17140" y="11898"/>
                  <a:pt x="17140" y="11881"/>
                </a:cubicBezTo>
                <a:cubicBezTo>
                  <a:pt x="17194" y="11926"/>
                  <a:pt x="17202" y="11977"/>
                  <a:pt x="17214" y="12055"/>
                </a:cubicBezTo>
                <a:cubicBezTo>
                  <a:pt x="17227" y="12137"/>
                  <a:pt x="17254" y="12225"/>
                  <a:pt x="17264" y="12303"/>
                </a:cubicBezTo>
                <a:cubicBezTo>
                  <a:pt x="17276" y="12396"/>
                  <a:pt x="17281" y="12487"/>
                  <a:pt x="17314" y="12576"/>
                </a:cubicBezTo>
                <a:cubicBezTo>
                  <a:pt x="17348" y="12667"/>
                  <a:pt x="17397" y="12754"/>
                  <a:pt x="17413" y="12849"/>
                </a:cubicBezTo>
                <a:cubicBezTo>
                  <a:pt x="17422" y="12903"/>
                  <a:pt x="17425" y="12955"/>
                  <a:pt x="17413" y="12973"/>
                </a:cubicBezTo>
              </a:path>
              <a:path w="2506" h="1539">
                <a:moveTo>
                  <a:pt x="16892" y="12551"/>
                </a:moveTo>
                <a:cubicBezTo>
                  <a:pt x="16944" y="12525"/>
                  <a:pt x="17005" y="12505"/>
                  <a:pt x="17066" y="12502"/>
                </a:cubicBezTo>
                <a:cubicBezTo>
                  <a:pt x="17141" y="12498"/>
                  <a:pt x="17209" y="12466"/>
                  <a:pt x="17289" y="12452"/>
                </a:cubicBezTo>
                <a:cubicBezTo>
                  <a:pt x="17297" y="12452"/>
                  <a:pt x="17306" y="12452"/>
                  <a:pt x="17314" y="12452"/>
                </a:cubicBezTo>
              </a:path>
              <a:path w="2506" h="1539">
                <a:moveTo>
                  <a:pt x="17512" y="11782"/>
                </a:moveTo>
                <a:cubicBezTo>
                  <a:pt x="17512" y="12046"/>
                  <a:pt x="17403" y="12626"/>
                  <a:pt x="17537" y="12849"/>
                </a:cubicBezTo>
                <a:cubicBezTo>
                  <a:pt x="17537" y="12741"/>
                  <a:pt x="17556" y="12656"/>
                  <a:pt x="17587" y="12551"/>
                </a:cubicBezTo>
                <a:cubicBezTo>
                  <a:pt x="17623" y="12431"/>
                  <a:pt x="17677" y="12306"/>
                  <a:pt x="17735" y="12204"/>
                </a:cubicBezTo>
                <a:cubicBezTo>
                  <a:pt x="17758" y="12164"/>
                  <a:pt x="17822" y="12052"/>
                  <a:pt x="17884" y="12055"/>
                </a:cubicBezTo>
                <a:cubicBezTo>
                  <a:pt x="17965" y="12059"/>
                  <a:pt x="18059" y="12092"/>
                  <a:pt x="18083" y="12179"/>
                </a:cubicBezTo>
                <a:cubicBezTo>
                  <a:pt x="18104" y="12255"/>
                  <a:pt x="18096" y="12276"/>
                  <a:pt x="18083" y="12353"/>
                </a:cubicBezTo>
                <a:cubicBezTo>
                  <a:pt x="18070" y="12435"/>
                  <a:pt x="18021" y="12499"/>
                  <a:pt x="17983" y="12576"/>
                </a:cubicBezTo>
                <a:cubicBezTo>
                  <a:pt x="17948" y="12647"/>
                  <a:pt x="17881" y="12668"/>
                  <a:pt x="17835" y="12725"/>
                </a:cubicBezTo>
                <a:cubicBezTo>
                  <a:pt x="17773" y="12802"/>
                  <a:pt x="17719" y="12809"/>
                  <a:pt x="17636" y="12799"/>
                </a:cubicBezTo>
                <a:cubicBezTo>
                  <a:pt x="17539" y="12787"/>
                  <a:pt x="17557" y="12790"/>
                  <a:pt x="17512" y="12700"/>
                </a:cubicBezTo>
              </a:path>
              <a:path w="2506" h="1539">
                <a:moveTo>
                  <a:pt x="18182" y="11683"/>
                </a:moveTo>
                <a:cubicBezTo>
                  <a:pt x="18182" y="12030"/>
                  <a:pt x="18182" y="12973"/>
                  <a:pt x="18182" y="12626"/>
                </a:cubicBezTo>
                <a:cubicBezTo>
                  <a:pt x="18182" y="12511"/>
                  <a:pt x="18216" y="12413"/>
                  <a:pt x="18231" y="12303"/>
                </a:cubicBezTo>
                <a:cubicBezTo>
                  <a:pt x="18240" y="12236"/>
                  <a:pt x="18262" y="12162"/>
                  <a:pt x="18306" y="12105"/>
                </a:cubicBezTo>
                <a:cubicBezTo>
                  <a:pt x="18335" y="12068"/>
                  <a:pt x="18393" y="11983"/>
                  <a:pt x="18430" y="11956"/>
                </a:cubicBezTo>
                <a:cubicBezTo>
                  <a:pt x="18478" y="11921"/>
                  <a:pt x="18567" y="11882"/>
                  <a:pt x="18628" y="11906"/>
                </a:cubicBezTo>
                <a:cubicBezTo>
                  <a:pt x="18699" y="11934"/>
                  <a:pt x="18762" y="12004"/>
                  <a:pt x="18777" y="12080"/>
                </a:cubicBezTo>
                <a:cubicBezTo>
                  <a:pt x="18792" y="12157"/>
                  <a:pt x="18779" y="12257"/>
                  <a:pt x="18752" y="12328"/>
                </a:cubicBezTo>
                <a:cubicBezTo>
                  <a:pt x="18725" y="12400"/>
                  <a:pt x="18675" y="12466"/>
                  <a:pt x="18628" y="12526"/>
                </a:cubicBezTo>
                <a:cubicBezTo>
                  <a:pt x="18576" y="12591"/>
                  <a:pt x="18547" y="12603"/>
                  <a:pt x="18479" y="12650"/>
                </a:cubicBezTo>
                <a:cubicBezTo>
                  <a:pt x="18426" y="12687"/>
                  <a:pt x="18375" y="12697"/>
                  <a:pt x="18306" y="12700"/>
                </a:cubicBezTo>
                <a:cubicBezTo>
                  <a:pt x="18265" y="12702"/>
                  <a:pt x="18223" y="12700"/>
                  <a:pt x="18182" y="12700"/>
                </a:cubicBezTo>
              </a:path>
              <a:path w="2506" h="1539">
                <a:moveTo>
                  <a:pt x="18777" y="11733"/>
                </a:moveTo>
                <a:cubicBezTo>
                  <a:pt x="18807" y="11792"/>
                  <a:pt x="18837" y="11854"/>
                  <a:pt x="18876" y="11906"/>
                </a:cubicBezTo>
                <a:cubicBezTo>
                  <a:pt x="18915" y="11958"/>
                  <a:pt x="18966" y="11999"/>
                  <a:pt x="19000" y="12055"/>
                </a:cubicBezTo>
                <a:cubicBezTo>
                  <a:pt x="19038" y="12120"/>
                  <a:pt x="19095" y="12170"/>
                  <a:pt x="19149" y="12229"/>
                </a:cubicBezTo>
                <a:cubicBezTo>
                  <a:pt x="19195" y="12279"/>
                  <a:pt x="19204" y="12314"/>
                  <a:pt x="19248" y="12303"/>
                </a:cubicBezTo>
              </a:path>
              <a:path w="2506" h="1539">
                <a:moveTo>
                  <a:pt x="19397" y="11633"/>
                </a:moveTo>
                <a:cubicBezTo>
                  <a:pt x="19397" y="11706"/>
                  <a:pt x="19379" y="11766"/>
                  <a:pt x="19372" y="11832"/>
                </a:cubicBezTo>
                <a:cubicBezTo>
                  <a:pt x="19359" y="11950"/>
                  <a:pt x="19355" y="12064"/>
                  <a:pt x="19323" y="12179"/>
                </a:cubicBezTo>
                <a:cubicBezTo>
                  <a:pt x="19297" y="12271"/>
                  <a:pt x="19264" y="12362"/>
                  <a:pt x="19248" y="12452"/>
                </a:cubicBezTo>
                <a:cubicBezTo>
                  <a:pt x="19226" y="12573"/>
                  <a:pt x="19217" y="12707"/>
                  <a:pt x="19199" y="12824"/>
                </a:cubicBezTo>
                <a:cubicBezTo>
                  <a:pt x="19188" y="12900"/>
                  <a:pt x="19198" y="12975"/>
                  <a:pt x="19174" y="13047"/>
                </a:cubicBezTo>
                <a:cubicBezTo>
                  <a:pt x="19146" y="13104"/>
                  <a:pt x="19135" y="13127"/>
                  <a:pt x="19124" y="131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wo Step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2v – 6 = 18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 baseline="30000">
                <a:solidFill>
                  <a:srgbClr val="000000"/>
                </a:solidFill>
                <a:latin typeface="Georgia"/>
              </a:rPr>
              <a:t>z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 + 8 = 14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Ink 4"/>
          <p:cNvSpPr/>
          <p:nvPr/>
        </p:nvSpPr>
        <p:spPr>
          <a:xfrm>
            <a:off x="-577097640" y="-582696720"/>
            <a:ext cx="585376560" cy="585536760"/>
          </a:xfrm>
          <a:custGeom>
            <a:avLst/>
            <a:gdLst/>
            <a:ahLst/>
            <a:rect l="l" t="t" r="r" b="b"/>
            <a:pathLst>
              <a:path w="1626047" h="1626494">
                <a:moveTo>
                  <a:pt x="21084" y="6970"/>
                </a:moveTo>
                <a:cubicBezTo>
                  <a:pt x="21190" y="6993"/>
                  <a:pt x="21275" y="7016"/>
                  <a:pt x="21382" y="7020"/>
                </a:cubicBezTo>
                <a:cubicBezTo>
                  <a:pt x="21509" y="7024"/>
                  <a:pt x="21627" y="7041"/>
                  <a:pt x="21754" y="7045"/>
                </a:cubicBezTo>
                <a:cubicBezTo>
                  <a:pt x="21805" y="7045"/>
                  <a:pt x="21823" y="7046"/>
                  <a:pt x="21853" y="7069"/>
                </a:cubicBezTo>
              </a:path>
              <a:path w="1626047" h="1626494">
                <a:moveTo>
                  <a:pt x="-1603052" y="-1618605"/>
                </a:moveTo>
                <a:cubicBezTo>
                  <a:pt x="-1061215" y="-1076735"/>
                  <a:pt x="-519339" y="-535124"/>
                  <a:pt x="22448" y="6796"/>
                </a:cubicBezTo>
                <a:cubicBezTo>
                  <a:pt x="23054" y="7403"/>
                  <a:pt x="22090" y="6736"/>
                  <a:pt x="22696" y="7342"/>
                </a:cubicBezTo>
              </a:path>
              <a:path w="1626047" h="1626494">
                <a:moveTo>
                  <a:pt x="22275" y="7169"/>
                </a:moveTo>
                <a:cubicBezTo>
                  <a:pt x="22241" y="7110"/>
                  <a:pt x="22205" y="7057"/>
                  <a:pt x="22175" y="6995"/>
                </a:cubicBezTo>
                <a:cubicBezTo>
                  <a:pt x="22141" y="6925"/>
                  <a:pt x="22092" y="6877"/>
                  <a:pt x="22076" y="6796"/>
                </a:cubicBezTo>
                <a:cubicBezTo>
                  <a:pt x="22058" y="6700"/>
                  <a:pt x="22141" y="6649"/>
                  <a:pt x="22200" y="6598"/>
                </a:cubicBezTo>
                <a:cubicBezTo>
                  <a:pt x="22311" y="6502"/>
                  <a:pt x="22470" y="6513"/>
                  <a:pt x="22597" y="6524"/>
                </a:cubicBezTo>
                <a:cubicBezTo>
                  <a:pt x="22674" y="6531"/>
                  <a:pt x="22758" y="6542"/>
                  <a:pt x="22820" y="6573"/>
                </a:cubicBezTo>
                <a:cubicBezTo>
                  <a:pt x="22930" y="6629"/>
                  <a:pt x="22945" y="6701"/>
                  <a:pt x="22870" y="6796"/>
                </a:cubicBezTo>
                <a:cubicBezTo>
                  <a:pt x="22820" y="6859"/>
                  <a:pt x="22731" y="6878"/>
                  <a:pt x="22671" y="6921"/>
                </a:cubicBezTo>
                <a:cubicBezTo>
                  <a:pt x="22586" y="6982"/>
                  <a:pt x="22482" y="7001"/>
                  <a:pt x="22399" y="7069"/>
                </a:cubicBezTo>
                <a:cubicBezTo>
                  <a:pt x="22302" y="7148"/>
                  <a:pt x="22217" y="7202"/>
                  <a:pt x="22126" y="7293"/>
                </a:cubicBezTo>
                <a:cubicBezTo>
                  <a:pt x="22065" y="7354"/>
                  <a:pt x="21981" y="7498"/>
                  <a:pt x="22002" y="7590"/>
                </a:cubicBezTo>
                <a:cubicBezTo>
                  <a:pt x="22015" y="7648"/>
                  <a:pt x="22075" y="7759"/>
                  <a:pt x="22126" y="7789"/>
                </a:cubicBezTo>
                <a:cubicBezTo>
                  <a:pt x="22194" y="7829"/>
                  <a:pt x="22243" y="7874"/>
                  <a:pt x="22324" y="7888"/>
                </a:cubicBezTo>
                <a:cubicBezTo>
                  <a:pt x="22414" y="7903"/>
                  <a:pt x="22466" y="7846"/>
                  <a:pt x="22523" y="7789"/>
                </a:cubicBezTo>
                <a:cubicBezTo>
                  <a:pt x="22601" y="7711"/>
                  <a:pt x="22597" y="7646"/>
                  <a:pt x="22597" y="7541"/>
                </a:cubicBezTo>
                <a:cubicBezTo>
                  <a:pt x="22597" y="7474"/>
                  <a:pt x="22564" y="7372"/>
                  <a:pt x="22523" y="7317"/>
                </a:cubicBezTo>
                <a:cubicBezTo>
                  <a:pt x="22470" y="7245"/>
                  <a:pt x="22427" y="7165"/>
                  <a:pt x="22374" y="7094"/>
                </a:cubicBezTo>
                <a:cubicBezTo>
                  <a:pt x="22366" y="7086"/>
                  <a:pt x="22357" y="7077"/>
                  <a:pt x="22349" y="70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Ink 5"/>
          <p:cNvSpPr/>
          <p:nvPr/>
        </p:nvSpPr>
        <p:spPr>
          <a:xfrm>
            <a:off x="1347840" y="2411280"/>
            <a:ext cx="465120" cy="268560"/>
          </a:xfrm>
          <a:custGeom>
            <a:avLst/>
            <a:gdLst/>
            <a:ahLst/>
            <a:rect l="l" t="t" r="r" b="b"/>
            <a:pathLst>
              <a:path w="1290" h="745">
                <a:moveTo>
                  <a:pt x="4018" y="6722"/>
                </a:moveTo>
                <a:cubicBezTo>
                  <a:pt x="4065" y="6799"/>
                  <a:pt x="4026" y="6834"/>
                  <a:pt x="4018" y="6921"/>
                </a:cubicBezTo>
                <a:cubicBezTo>
                  <a:pt x="4008" y="7023"/>
                  <a:pt x="3998" y="7118"/>
                  <a:pt x="3994" y="7218"/>
                </a:cubicBezTo>
                <a:cubicBezTo>
                  <a:pt x="3991" y="7292"/>
                  <a:pt x="3994" y="7367"/>
                  <a:pt x="3994" y="7441"/>
                </a:cubicBezTo>
              </a:path>
              <a:path w="1290" h="745">
                <a:moveTo>
                  <a:pt x="3746" y="7243"/>
                </a:moveTo>
                <a:cubicBezTo>
                  <a:pt x="3837" y="7210"/>
                  <a:pt x="3929" y="7196"/>
                  <a:pt x="4018" y="7169"/>
                </a:cubicBezTo>
                <a:cubicBezTo>
                  <a:pt x="4089" y="7148"/>
                  <a:pt x="4140" y="7144"/>
                  <a:pt x="4217" y="7144"/>
                </a:cubicBezTo>
                <a:cubicBezTo>
                  <a:pt x="4268" y="7144"/>
                  <a:pt x="4287" y="7143"/>
                  <a:pt x="4316" y="7119"/>
                </a:cubicBezTo>
              </a:path>
              <a:path w="1290" h="745">
                <a:moveTo>
                  <a:pt x="4415" y="6697"/>
                </a:moveTo>
                <a:cubicBezTo>
                  <a:pt x="4389" y="6767"/>
                  <a:pt x="4390" y="6820"/>
                  <a:pt x="4390" y="6896"/>
                </a:cubicBezTo>
                <a:cubicBezTo>
                  <a:pt x="4390" y="6968"/>
                  <a:pt x="4404" y="7035"/>
                  <a:pt x="4415" y="7094"/>
                </a:cubicBezTo>
                <a:cubicBezTo>
                  <a:pt x="4434" y="7194"/>
                  <a:pt x="4459" y="7206"/>
                  <a:pt x="4539" y="7268"/>
                </a:cubicBezTo>
                <a:cubicBezTo>
                  <a:pt x="4584" y="7303"/>
                  <a:pt x="4654" y="7314"/>
                  <a:pt x="4713" y="7317"/>
                </a:cubicBezTo>
                <a:cubicBezTo>
                  <a:pt x="4782" y="7321"/>
                  <a:pt x="4909" y="7299"/>
                  <a:pt x="4961" y="7243"/>
                </a:cubicBezTo>
                <a:cubicBezTo>
                  <a:pt x="5005" y="7196"/>
                  <a:pt x="5048" y="7100"/>
                  <a:pt x="5011" y="7045"/>
                </a:cubicBezTo>
                <a:cubicBezTo>
                  <a:pt x="4970" y="6984"/>
                  <a:pt x="4911" y="6950"/>
                  <a:pt x="4837" y="6970"/>
                </a:cubicBezTo>
                <a:cubicBezTo>
                  <a:pt x="4740" y="6997"/>
                  <a:pt x="4725" y="7104"/>
                  <a:pt x="4738" y="7193"/>
                </a:cubicBezTo>
                <a:cubicBezTo>
                  <a:pt x="4755" y="7308"/>
                  <a:pt x="4816" y="7292"/>
                  <a:pt x="4911" y="73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Ink 6"/>
          <p:cNvSpPr/>
          <p:nvPr/>
        </p:nvSpPr>
        <p:spPr>
          <a:xfrm>
            <a:off x="2884320" y="2401920"/>
            <a:ext cx="642960" cy="250920"/>
          </a:xfrm>
          <a:custGeom>
            <a:avLst/>
            <a:gdLst/>
            <a:ahLst/>
            <a:rect l="l" t="t" r="r" b="b"/>
            <a:pathLst>
              <a:path w="1787" h="696">
                <a:moveTo>
                  <a:pt x="8285" y="6672"/>
                </a:moveTo>
                <a:cubicBezTo>
                  <a:pt x="8285" y="6769"/>
                  <a:pt x="8275" y="6855"/>
                  <a:pt x="8260" y="6945"/>
                </a:cubicBezTo>
                <a:cubicBezTo>
                  <a:pt x="8238" y="7076"/>
                  <a:pt x="8260" y="7233"/>
                  <a:pt x="8260" y="7367"/>
                </a:cubicBezTo>
              </a:path>
              <a:path w="1787" h="696">
                <a:moveTo>
                  <a:pt x="8012" y="7069"/>
                </a:moveTo>
                <a:cubicBezTo>
                  <a:pt x="8197" y="7069"/>
                  <a:pt x="8381" y="7067"/>
                  <a:pt x="8558" y="7045"/>
                </a:cubicBezTo>
                <a:cubicBezTo>
                  <a:pt x="8650" y="7033"/>
                  <a:pt x="8718" y="7004"/>
                  <a:pt x="8806" y="6995"/>
                </a:cubicBezTo>
              </a:path>
              <a:path w="1787" h="696">
                <a:moveTo>
                  <a:pt x="9153" y="6722"/>
                </a:moveTo>
                <a:cubicBezTo>
                  <a:pt x="9142" y="6796"/>
                  <a:pt x="9114" y="6864"/>
                  <a:pt x="9103" y="6945"/>
                </a:cubicBezTo>
                <a:cubicBezTo>
                  <a:pt x="9091" y="7033"/>
                  <a:pt x="9112" y="7055"/>
                  <a:pt x="9153" y="7119"/>
                </a:cubicBezTo>
                <a:cubicBezTo>
                  <a:pt x="9194" y="7182"/>
                  <a:pt x="9211" y="7229"/>
                  <a:pt x="9277" y="7268"/>
                </a:cubicBezTo>
                <a:cubicBezTo>
                  <a:pt x="9331" y="7300"/>
                  <a:pt x="9413" y="7314"/>
                  <a:pt x="9475" y="7317"/>
                </a:cubicBezTo>
                <a:cubicBezTo>
                  <a:pt x="9565" y="7321"/>
                  <a:pt x="9621" y="7282"/>
                  <a:pt x="9699" y="7243"/>
                </a:cubicBezTo>
                <a:cubicBezTo>
                  <a:pt x="9785" y="7199"/>
                  <a:pt x="9816" y="7148"/>
                  <a:pt x="9773" y="7069"/>
                </a:cubicBezTo>
                <a:cubicBezTo>
                  <a:pt x="9735" y="6999"/>
                  <a:pt x="9709" y="6980"/>
                  <a:pt x="9624" y="6995"/>
                </a:cubicBezTo>
                <a:cubicBezTo>
                  <a:pt x="9522" y="7013"/>
                  <a:pt x="9438" y="7037"/>
                  <a:pt x="9426" y="7144"/>
                </a:cubicBezTo>
                <a:cubicBezTo>
                  <a:pt x="9418" y="7216"/>
                  <a:pt x="9427" y="7264"/>
                  <a:pt x="9475" y="7317"/>
                </a:cubicBezTo>
                <a:cubicBezTo>
                  <a:pt x="9510" y="7356"/>
                  <a:pt x="9566" y="7359"/>
                  <a:pt x="9575" y="73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Ink 7"/>
          <p:cNvSpPr/>
          <p:nvPr/>
        </p:nvSpPr>
        <p:spPr>
          <a:xfrm>
            <a:off x="5911920" y="2509920"/>
            <a:ext cx="187200" cy="7920"/>
          </a:xfrm>
          <a:custGeom>
            <a:avLst/>
            <a:gdLst/>
            <a:ahLst/>
            <a:rect l="l" t="t" r="r" b="b"/>
            <a:pathLst>
              <a:path w="522" h="26">
                <a:moveTo>
                  <a:pt x="16446" y="6995"/>
                </a:moveTo>
                <a:cubicBezTo>
                  <a:pt x="16405" y="6954"/>
                  <a:pt x="16486" y="6995"/>
                  <a:pt x="16545" y="6995"/>
                </a:cubicBezTo>
                <a:cubicBezTo>
                  <a:pt x="16677" y="6995"/>
                  <a:pt x="16810" y="6995"/>
                  <a:pt x="16942" y="69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Ink 8"/>
          <p:cNvSpPr/>
          <p:nvPr/>
        </p:nvSpPr>
        <p:spPr>
          <a:xfrm>
            <a:off x="6357960" y="2411280"/>
            <a:ext cx="241200" cy="339840"/>
          </a:xfrm>
          <a:custGeom>
            <a:avLst/>
            <a:gdLst/>
            <a:ahLst/>
            <a:rect l="l" t="t" r="r" b="b"/>
            <a:pathLst>
              <a:path w="671" h="944">
                <a:moveTo>
                  <a:pt x="17934" y="7119"/>
                </a:moveTo>
                <a:cubicBezTo>
                  <a:pt x="17852" y="7107"/>
                  <a:pt x="17864" y="7080"/>
                  <a:pt x="17810" y="7020"/>
                </a:cubicBezTo>
                <a:cubicBezTo>
                  <a:pt x="17762" y="6967"/>
                  <a:pt x="17722" y="6964"/>
                  <a:pt x="17686" y="6896"/>
                </a:cubicBezTo>
                <a:cubicBezTo>
                  <a:pt x="17645" y="6818"/>
                  <a:pt x="17662" y="6810"/>
                  <a:pt x="17735" y="6772"/>
                </a:cubicBezTo>
                <a:cubicBezTo>
                  <a:pt x="17813" y="6731"/>
                  <a:pt x="17896" y="6707"/>
                  <a:pt x="17983" y="6697"/>
                </a:cubicBezTo>
                <a:cubicBezTo>
                  <a:pt x="18072" y="6687"/>
                  <a:pt x="18173" y="6691"/>
                  <a:pt x="18256" y="6722"/>
                </a:cubicBezTo>
                <a:cubicBezTo>
                  <a:pt x="18300" y="6744"/>
                  <a:pt x="18312" y="6747"/>
                  <a:pt x="18331" y="6772"/>
                </a:cubicBezTo>
                <a:cubicBezTo>
                  <a:pt x="18293" y="6818"/>
                  <a:pt x="18253" y="6912"/>
                  <a:pt x="18207" y="6945"/>
                </a:cubicBezTo>
                <a:cubicBezTo>
                  <a:pt x="18098" y="7023"/>
                  <a:pt x="17977" y="7090"/>
                  <a:pt x="17884" y="7193"/>
                </a:cubicBezTo>
                <a:cubicBezTo>
                  <a:pt x="17815" y="7269"/>
                  <a:pt x="17719" y="7389"/>
                  <a:pt x="17711" y="7491"/>
                </a:cubicBezTo>
                <a:cubicBezTo>
                  <a:pt x="17699" y="7642"/>
                  <a:pt x="17841" y="7639"/>
                  <a:pt x="17959" y="7615"/>
                </a:cubicBezTo>
                <a:cubicBezTo>
                  <a:pt x="18016" y="7604"/>
                  <a:pt x="18075" y="7567"/>
                  <a:pt x="18107" y="7516"/>
                </a:cubicBezTo>
                <a:cubicBezTo>
                  <a:pt x="18164" y="7427"/>
                  <a:pt x="18089" y="7352"/>
                  <a:pt x="18008" y="7317"/>
                </a:cubicBezTo>
                <a:cubicBezTo>
                  <a:pt x="17943" y="7296"/>
                  <a:pt x="17927" y="7288"/>
                  <a:pt x="17884" y="72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Ink 9"/>
          <p:cNvSpPr/>
          <p:nvPr/>
        </p:nvSpPr>
        <p:spPr>
          <a:xfrm>
            <a:off x="1258920" y="2714760"/>
            <a:ext cx="2268360" cy="812520"/>
          </a:xfrm>
          <a:custGeom>
            <a:avLst/>
            <a:gdLst/>
            <a:ahLst/>
            <a:rect l="l" t="t" r="r" b="b"/>
            <a:pathLst>
              <a:path w="6302" h="2258">
                <a:moveTo>
                  <a:pt x="3497" y="7987"/>
                </a:moveTo>
                <a:cubicBezTo>
                  <a:pt x="3584" y="7953"/>
                  <a:pt x="3626" y="7918"/>
                  <a:pt x="3721" y="7913"/>
                </a:cubicBezTo>
                <a:cubicBezTo>
                  <a:pt x="3818" y="7908"/>
                  <a:pt x="3910" y="7922"/>
                  <a:pt x="3994" y="7962"/>
                </a:cubicBezTo>
                <a:cubicBezTo>
                  <a:pt x="4094" y="8009"/>
                  <a:pt x="4113" y="8023"/>
                  <a:pt x="4118" y="8136"/>
                </a:cubicBezTo>
                <a:cubicBezTo>
                  <a:pt x="4121" y="8202"/>
                  <a:pt x="4059" y="8281"/>
                  <a:pt x="4018" y="8334"/>
                </a:cubicBezTo>
                <a:cubicBezTo>
                  <a:pt x="3970" y="8395"/>
                  <a:pt x="3913" y="8454"/>
                  <a:pt x="3870" y="8508"/>
                </a:cubicBezTo>
                <a:cubicBezTo>
                  <a:pt x="3828" y="8560"/>
                  <a:pt x="3820" y="8607"/>
                  <a:pt x="3795" y="8657"/>
                </a:cubicBezTo>
                <a:cubicBezTo>
                  <a:pt x="3767" y="8685"/>
                  <a:pt x="3758" y="8698"/>
                  <a:pt x="3770" y="8731"/>
                </a:cubicBezTo>
                <a:cubicBezTo>
                  <a:pt x="3852" y="8768"/>
                  <a:pt x="3912" y="8763"/>
                  <a:pt x="3994" y="8781"/>
                </a:cubicBezTo>
                <a:cubicBezTo>
                  <a:pt x="4084" y="8801"/>
                  <a:pt x="4149" y="8806"/>
                  <a:pt x="4242" y="8806"/>
                </a:cubicBezTo>
                <a:cubicBezTo>
                  <a:pt x="4352" y="8806"/>
                  <a:pt x="4463" y="8819"/>
                  <a:pt x="4564" y="8781"/>
                </a:cubicBezTo>
              </a:path>
              <a:path w="6302" h="2258">
                <a:moveTo>
                  <a:pt x="4688" y="8012"/>
                </a:moveTo>
                <a:cubicBezTo>
                  <a:pt x="4731" y="8066"/>
                  <a:pt x="4774" y="8129"/>
                  <a:pt x="4812" y="8186"/>
                </a:cubicBezTo>
                <a:cubicBezTo>
                  <a:pt x="4874" y="8278"/>
                  <a:pt x="4917" y="8400"/>
                  <a:pt x="4986" y="8483"/>
                </a:cubicBezTo>
                <a:cubicBezTo>
                  <a:pt x="5020" y="8523"/>
                  <a:pt x="5090" y="8527"/>
                  <a:pt x="5135" y="8533"/>
                </a:cubicBezTo>
                <a:cubicBezTo>
                  <a:pt x="5143" y="8470"/>
                  <a:pt x="5173" y="8412"/>
                  <a:pt x="5184" y="8359"/>
                </a:cubicBezTo>
                <a:cubicBezTo>
                  <a:pt x="5202" y="8269"/>
                  <a:pt x="5187" y="8174"/>
                  <a:pt x="5209" y="8086"/>
                </a:cubicBezTo>
                <a:cubicBezTo>
                  <a:pt x="5222" y="8033"/>
                  <a:pt x="5249" y="7981"/>
                  <a:pt x="5283" y="7938"/>
                </a:cubicBezTo>
              </a:path>
              <a:path w="6302" h="2258">
                <a:moveTo>
                  <a:pt x="6102" y="7838"/>
                </a:moveTo>
                <a:cubicBezTo>
                  <a:pt x="6191" y="7838"/>
                  <a:pt x="6234" y="7816"/>
                  <a:pt x="6325" y="7813"/>
                </a:cubicBezTo>
                <a:cubicBezTo>
                  <a:pt x="6414" y="7810"/>
                  <a:pt x="6487" y="7799"/>
                  <a:pt x="6573" y="7789"/>
                </a:cubicBezTo>
                <a:cubicBezTo>
                  <a:pt x="6629" y="7783"/>
                  <a:pt x="6690" y="7789"/>
                  <a:pt x="6747" y="7789"/>
                </a:cubicBezTo>
              </a:path>
              <a:path w="6302" h="2258">
                <a:moveTo>
                  <a:pt x="6052" y="8186"/>
                </a:moveTo>
                <a:cubicBezTo>
                  <a:pt x="6190" y="8186"/>
                  <a:pt x="6313" y="8196"/>
                  <a:pt x="6449" y="8210"/>
                </a:cubicBezTo>
                <a:cubicBezTo>
                  <a:pt x="6526" y="8218"/>
                  <a:pt x="6593" y="8235"/>
                  <a:pt x="6672" y="8235"/>
                </a:cubicBezTo>
                <a:cubicBezTo>
                  <a:pt x="6730" y="8235"/>
                  <a:pt x="6788" y="8235"/>
                  <a:pt x="6846" y="8235"/>
                </a:cubicBezTo>
              </a:path>
              <a:path w="6302" h="2258">
                <a:moveTo>
                  <a:pt x="8012" y="7789"/>
                </a:moveTo>
                <a:cubicBezTo>
                  <a:pt x="8124" y="7758"/>
                  <a:pt x="8182" y="7747"/>
                  <a:pt x="8285" y="7813"/>
                </a:cubicBezTo>
                <a:cubicBezTo>
                  <a:pt x="8371" y="7868"/>
                  <a:pt x="8418" y="7932"/>
                  <a:pt x="8434" y="8037"/>
                </a:cubicBezTo>
                <a:cubicBezTo>
                  <a:pt x="8454" y="8168"/>
                  <a:pt x="8368" y="8307"/>
                  <a:pt x="8310" y="8409"/>
                </a:cubicBezTo>
                <a:cubicBezTo>
                  <a:pt x="8235" y="8541"/>
                  <a:pt x="8120" y="8558"/>
                  <a:pt x="7987" y="8558"/>
                </a:cubicBezTo>
                <a:cubicBezTo>
                  <a:pt x="7922" y="8558"/>
                  <a:pt x="7792" y="8536"/>
                  <a:pt x="7764" y="8458"/>
                </a:cubicBezTo>
                <a:cubicBezTo>
                  <a:pt x="7728" y="8359"/>
                  <a:pt x="7785" y="8282"/>
                  <a:pt x="7863" y="8235"/>
                </a:cubicBezTo>
                <a:cubicBezTo>
                  <a:pt x="7978" y="8166"/>
                  <a:pt x="8086" y="8176"/>
                  <a:pt x="8210" y="8210"/>
                </a:cubicBezTo>
                <a:cubicBezTo>
                  <a:pt x="8327" y="8242"/>
                  <a:pt x="8407" y="8306"/>
                  <a:pt x="8508" y="8359"/>
                </a:cubicBezTo>
                <a:cubicBezTo>
                  <a:pt x="8566" y="8389"/>
                  <a:pt x="8661" y="8462"/>
                  <a:pt x="8706" y="8483"/>
                </a:cubicBezTo>
                <a:cubicBezTo>
                  <a:pt x="8761" y="8509"/>
                  <a:pt x="8843" y="8432"/>
                  <a:pt x="8880" y="8409"/>
                </a:cubicBezTo>
              </a:path>
              <a:path w="6302" h="2258">
                <a:moveTo>
                  <a:pt x="8756" y="7640"/>
                </a:moveTo>
                <a:cubicBezTo>
                  <a:pt x="8798" y="7716"/>
                  <a:pt x="8827" y="7775"/>
                  <a:pt x="8830" y="7863"/>
                </a:cubicBezTo>
                <a:cubicBezTo>
                  <a:pt x="8834" y="7985"/>
                  <a:pt x="8818" y="7972"/>
                  <a:pt x="8806" y="8062"/>
                </a:cubicBezTo>
                <a:cubicBezTo>
                  <a:pt x="8858" y="8088"/>
                  <a:pt x="8904" y="8046"/>
                  <a:pt x="8979" y="8037"/>
                </a:cubicBezTo>
                <a:cubicBezTo>
                  <a:pt x="9050" y="8029"/>
                  <a:pt x="9399" y="8083"/>
                  <a:pt x="9426" y="8012"/>
                </a:cubicBezTo>
                <a:cubicBezTo>
                  <a:pt x="9439" y="7977"/>
                  <a:pt x="9426" y="7901"/>
                  <a:pt x="9426" y="7863"/>
                </a:cubicBezTo>
              </a:path>
              <a:path w="6302" h="2258">
                <a:moveTo>
                  <a:pt x="9426" y="7590"/>
                </a:moveTo>
                <a:cubicBezTo>
                  <a:pt x="9418" y="7574"/>
                  <a:pt x="9409" y="7557"/>
                  <a:pt x="9401" y="7541"/>
                </a:cubicBezTo>
                <a:cubicBezTo>
                  <a:pt x="9401" y="7652"/>
                  <a:pt x="9384" y="7754"/>
                  <a:pt x="9376" y="7863"/>
                </a:cubicBezTo>
                <a:cubicBezTo>
                  <a:pt x="9360" y="8064"/>
                  <a:pt x="9603" y="8450"/>
                  <a:pt x="9401" y="8458"/>
                </a:cubicBezTo>
                <a:cubicBezTo>
                  <a:pt x="9393" y="8450"/>
                  <a:pt x="9384" y="8442"/>
                  <a:pt x="9376" y="8434"/>
                </a:cubicBezTo>
              </a:path>
              <a:path w="6302" h="2258">
                <a:moveTo>
                  <a:pt x="3994" y="8905"/>
                </a:moveTo>
                <a:cubicBezTo>
                  <a:pt x="4108" y="8885"/>
                  <a:pt x="4228" y="8867"/>
                  <a:pt x="4341" y="8855"/>
                </a:cubicBezTo>
                <a:cubicBezTo>
                  <a:pt x="4486" y="8839"/>
                  <a:pt x="4645" y="8841"/>
                  <a:pt x="4787" y="8830"/>
                </a:cubicBezTo>
                <a:cubicBezTo>
                  <a:pt x="4935" y="8818"/>
                  <a:pt x="5086" y="8811"/>
                  <a:pt x="5234" y="8806"/>
                </a:cubicBezTo>
                <a:cubicBezTo>
                  <a:pt x="5333" y="8803"/>
                  <a:pt x="5432" y="8806"/>
                  <a:pt x="5531" y="8806"/>
                </a:cubicBezTo>
              </a:path>
              <a:path w="6302" h="2258">
                <a:moveTo>
                  <a:pt x="4514" y="9178"/>
                </a:moveTo>
                <a:cubicBezTo>
                  <a:pt x="4583" y="9168"/>
                  <a:pt x="4635" y="9153"/>
                  <a:pt x="4713" y="9153"/>
                </a:cubicBezTo>
                <a:cubicBezTo>
                  <a:pt x="4774" y="9153"/>
                  <a:pt x="4866" y="9171"/>
                  <a:pt x="4911" y="9203"/>
                </a:cubicBezTo>
                <a:cubicBezTo>
                  <a:pt x="4986" y="9257"/>
                  <a:pt x="5002" y="9260"/>
                  <a:pt x="4961" y="9351"/>
                </a:cubicBezTo>
                <a:cubicBezTo>
                  <a:pt x="4930" y="9421"/>
                  <a:pt x="4890" y="9453"/>
                  <a:pt x="4837" y="9500"/>
                </a:cubicBezTo>
                <a:cubicBezTo>
                  <a:pt x="4782" y="9548"/>
                  <a:pt x="4709" y="9646"/>
                  <a:pt x="4713" y="9723"/>
                </a:cubicBezTo>
                <a:cubicBezTo>
                  <a:pt x="4717" y="9797"/>
                  <a:pt x="4899" y="9773"/>
                  <a:pt x="4936" y="9773"/>
                </a:cubicBezTo>
                <a:cubicBezTo>
                  <a:pt x="5170" y="9773"/>
                  <a:pt x="5403" y="9765"/>
                  <a:pt x="5631" y="9798"/>
                </a:cubicBezTo>
                <a:cubicBezTo>
                  <a:pt x="5647" y="9798"/>
                  <a:pt x="5664" y="9798"/>
                  <a:pt x="5680" y="9798"/>
                </a:cubicBezTo>
              </a:path>
              <a:path w="6302" h="2258">
                <a:moveTo>
                  <a:pt x="7838" y="8682"/>
                </a:moveTo>
                <a:cubicBezTo>
                  <a:pt x="7950" y="8660"/>
                  <a:pt x="8047" y="8657"/>
                  <a:pt x="8161" y="8657"/>
                </a:cubicBezTo>
                <a:cubicBezTo>
                  <a:pt x="8314" y="8657"/>
                  <a:pt x="8457" y="8643"/>
                  <a:pt x="8607" y="8632"/>
                </a:cubicBezTo>
                <a:cubicBezTo>
                  <a:pt x="9000" y="8602"/>
                  <a:pt x="9404" y="8632"/>
                  <a:pt x="9798" y="8632"/>
                </a:cubicBezTo>
              </a:path>
              <a:path w="6302" h="2258">
                <a:moveTo>
                  <a:pt x="8607" y="8905"/>
                </a:moveTo>
                <a:cubicBezTo>
                  <a:pt x="8662" y="8872"/>
                  <a:pt x="8758" y="8842"/>
                  <a:pt x="8830" y="8855"/>
                </a:cubicBezTo>
                <a:cubicBezTo>
                  <a:pt x="8930" y="8873"/>
                  <a:pt x="9036" y="8899"/>
                  <a:pt x="9128" y="8954"/>
                </a:cubicBezTo>
                <a:cubicBezTo>
                  <a:pt x="9198" y="8996"/>
                  <a:pt x="9126" y="9103"/>
                  <a:pt x="9103" y="9153"/>
                </a:cubicBezTo>
                <a:cubicBezTo>
                  <a:pt x="9062" y="9240"/>
                  <a:pt x="9000" y="9268"/>
                  <a:pt x="8930" y="9327"/>
                </a:cubicBezTo>
                <a:cubicBezTo>
                  <a:pt x="8853" y="9392"/>
                  <a:pt x="8797" y="9452"/>
                  <a:pt x="8706" y="9500"/>
                </a:cubicBezTo>
                <a:cubicBezTo>
                  <a:pt x="8639" y="9536"/>
                  <a:pt x="8605" y="9584"/>
                  <a:pt x="8657" y="9649"/>
                </a:cubicBezTo>
                <a:cubicBezTo>
                  <a:pt x="8722" y="9731"/>
                  <a:pt x="8843" y="9685"/>
                  <a:pt x="8930" y="9699"/>
                </a:cubicBezTo>
                <a:cubicBezTo>
                  <a:pt x="9031" y="9715"/>
                  <a:pt x="9156" y="9719"/>
                  <a:pt x="9252" y="9748"/>
                </a:cubicBezTo>
                <a:cubicBezTo>
                  <a:pt x="9311" y="9766"/>
                  <a:pt x="9337" y="9773"/>
                  <a:pt x="9401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Ink 10"/>
          <p:cNvSpPr/>
          <p:nvPr/>
        </p:nvSpPr>
        <p:spPr>
          <a:xfrm>
            <a:off x="5010120" y="3017880"/>
            <a:ext cx="3473640" cy="689040"/>
          </a:xfrm>
          <a:custGeom>
            <a:avLst/>
            <a:gdLst/>
            <a:ahLst/>
            <a:rect l="l" t="t" r="r" b="b"/>
            <a:pathLst>
              <a:path w="9650" h="1911">
                <a:moveTo>
                  <a:pt x="16049" y="8533"/>
                </a:moveTo>
                <a:cubicBezTo>
                  <a:pt x="16004" y="8488"/>
                  <a:pt x="15987" y="8479"/>
                  <a:pt x="15999" y="8434"/>
                </a:cubicBezTo>
                <a:cubicBezTo>
                  <a:pt x="16100" y="8424"/>
                  <a:pt x="16194" y="8409"/>
                  <a:pt x="16297" y="8409"/>
                </a:cubicBezTo>
                <a:cubicBezTo>
                  <a:pt x="16399" y="8409"/>
                  <a:pt x="16489" y="8373"/>
                  <a:pt x="16594" y="8384"/>
                </a:cubicBezTo>
                <a:cubicBezTo>
                  <a:pt x="16709" y="8396"/>
                  <a:pt x="16851" y="8389"/>
                  <a:pt x="16966" y="8409"/>
                </a:cubicBezTo>
                <a:cubicBezTo>
                  <a:pt x="17049" y="8430"/>
                  <a:pt x="17064" y="8438"/>
                  <a:pt x="17115" y="8434"/>
                </a:cubicBezTo>
                <a:cubicBezTo>
                  <a:pt x="17054" y="8487"/>
                  <a:pt x="16963" y="8553"/>
                  <a:pt x="16892" y="8582"/>
                </a:cubicBezTo>
                <a:cubicBezTo>
                  <a:pt x="16761" y="8636"/>
                  <a:pt x="16670" y="8684"/>
                  <a:pt x="16545" y="8756"/>
                </a:cubicBezTo>
                <a:cubicBezTo>
                  <a:pt x="16366" y="8860"/>
                  <a:pt x="16216" y="8984"/>
                  <a:pt x="16049" y="9103"/>
                </a:cubicBezTo>
                <a:cubicBezTo>
                  <a:pt x="16008" y="9132"/>
                  <a:pt x="15964" y="9146"/>
                  <a:pt x="15925" y="9178"/>
                </a:cubicBezTo>
              </a:path>
              <a:path w="9650" h="1911">
                <a:moveTo>
                  <a:pt x="16148" y="9178"/>
                </a:moveTo>
                <a:cubicBezTo>
                  <a:pt x="16289" y="9194"/>
                  <a:pt x="16431" y="9222"/>
                  <a:pt x="16570" y="9227"/>
                </a:cubicBezTo>
                <a:cubicBezTo>
                  <a:pt x="16683" y="9231"/>
                  <a:pt x="16781" y="9247"/>
                  <a:pt x="16892" y="9252"/>
                </a:cubicBezTo>
                <a:cubicBezTo>
                  <a:pt x="16909" y="9252"/>
                  <a:pt x="16925" y="9252"/>
                  <a:pt x="16942" y="9252"/>
                </a:cubicBezTo>
              </a:path>
              <a:path w="9650" h="1911">
                <a:moveTo>
                  <a:pt x="18281" y="8434"/>
                </a:moveTo>
                <a:cubicBezTo>
                  <a:pt x="18164" y="8667"/>
                  <a:pt x="17873" y="8880"/>
                  <a:pt x="17711" y="9054"/>
                </a:cubicBezTo>
                <a:cubicBezTo>
                  <a:pt x="17573" y="9203"/>
                  <a:pt x="17437" y="9362"/>
                  <a:pt x="17289" y="9500"/>
                </a:cubicBezTo>
                <a:cubicBezTo>
                  <a:pt x="17157" y="9623"/>
                  <a:pt x="17028" y="9728"/>
                  <a:pt x="16917" y="9872"/>
                </a:cubicBezTo>
              </a:path>
              <a:path w="9650" h="1911">
                <a:moveTo>
                  <a:pt x="17735" y="9575"/>
                </a:moveTo>
                <a:cubicBezTo>
                  <a:pt x="17832" y="9523"/>
                  <a:pt x="17854" y="9481"/>
                  <a:pt x="17934" y="9426"/>
                </a:cubicBezTo>
                <a:cubicBezTo>
                  <a:pt x="18031" y="9359"/>
                  <a:pt x="18067" y="9351"/>
                  <a:pt x="18182" y="9351"/>
                </a:cubicBezTo>
                <a:cubicBezTo>
                  <a:pt x="18297" y="9351"/>
                  <a:pt x="18351" y="9378"/>
                  <a:pt x="18405" y="9475"/>
                </a:cubicBezTo>
                <a:cubicBezTo>
                  <a:pt x="18458" y="9570"/>
                  <a:pt x="18446" y="9600"/>
                  <a:pt x="18430" y="9699"/>
                </a:cubicBezTo>
                <a:cubicBezTo>
                  <a:pt x="18413" y="9808"/>
                  <a:pt x="18346" y="9840"/>
                  <a:pt x="18281" y="9922"/>
                </a:cubicBezTo>
                <a:cubicBezTo>
                  <a:pt x="18196" y="10029"/>
                  <a:pt x="18079" y="10088"/>
                  <a:pt x="17959" y="10145"/>
                </a:cubicBezTo>
                <a:cubicBezTo>
                  <a:pt x="17897" y="10175"/>
                  <a:pt x="17836" y="10191"/>
                  <a:pt x="17785" y="10170"/>
                </a:cubicBezTo>
                <a:cubicBezTo>
                  <a:pt x="17920" y="10170"/>
                  <a:pt x="18049" y="10166"/>
                  <a:pt x="18182" y="10195"/>
                </a:cubicBezTo>
                <a:cubicBezTo>
                  <a:pt x="18288" y="10218"/>
                  <a:pt x="18401" y="10243"/>
                  <a:pt x="18504" y="10269"/>
                </a:cubicBezTo>
                <a:cubicBezTo>
                  <a:pt x="18569" y="10291"/>
                  <a:pt x="18584" y="10299"/>
                  <a:pt x="18628" y="10294"/>
                </a:cubicBezTo>
              </a:path>
              <a:path w="9650" h="1911">
                <a:moveTo>
                  <a:pt x="19472" y="9327"/>
                </a:moveTo>
                <a:cubicBezTo>
                  <a:pt x="19578" y="9345"/>
                  <a:pt x="19663" y="9351"/>
                  <a:pt x="19769" y="9351"/>
                </a:cubicBezTo>
                <a:cubicBezTo>
                  <a:pt x="19861" y="9351"/>
                  <a:pt x="19933" y="9387"/>
                  <a:pt x="20017" y="9401"/>
                </a:cubicBezTo>
                <a:cubicBezTo>
                  <a:pt x="20034" y="9401"/>
                  <a:pt x="20050" y="9401"/>
                  <a:pt x="20067" y="9401"/>
                </a:cubicBezTo>
              </a:path>
              <a:path w="9650" h="1911">
                <a:moveTo>
                  <a:pt x="19422" y="9897"/>
                </a:moveTo>
                <a:cubicBezTo>
                  <a:pt x="19560" y="9927"/>
                  <a:pt x="19647" y="9943"/>
                  <a:pt x="19794" y="9947"/>
                </a:cubicBezTo>
                <a:cubicBezTo>
                  <a:pt x="19891" y="9950"/>
                  <a:pt x="19974" y="9961"/>
                  <a:pt x="20067" y="9971"/>
                </a:cubicBezTo>
                <a:cubicBezTo>
                  <a:pt x="20125" y="9971"/>
                  <a:pt x="20133" y="9971"/>
                  <a:pt x="20166" y="9971"/>
                </a:cubicBezTo>
              </a:path>
              <a:path w="9650" h="1911">
                <a:moveTo>
                  <a:pt x="21481" y="8954"/>
                </a:moveTo>
                <a:cubicBezTo>
                  <a:pt x="21312" y="9102"/>
                  <a:pt x="21174" y="9229"/>
                  <a:pt x="21059" y="9426"/>
                </a:cubicBezTo>
                <a:cubicBezTo>
                  <a:pt x="21003" y="9523"/>
                  <a:pt x="20917" y="9655"/>
                  <a:pt x="20935" y="9773"/>
                </a:cubicBezTo>
                <a:cubicBezTo>
                  <a:pt x="20952" y="9888"/>
                  <a:pt x="21020" y="9975"/>
                  <a:pt x="21109" y="10046"/>
                </a:cubicBezTo>
                <a:cubicBezTo>
                  <a:pt x="21226" y="10139"/>
                  <a:pt x="21381" y="10197"/>
                  <a:pt x="21530" y="10170"/>
                </a:cubicBezTo>
                <a:cubicBezTo>
                  <a:pt x="21691" y="10141"/>
                  <a:pt x="21820" y="10122"/>
                  <a:pt x="21828" y="9971"/>
                </a:cubicBezTo>
                <a:cubicBezTo>
                  <a:pt x="21831" y="9916"/>
                  <a:pt x="21732" y="9828"/>
                  <a:pt x="21679" y="9798"/>
                </a:cubicBezTo>
                <a:cubicBezTo>
                  <a:pt x="21589" y="9747"/>
                  <a:pt x="21476" y="9744"/>
                  <a:pt x="21382" y="9723"/>
                </a:cubicBezTo>
                <a:cubicBezTo>
                  <a:pt x="21324" y="9704"/>
                  <a:pt x="21317" y="9696"/>
                  <a:pt x="21282" y="9699"/>
                </a:cubicBezTo>
              </a:path>
              <a:path w="9650" h="1911">
                <a:moveTo>
                  <a:pt x="15379" y="9128"/>
                </a:moveTo>
                <a:cubicBezTo>
                  <a:pt x="15402" y="9151"/>
                  <a:pt x="15413" y="9159"/>
                  <a:pt x="15379" y="9153"/>
                </a:cubicBezTo>
              </a:path>
              <a:path w="9650" h="1911">
                <a:moveTo>
                  <a:pt x="13915" y="8682"/>
                </a:moveTo>
                <a:cubicBezTo>
                  <a:pt x="13924" y="8612"/>
                  <a:pt x="13957" y="8547"/>
                  <a:pt x="14015" y="8508"/>
                </a:cubicBezTo>
                <a:cubicBezTo>
                  <a:pt x="14110" y="8443"/>
                  <a:pt x="14179" y="8434"/>
                  <a:pt x="14288" y="8434"/>
                </a:cubicBezTo>
                <a:cubicBezTo>
                  <a:pt x="14441" y="8434"/>
                  <a:pt x="14477" y="8485"/>
                  <a:pt x="14585" y="8582"/>
                </a:cubicBezTo>
                <a:cubicBezTo>
                  <a:pt x="14673" y="8661"/>
                  <a:pt x="14681" y="8768"/>
                  <a:pt x="14684" y="8880"/>
                </a:cubicBezTo>
                <a:cubicBezTo>
                  <a:pt x="14687" y="9001"/>
                  <a:pt x="14667" y="9132"/>
                  <a:pt x="14585" y="9227"/>
                </a:cubicBezTo>
                <a:cubicBezTo>
                  <a:pt x="14500" y="9325"/>
                  <a:pt x="14376" y="9475"/>
                  <a:pt x="14238" y="9500"/>
                </a:cubicBezTo>
                <a:cubicBezTo>
                  <a:pt x="14169" y="9513"/>
                  <a:pt x="14080" y="9530"/>
                  <a:pt x="14015" y="9500"/>
                </a:cubicBezTo>
                <a:cubicBezTo>
                  <a:pt x="14007" y="9492"/>
                  <a:pt x="13998" y="9483"/>
                  <a:pt x="13990" y="9475"/>
                </a:cubicBezTo>
                <a:cubicBezTo>
                  <a:pt x="14034" y="9441"/>
                  <a:pt x="14106" y="9386"/>
                  <a:pt x="14163" y="9376"/>
                </a:cubicBezTo>
                <a:cubicBezTo>
                  <a:pt x="14288" y="9354"/>
                  <a:pt x="14418" y="9395"/>
                  <a:pt x="14536" y="9426"/>
                </a:cubicBezTo>
                <a:cubicBezTo>
                  <a:pt x="14636" y="9452"/>
                  <a:pt x="14732" y="9478"/>
                  <a:pt x="14833" y="9500"/>
                </a:cubicBezTo>
              </a:path>
              <a:path w="9650" h="1911">
                <a:moveTo>
                  <a:pt x="22175" y="9872"/>
                </a:moveTo>
                <a:cubicBezTo>
                  <a:pt x="22200" y="9897"/>
                  <a:pt x="22208" y="9905"/>
                  <a:pt x="22225" y="9872"/>
                </a:cubicBezTo>
              </a:path>
              <a:path w="9650" h="1911">
                <a:moveTo>
                  <a:pt x="22696" y="9128"/>
                </a:moveTo>
                <a:cubicBezTo>
                  <a:pt x="22828" y="9148"/>
                  <a:pt x="22964" y="9146"/>
                  <a:pt x="23093" y="9178"/>
                </a:cubicBezTo>
                <a:cubicBezTo>
                  <a:pt x="23184" y="9200"/>
                  <a:pt x="23292" y="9245"/>
                  <a:pt x="23366" y="9302"/>
                </a:cubicBezTo>
                <a:cubicBezTo>
                  <a:pt x="23444" y="9362"/>
                  <a:pt x="23506" y="9435"/>
                  <a:pt x="23540" y="9525"/>
                </a:cubicBezTo>
                <a:cubicBezTo>
                  <a:pt x="23582" y="9636"/>
                  <a:pt x="23551" y="9693"/>
                  <a:pt x="23515" y="9798"/>
                </a:cubicBezTo>
                <a:cubicBezTo>
                  <a:pt x="23473" y="9918"/>
                  <a:pt x="23371" y="9998"/>
                  <a:pt x="23267" y="10071"/>
                </a:cubicBezTo>
                <a:cubicBezTo>
                  <a:pt x="23212" y="10110"/>
                  <a:pt x="23084" y="10129"/>
                  <a:pt x="23019" y="10120"/>
                </a:cubicBezTo>
                <a:cubicBezTo>
                  <a:pt x="22979" y="10114"/>
                  <a:pt x="22861" y="10101"/>
                  <a:pt x="22845" y="10046"/>
                </a:cubicBezTo>
                <a:cubicBezTo>
                  <a:pt x="22814" y="9936"/>
                  <a:pt x="22872" y="9941"/>
                  <a:pt x="22944" y="9897"/>
                </a:cubicBezTo>
                <a:cubicBezTo>
                  <a:pt x="22999" y="9864"/>
                  <a:pt x="23052" y="9881"/>
                  <a:pt x="23118" y="9897"/>
                </a:cubicBezTo>
                <a:cubicBezTo>
                  <a:pt x="23234" y="9925"/>
                  <a:pt x="23344" y="10001"/>
                  <a:pt x="23416" y="10096"/>
                </a:cubicBezTo>
                <a:cubicBezTo>
                  <a:pt x="23466" y="10162"/>
                  <a:pt x="23515" y="10226"/>
                  <a:pt x="23564" y="102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Ink 11"/>
          <p:cNvSpPr/>
          <p:nvPr/>
        </p:nvSpPr>
        <p:spPr>
          <a:xfrm>
            <a:off x="1419120" y="4303800"/>
            <a:ext cx="1617840" cy="420480"/>
          </a:xfrm>
          <a:custGeom>
            <a:avLst/>
            <a:gdLst/>
            <a:ahLst/>
            <a:rect l="l" t="t" r="r" b="b"/>
            <a:pathLst>
              <a:path w="4491" h="1167">
                <a:moveTo>
                  <a:pt x="4514" y="12303"/>
                </a:moveTo>
                <a:cubicBezTo>
                  <a:pt x="4505" y="12193"/>
                  <a:pt x="4533" y="12188"/>
                  <a:pt x="4440" y="12129"/>
                </a:cubicBezTo>
                <a:cubicBezTo>
                  <a:pt x="4372" y="12086"/>
                  <a:pt x="4326" y="12071"/>
                  <a:pt x="4242" y="12080"/>
                </a:cubicBezTo>
                <a:cubicBezTo>
                  <a:pt x="4195" y="12085"/>
                  <a:pt x="4093" y="12215"/>
                  <a:pt x="4068" y="12254"/>
                </a:cubicBezTo>
                <a:cubicBezTo>
                  <a:pt x="4005" y="12352"/>
                  <a:pt x="3957" y="12486"/>
                  <a:pt x="3944" y="12601"/>
                </a:cubicBezTo>
                <a:cubicBezTo>
                  <a:pt x="3924" y="12782"/>
                  <a:pt x="3945" y="12933"/>
                  <a:pt x="4068" y="13072"/>
                </a:cubicBezTo>
                <a:cubicBezTo>
                  <a:pt x="4121" y="13132"/>
                  <a:pt x="4246" y="13133"/>
                  <a:pt x="4316" y="13122"/>
                </a:cubicBezTo>
                <a:cubicBezTo>
                  <a:pt x="4390" y="13110"/>
                  <a:pt x="4451" y="13091"/>
                  <a:pt x="4514" y="13047"/>
                </a:cubicBezTo>
                <a:cubicBezTo>
                  <a:pt x="4626" y="12968"/>
                  <a:pt x="4662" y="12819"/>
                  <a:pt x="4688" y="12700"/>
                </a:cubicBezTo>
                <a:cubicBezTo>
                  <a:pt x="4713" y="12583"/>
                  <a:pt x="4738" y="12498"/>
                  <a:pt x="4738" y="12378"/>
                </a:cubicBezTo>
                <a:cubicBezTo>
                  <a:pt x="4738" y="12312"/>
                  <a:pt x="4738" y="12245"/>
                  <a:pt x="4738" y="12179"/>
                </a:cubicBezTo>
                <a:cubicBezTo>
                  <a:pt x="4738" y="12277"/>
                  <a:pt x="4723" y="12359"/>
                  <a:pt x="4713" y="12452"/>
                </a:cubicBezTo>
                <a:cubicBezTo>
                  <a:pt x="4698" y="12593"/>
                  <a:pt x="4698" y="12766"/>
                  <a:pt x="4738" y="12898"/>
                </a:cubicBezTo>
                <a:cubicBezTo>
                  <a:pt x="4778" y="12846"/>
                  <a:pt x="4825" y="12794"/>
                  <a:pt x="4837" y="12725"/>
                </a:cubicBezTo>
                <a:cubicBezTo>
                  <a:pt x="4854" y="12621"/>
                  <a:pt x="4882" y="12530"/>
                  <a:pt x="4911" y="12427"/>
                </a:cubicBezTo>
                <a:cubicBezTo>
                  <a:pt x="4931" y="12356"/>
                  <a:pt x="4952" y="12296"/>
                  <a:pt x="4986" y="12229"/>
                </a:cubicBezTo>
                <a:cubicBezTo>
                  <a:pt x="5006" y="12295"/>
                  <a:pt x="5048" y="12380"/>
                  <a:pt x="5060" y="12452"/>
                </a:cubicBezTo>
                <a:cubicBezTo>
                  <a:pt x="5072" y="12526"/>
                  <a:pt x="5063" y="12662"/>
                  <a:pt x="5110" y="12725"/>
                </a:cubicBezTo>
                <a:cubicBezTo>
                  <a:pt x="5139" y="12763"/>
                  <a:pt x="5280" y="12840"/>
                  <a:pt x="5333" y="12849"/>
                </a:cubicBezTo>
                <a:cubicBezTo>
                  <a:pt x="5399" y="12861"/>
                  <a:pt x="5526" y="12810"/>
                  <a:pt x="5581" y="12774"/>
                </a:cubicBezTo>
                <a:cubicBezTo>
                  <a:pt x="5667" y="12717"/>
                  <a:pt x="5709" y="12613"/>
                  <a:pt x="5755" y="12526"/>
                </a:cubicBezTo>
                <a:cubicBezTo>
                  <a:pt x="5802" y="12436"/>
                  <a:pt x="5891" y="12293"/>
                  <a:pt x="5854" y="12179"/>
                </a:cubicBezTo>
                <a:cubicBezTo>
                  <a:pt x="5829" y="12154"/>
                  <a:pt x="5821" y="12146"/>
                  <a:pt x="5804" y="12129"/>
                </a:cubicBezTo>
                <a:cubicBezTo>
                  <a:pt x="5724" y="12166"/>
                  <a:pt x="5669" y="12176"/>
                  <a:pt x="5655" y="12278"/>
                </a:cubicBezTo>
                <a:cubicBezTo>
                  <a:pt x="5642" y="12371"/>
                  <a:pt x="5646" y="12515"/>
                  <a:pt x="5680" y="12601"/>
                </a:cubicBezTo>
                <a:cubicBezTo>
                  <a:pt x="5720" y="12702"/>
                  <a:pt x="5811" y="12734"/>
                  <a:pt x="5904" y="12750"/>
                </a:cubicBezTo>
                <a:cubicBezTo>
                  <a:pt x="5998" y="12766"/>
                  <a:pt x="6077" y="12753"/>
                  <a:pt x="6152" y="12700"/>
                </a:cubicBezTo>
                <a:cubicBezTo>
                  <a:pt x="6229" y="12646"/>
                  <a:pt x="6254" y="12507"/>
                  <a:pt x="6300" y="12427"/>
                </a:cubicBezTo>
              </a:path>
              <a:path w="4491" h="1167">
                <a:moveTo>
                  <a:pt x="6276" y="11956"/>
                </a:moveTo>
                <a:cubicBezTo>
                  <a:pt x="6286" y="12076"/>
                  <a:pt x="6301" y="12210"/>
                  <a:pt x="6325" y="12328"/>
                </a:cubicBezTo>
                <a:cubicBezTo>
                  <a:pt x="6346" y="12433"/>
                  <a:pt x="6363" y="12544"/>
                  <a:pt x="6375" y="12650"/>
                </a:cubicBezTo>
                <a:cubicBezTo>
                  <a:pt x="6383" y="12723"/>
                  <a:pt x="6366" y="12742"/>
                  <a:pt x="6400" y="12799"/>
                </a:cubicBezTo>
              </a:path>
              <a:path w="4491" h="1167">
                <a:moveTo>
                  <a:pt x="6796" y="12154"/>
                </a:moveTo>
                <a:cubicBezTo>
                  <a:pt x="6720" y="12059"/>
                  <a:pt x="6723" y="12017"/>
                  <a:pt x="6648" y="12030"/>
                </a:cubicBezTo>
                <a:cubicBezTo>
                  <a:pt x="6596" y="12074"/>
                  <a:pt x="6560" y="12110"/>
                  <a:pt x="6598" y="12179"/>
                </a:cubicBezTo>
                <a:cubicBezTo>
                  <a:pt x="6643" y="12261"/>
                  <a:pt x="6722" y="12303"/>
                  <a:pt x="6772" y="12378"/>
                </a:cubicBezTo>
                <a:cubicBezTo>
                  <a:pt x="6815" y="12443"/>
                  <a:pt x="6861" y="12525"/>
                  <a:pt x="6871" y="12601"/>
                </a:cubicBezTo>
                <a:cubicBezTo>
                  <a:pt x="6871" y="12626"/>
                  <a:pt x="6871" y="12650"/>
                  <a:pt x="6871" y="12675"/>
                </a:cubicBezTo>
                <a:cubicBezTo>
                  <a:pt x="6770" y="12709"/>
                  <a:pt x="6721" y="12695"/>
                  <a:pt x="6623" y="12650"/>
                </a:cubicBezTo>
                <a:cubicBezTo>
                  <a:pt x="6569" y="12624"/>
                  <a:pt x="6549" y="12612"/>
                  <a:pt x="6524" y="12576"/>
                </a:cubicBezTo>
              </a:path>
              <a:path w="4491" h="1167">
                <a:moveTo>
                  <a:pt x="7144" y="12353"/>
                </a:moveTo>
                <a:cubicBezTo>
                  <a:pt x="7314" y="12267"/>
                  <a:pt x="7292" y="12281"/>
                  <a:pt x="7392" y="12179"/>
                </a:cubicBezTo>
                <a:cubicBezTo>
                  <a:pt x="7436" y="12134"/>
                  <a:pt x="7452" y="12124"/>
                  <a:pt x="7441" y="12080"/>
                </a:cubicBezTo>
                <a:cubicBezTo>
                  <a:pt x="7337" y="12050"/>
                  <a:pt x="7387" y="12093"/>
                  <a:pt x="7317" y="12154"/>
                </a:cubicBezTo>
                <a:cubicBezTo>
                  <a:pt x="7241" y="12219"/>
                  <a:pt x="7182" y="12299"/>
                  <a:pt x="7169" y="12402"/>
                </a:cubicBezTo>
                <a:cubicBezTo>
                  <a:pt x="7154" y="12518"/>
                  <a:pt x="7205" y="12556"/>
                  <a:pt x="7293" y="12601"/>
                </a:cubicBezTo>
                <a:cubicBezTo>
                  <a:pt x="7406" y="12658"/>
                  <a:pt x="7498" y="12655"/>
                  <a:pt x="7615" y="12626"/>
                </a:cubicBezTo>
                <a:cubicBezTo>
                  <a:pt x="7739" y="12595"/>
                  <a:pt x="7843" y="12565"/>
                  <a:pt x="7938" y="12477"/>
                </a:cubicBezTo>
                <a:cubicBezTo>
                  <a:pt x="8017" y="12404"/>
                  <a:pt x="8106" y="12365"/>
                  <a:pt x="8111" y="12254"/>
                </a:cubicBezTo>
                <a:cubicBezTo>
                  <a:pt x="8114" y="12182"/>
                  <a:pt x="8092" y="12123"/>
                  <a:pt x="8012" y="12105"/>
                </a:cubicBezTo>
                <a:cubicBezTo>
                  <a:pt x="7939" y="12088"/>
                  <a:pt x="7905" y="12148"/>
                  <a:pt x="7863" y="12179"/>
                </a:cubicBezTo>
                <a:cubicBezTo>
                  <a:pt x="7779" y="12241"/>
                  <a:pt x="7745" y="12265"/>
                  <a:pt x="7739" y="12378"/>
                </a:cubicBezTo>
                <a:cubicBezTo>
                  <a:pt x="7735" y="12451"/>
                  <a:pt x="7772" y="12473"/>
                  <a:pt x="7838" y="12477"/>
                </a:cubicBezTo>
                <a:cubicBezTo>
                  <a:pt x="7897" y="12481"/>
                  <a:pt x="8013" y="12434"/>
                  <a:pt x="8062" y="12402"/>
                </a:cubicBezTo>
                <a:cubicBezTo>
                  <a:pt x="8146" y="12346"/>
                  <a:pt x="8152" y="12272"/>
                  <a:pt x="8161" y="12179"/>
                </a:cubicBezTo>
                <a:cubicBezTo>
                  <a:pt x="8144" y="12231"/>
                  <a:pt x="8145" y="12341"/>
                  <a:pt x="8186" y="12402"/>
                </a:cubicBezTo>
                <a:cubicBezTo>
                  <a:pt x="8225" y="12460"/>
                  <a:pt x="8274" y="12515"/>
                  <a:pt x="8310" y="12576"/>
                </a:cubicBezTo>
                <a:cubicBezTo>
                  <a:pt x="8358" y="12658"/>
                  <a:pt x="8333" y="12640"/>
                  <a:pt x="8434" y="126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Ink 12"/>
          <p:cNvSpPr/>
          <p:nvPr/>
        </p:nvSpPr>
        <p:spPr>
          <a:xfrm>
            <a:off x="6027840" y="3884760"/>
            <a:ext cx="1714320" cy="509400"/>
          </a:xfrm>
          <a:custGeom>
            <a:avLst/>
            <a:gdLst/>
            <a:ahLst/>
            <a:rect l="l" t="t" r="r" b="b"/>
            <a:pathLst>
              <a:path w="4764" h="1415">
                <a:moveTo>
                  <a:pt x="16743" y="10790"/>
                </a:moveTo>
                <a:cubicBezTo>
                  <a:pt x="16865" y="10790"/>
                  <a:pt x="16973" y="10798"/>
                  <a:pt x="17090" y="10815"/>
                </a:cubicBezTo>
                <a:cubicBezTo>
                  <a:pt x="17182" y="10828"/>
                  <a:pt x="17272" y="10841"/>
                  <a:pt x="17363" y="10864"/>
                </a:cubicBezTo>
                <a:cubicBezTo>
                  <a:pt x="17462" y="10889"/>
                  <a:pt x="17632" y="10921"/>
                  <a:pt x="17711" y="10964"/>
                </a:cubicBezTo>
                <a:cubicBezTo>
                  <a:pt x="17735" y="10988"/>
                  <a:pt x="17744" y="10997"/>
                  <a:pt x="17760" y="11013"/>
                </a:cubicBezTo>
                <a:cubicBezTo>
                  <a:pt x="17724" y="11055"/>
                  <a:pt x="17691" y="11124"/>
                  <a:pt x="17636" y="11137"/>
                </a:cubicBezTo>
                <a:cubicBezTo>
                  <a:pt x="17508" y="11166"/>
                  <a:pt x="17404" y="11190"/>
                  <a:pt x="17289" y="11261"/>
                </a:cubicBezTo>
                <a:cubicBezTo>
                  <a:pt x="17254" y="11283"/>
                  <a:pt x="17133" y="11336"/>
                  <a:pt x="17115" y="11385"/>
                </a:cubicBezTo>
                <a:cubicBezTo>
                  <a:pt x="17067" y="11517"/>
                  <a:pt x="17239" y="11567"/>
                  <a:pt x="17314" y="11609"/>
                </a:cubicBezTo>
                <a:cubicBezTo>
                  <a:pt x="17473" y="11699"/>
                  <a:pt x="17684" y="11750"/>
                  <a:pt x="17859" y="11807"/>
                </a:cubicBezTo>
                <a:cubicBezTo>
                  <a:pt x="17978" y="11846"/>
                  <a:pt x="18107" y="11908"/>
                  <a:pt x="18231" y="11931"/>
                </a:cubicBezTo>
                <a:cubicBezTo>
                  <a:pt x="18248" y="11931"/>
                  <a:pt x="18264" y="11931"/>
                  <a:pt x="18281" y="11931"/>
                </a:cubicBezTo>
              </a:path>
              <a:path w="4764" h="1415">
                <a:moveTo>
                  <a:pt x="18752" y="11460"/>
                </a:moveTo>
                <a:cubicBezTo>
                  <a:pt x="18852" y="11498"/>
                  <a:pt x="18991" y="11566"/>
                  <a:pt x="19100" y="11584"/>
                </a:cubicBezTo>
                <a:cubicBezTo>
                  <a:pt x="19116" y="11584"/>
                  <a:pt x="19133" y="11584"/>
                  <a:pt x="19149" y="11584"/>
                </a:cubicBezTo>
              </a:path>
              <a:path w="4764" h="1415">
                <a:moveTo>
                  <a:pt x="18628" y="11733"/>
                </a:moveTo>
                <a:cubicBezTo>
                  <a:pt x="18720" y="11769"/>
                  <a:pt x="18803" y="11803"/>
                  <a:pt x="18901" y="11807"/>
                </a:cubicBezTo>
                <a:cubicBezTo>
                  <a:pt x="19005" y="11812"/>
                  <a:pt x="19096" y="11828"/>
                  <a:pt x="19199" y="11832"/>
                </a:cubicBezTo>
                <a:cubicBezTo>
                  <a:pt x="19248" y="11834"/>
                  <a:pt x="19299" y="11832"/>
                  <a:pt x="19348" y="11832"/>
                </a:cubicBezTo>
              </a:path>
              <a:path w="4764" h="1415">
                <a:moveTo>
                  <a:pt x="19968" y="11013"/>
                </a:moveTo>
                <a:cubicBezTo>
                  <a:pt x="20041" y="11149"/>
                  <a:pt x="20007" y="11172"/>
                  <a:pt x="19993" y="11336"/>
                </a:cubicBezTo>
                <a:cubicBezTo>
                  <a:pt x="19983" y="11451"/>
                  <a:pt x="19952" y="11548"/>
                  <a:pt x="19918" y="11658"/>
                </a:cubicBezTo>
                <a:cubicBezTo>
                  <a:pt x="19894" y="11735"/>
                  <a:pt x="19872" y="11816"/>
                  <a:pt x="19893" y="11881"/>
                </a:cubicBezTo>
              </a:path>
              <a:path w="4764" h="1415">
                <a:moveTo>
                  <a:pt x="20365" y="11237"/>
                </a:moveTo>
                <a:cubicBezTo>
                  <a:pt x="20436" y="11147"/>
                  <a:pt x="20468" y="11172"/>
                  <a:pt x="20538" y="11112"/>
                </a:cubicBezTo>
                <a:cubicBezTo>
                  <a:pt x="20614" y="11047"/>
                  <a:pt x="20640" y="11040"/>
                  <a:pt x="20737" y="11013"/>
                </a:cubicBezTo>
                <a:cubicBezTo>
                  <a:pt x="20843" y="10983"/>
                  <a:pt x="20953" y="10985"/>
                  <a:pt x="21059" y="11013"/>
                </a:cubicBezTo>
                <a:cubicBezTo>
                  <a:pt x="21125" y="11030"/>
                  <a:pt x="21177" y="11131"/>
                  <a:pt x="21208" y="11187"/>
                </a:cubicBezTo>
                <a:cubicBezTo>
                  <a:pt x="21257" y="11275"/>
                  <a:pt x="21257" y="11340"/>
                  <a:pt x="21233" y="11435"/>
                </a:cubicBezTo>
                <a:cubicBezTo>
                  <a:pt x="21212" y="11516"/>
                  <a:pt x="21174" y="11629"/>
                  <a:pt x="21109" y="11683"/>
                </a:cubicBezTo>
                <a:cubicBezTo>
                  <a:pt x="21017" y="11759"/>
                  <a:pt x="20921" y="11757"/>
                  <a:pt x="20811" y="11757"/>
                </a:cubicBezTo>
                <a:cubicBezTo>
                  <a:pt x="20745" y="11757"/>
                  <a:pt x="20691" y="11718"/>
                  <a:pt x="20638" y="11708"/>
                </a:cubicBezTo>
                <a:cubicBezTo>
                  <a:pt x="20564" y="11694"/>
                  <a:pt x="20588" y="11687"/>
                  <a:pt x="20588" y="11609"/>
                </a:cubicBezTo>
                <a:cubicBezTo>
                  <a:pt x="20682" y="11574"/>
                  <a:pt x="20762" y="11579"/>
                  <a:pt x="20861" y="11609"/>
                </a:cubicBezTo>
                <a:cubicBezTo>
                  <a:pt x="20981" y="11645"/>
                  <a:pt x="21136" y="11703"/>
                  <a:pt x="21233" y="11782"/>
                </a:cubicBezTo>
                <a:cubicBezTo>
                  <a:pt x="21304" y="11840"/>
                  <a:pt x="21400" y="11957"/>
                  <a:pt x="21456" y="12030"/>
                </a:cubicBezTo>
                <a:cubicBezTo>
                  <a:pt x="21500" y="12088"/>
                  <a:pt x="21500" y="12135"/>
                  <a:pt x="21506" y="122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Ink 13"/>
          <p:cNvSpPr/>
          <p:nvPr/>
        </p:nvSpPr>
        <p:spPr>
          <a:xfrm>
            <a:off x="1973160" y="3687840"/>
            <a:ext cx="1366920" cy="403200"/>
          </a:xfrm>
          <a:custGeom>
            <a:avLst/>
            <a:gdLst/>
            <a:ahLst/>
            <a:rect l="l" t="t" r="r" b="b"/>
            <a:pathLst>
              <a:path w="3796" h="1118">
                <a:moveTo>
                  <a:pt x="5482" y="10691"/>
                </a:moveTo>
                <a:cubicBezTo>
                  <a:pt x="5536" y="10753"/>
                  <a:pt x="5591" y="10816"/>
                  <a:pt x="5631" y="10889"/>
                </a:cubicBezTo>
                <a:cubicBezTo>
                  <a:pt x="5679" y="10977"/>
                  <a:pt x="5723" y="11058"/>
                  <a:pt x="5779" y="11137"/>
                </a:cubicBezTo>
                <a:cubicBezTo>
                  <a:pt x="5838" y="11221"/>
                  <a:pt x="5862" y="11285"/>
                  <a:pt x="5953" y="11336"/>
                </a:cubicBezTo>
                <a:cubicBezTo>
                  <a:pt x="6072" y="11402"/>
                  <a:pt x="6095" y="11325"/>
                  <a:pt x="6176" y="11261"/>
                </a:cubicBezTo>
                <a:cubicBezTo>
                  <a:pt x="6238" y="11213"/>
                  <a:pt x="6244" y="11124"/>
                  <a:pt x="6276" y="11038"/>
                </a:cubicBezTo>
                <a:cubicBezTo>
                  <a:pt x="6307" y="10955"/>
                  <a:pt x="6348" y="10896"/>
                  <a:pt x="6375" y="10815"/>
                </a:cubicBezTo>
                <a:cubicBezTo>
                  <a:pt x="6398" y="10746"/>
                  <a:pt x="6424" y="10716"/>
                  <a:pt x="6424" y="10641"/>
                </a:cubicBezTo>
              </a:path>
              <a:path w="3796" h="1118">
                <a:moveTo>
                  <a:pt x="6648" y="10716"/>
                </a:moveTo>
                <a:cubicBezTo>
                  <a:pt x="6771" y="10688"/>
                  <a:pt x="6869" y="10666"/>
                  <a:pt x="6995" y="10666"/>
                </a:cubicBezTo>
                <a:cubicBezTo>
                  <a:pt x="7086" y="10666"/>
                  <a:pt x="7166" y="10670"/>
                  <a:pt x="7243" y="10691"/>
                </a:cubicBezTo>
                <a:cubicBezTo>
                  <a:pt x="7251" y="10691"/>
                  <a:pt x="7260" y="10691"/>
                  <a:pt x="7268" y="10691"/>
                </a:cubicBezTo>
              </a:path>
              <a:path w="3796" h="1118">
                <a:moveTo>
                  <a:pt x="6648" y="11013"/>
                </a:moveTo>
                <a:cubicBezTo>
                  <a:pt x="6759" y="11005"/>
                  <a:pt x="6855" y="10988"/>
                  <a:pt x="6970" y="10988"/>
                </a:cubicBezTo>
                <a:cubicBezTo>
                  <a:pt x="7103" y="10988"/>
                  <a:pt x="7243" y="11004"/>
                  <a:pt x="7367" y="10964"/>
                </a:cubicBezTo>
              </a:path>
              <a:path w="3796" h="1118">
                <a:moveTo>
                  <a:pt x="7888" y="10269"/>
                </a:moveTo>
                <a:cubicBezTo>
                  <a:pt x="7919" y="10382"/>
                  <a:pt x="7935" y="10497"/>
                  <a:pt x="7938" y="10616"/>
                </a:cubicBezTo>
                <a:cubicBezTo>
                  <a:pt x="7941" y="10717"/>
                  <a:pt x="7943" y="10840"/>
                  <a:pt x="7962" y="10939"/>
                </a:cubicBezTo>
                <a:cubicBezTo>
                  <a:pt x="7968" y="10971"/>
                  <a:pt x="8032" y="11199"/>
                  <a:pt x="8062" y="11212"/>
                </a:cubicBezTo>
                <a:cubicBezTo>
                  <a:pt x="8078" y="11204"/>
                  <a:pt x="8095" y="11195"/>
                  <a:pt x="8111" y="11187"/>
                </a:cubicBezTo>
              </a:path>
              <a:path w="3796" h="1118">
                <a:moveTo>
                  <a:pt x="8186" y="10616"/>
                </a:moveTo>
                <a:cubicBezTo>
                  <a:pt x="8170" y="10558"/>
                  <a:pt x="8137" y="10455"/>
                  <a:pt x="8161" y="10393"/>
                </a:cubicBezTo>
                <a:cubicBezTo>
                  <a:pt x="8181" y="10341"/>
                  <a:pt x="8238" y="10297"/>
                  <a:pt x="8285" y="10269"/>
                </a:cubicBezTo>
                <a:cubicBezTo>
                  <a:pt x="8390" y="10205"/>
                  <a:pt x="8481" y="10259"/>
                  <a:pt x="8582" y="10294"/>
                </a:cubicBezTo>
                <a:cubicBezTo>
                  <a:pt x="8729" y="10345"/>
                  <a:pt x="8759" y="10447"/>
                  <a:pt x="8855" y="10567"/>
                </a:cubicBezTo>
                <a:cubicBezTo>
                  <a:pt x="8913" y="10639"/>
                  <a:pt x="8950" y="10720"/>
                  <a:pt x="8954" y="10815"/>
                </a:cubicBezTo>
                <a:cubicBezTo>
                  <a:pt x="8959" y="10923"/>
                  <a:pt x="8947" y="10974"/>
                  <a:pt x="8880" y="11063"/>
                </a:cubicBezTo>
                <a:cubicBezTo>
                  <a:pt x="8848" y="11106"/>
                  <a:pt x="8783" y="11150"/>
                  <a:pt x="8731" y="11162"/>
                </a:cubicBezTo>
                <a:cubicBezTo>
                  <a:pt x="8668" y="11176"/>
                  <a:pt x="8519" y="11156"/>
                  <a:pt x="8483" y="11088"/>
                </a:cubicBezTo>
                <a:cubicBezTo>
                  <a:pt x="8456" y="11038"/>
                  <a:pt x="8432" y="10931"/>
                  <a:pt x="8483" y="10889"/>
                </a:cubicBezTo>
                <a:cubicBezTo>
                  <a:pt x="8542" y="10840"/>
                  <a:pt x="8653" y="10805"/>
                  <a:pt x="8731" y="10815"/>
                </a:cubicBezTo>
                <a:cubicBezTo>
                  <a:pt x="8822" y="10827"/>
                  <a:pt x="8914" y="10854"/>
                  <a:pt x="9004" y="10864"/>
                </a:cubicBezTo>
                <a:cubicBezTo>
                  <a:pt x="9064" y="10871"/>
                  <a:pt x="9171" y="10867"/>
                  <a:pt x="9227" y="10889"/>
                </a:cubicBezTo>
                <a:cubicBezTo>
                  <a:pt x="9252" y="10914"/>
                  <a:pt x="9260" y="10922"/>
                  <a:pt x="9277" y="109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Ink 14"/>
          <p:cNvSpPr/>
          <p:nvPr/>
        </p:nvSpPr>
        <p:spPr>
          <a:xfrm>
            <a:off x="6483240" y="4545000"/>
            <a:ext cx="820800" cy="509760"/>
          </a:xfrm>
          <a:custGeom>
            <a:avLst/>
            <a:gdLst/>
            <a:ahLst/>
            <a:rect l="l" t="t" r="r" b="b"/>
            <a:pathLst>
              <a:path w="2283" h="1414">
                <a:moveTo>
                  <a:pt x="18008" y="12898"/>
                </a:moveTo>
                <a:cubicBezTo>
                  <a:pt x="18056" y="13005"/>
                  <a:pt x="18113" y="13129"/>
                  <a:pt x="18132" y="13246"/>
                </a:cubicBezTo>
                <a:cubicBezTo>
                  <a:pt x="18146" y="13334"/>
                  <a:pt x="18137" y="13432"/>
                  <a:pt x="18157" y="13519"/>
                </a:cubicBezTo>
                <a:cubicBezTo>
                  <a:pt x="18168" y="13569"/>
                  <a:pt x="18198" y="13614"/>
                  <a:pt x="18207" y="13667"/>
                </a:cubicBezTo>
              </a:path>
              <a:path w="2283" h="1414">
                <a:moveTo>
                  <a:pt x="18083" y="13196"/>
                </a:moveTo>
                <a:cubicBezTo>
                  <a:pt x="18155" y="13196"/>
                  <a:pt x="18222" y="13182"/>
                  <a:pt x="18281" y="13171"/>
                </a:cubicBezTo>
                <a:cubicBezTo>
                  <a:pt x="18387" y="13151"/>
                  <a:pt x="18448" y="13140"/>
                  <a:pt x="18554" y="13097"/>
                </a:cubicBezTo>
                <a:cubicBezTo>
                  <a:pt x="18619" y="13071"/>
                  <a:pt x="18709" y="13036"/>
                  <a:pt x="18777" y="13022"/>
                </a:cubicBezTo>
                <a:cubicBezTo>
                  <a:pt x="18834" y="13010"/>
                  <a:pt x="18855" y="13008"/>
                  <a:pt x="18901" y="12973"/>
                </a:cubicBezTo>
              </a:path>
              <a:path w="2283" h="1414">
                <a:moveTo>
                  <a:pt x="18455" y="13246"/>
                </a:moveTo>
                <a:cubicBezTo>
                  <a:pt x="18495" y="13344"/>
                  <a:pt x="18547" y="13387"/>
                  <a:pt x="18604" y="13469"/>
                </a:cubicBezTo>
                <a:cubicBezTo>
                  <a:pt x="18637" y="13516"/>
                  <a:pt x="18652" y="13608"/>
                  <a:pt x="18678" y="13643"/>
                </a:cubicBezTo>
                <a:cubicBezTo>
                  <a:pt x="18686" y="13643"/>
                  <a:pt x="18695" y="13643"/>
                  <a:pt x="18703" y="13643"/>
                </a:cubicBezTo>
              </a:path>
              <a:path w="2283" h="1414">
                <a:moveTo>
                  <a:pt x="18852" y="13370"/>
                </a:moveTo>
                <a:cubicBezTo>
                  <a:pt x="18909" y="13427"/>
                  <a:pt x="18953" y="13481"/>
                  <a:pt x="19000" y="13543"/>
                </a:cubicBezTo>
                <a:cubicBezTo>
                  <a:pt x="19039" y="13594"/>
                  <a:pt x="19048" y="13641"/>
                  <a:pt x="19075" y="13692"/>
                </a:cubicBezTo>
                <a:cubicBezTo>
                  <a:pt x="19103" y="13749"/>
                  <a:pt x="19119" y="13768"/>
                  <a:pt x="19174" y="13767"/>
                </a:cubicBezTo>
              </a:path>
              <a:path w="2283" h="1414">
                <a:moveTo>
                  <a:pt x="19298" y="13395"/>
                </a:moveTo>
                <a:cubicBezTo>
                  <a:pt x="19245" y="13447"/>
                  <a:pt x="19224" y="13496"/>
                  <a:pt x="19174" y="13543"/>
                </a:cubicBezTo>
                <a:cubicBezTo>
                  <a:pt x="19109" y="13603"/>
                  <a:pt x="19068" y="13690"/>
                  <a:pt x="19000" y="13742"/>
                </a:cubicBezTo>
                <a:cubicBezTo>
                  <a:pt x="18934" y="13793"/>
                  <a:pt x="18886" y="13864"/>
                  <a:pt x="18827" y="13915"/>
                </a:cubicBezTo>
                <a:cubicBezTo>
                  <a:pt x="18810" y="13923"/>
                  <a:pt x="18794" y="13932"/>
                  <a:pt x="18777" y="13940"/>
                </a:cubicBezTo>
              </a:path>
              <a:path w="2283" h="1414">
                <a:moveTo>
                  <a:pt x="19472" y="12626"/>
                </a:moveTo>
                <a:cubicBezTo>
                  <a:pt x="19568" y="12658"/>
                  <a:pt x="19508" y="12728"/>
                  <a:pt x="19496" y="12824"/>
                </a:cubicBezTo>
                <a:cubicBezTo>
                  <a:pt x="19480" y="12957"/>
                  <a:pt x="19472" y="13086"/>
                  <a:pt x="19472" y="13221"/>
                </a:cubicBezTo>
                <a:cubicBezTo>
                  <a:pt x="19472" y="13332"/>
                  <a:pt x="19447" y="13430"/>
                  <a:pt x="19447" y="13543"/>
                </a:cubicBezTo>
                <a:cubicBezTo>
                  <a:pt x="19447" y="13584"/>
                  <a:pt x="19447" y="13626"/>
                  <a:pt x="19447" y="13667"/>
                </a:cubicBezTo>
              </a:path>
              <a:path w="2283" h="1414">
                <a:moveTo>
                  <a:pt x="19670" y="13519"/>
                </a:moveTo>
                <a:cubicBezTo>
                  <a:pt x="19789" y="13491"/>
                  <a:pt x="19923" y="13480"/>
                  <a:pt x="20017" y="13395"/>
                </a:cubicBezTo>
                <a:cubicBezTo>
                  <a:pt x="20058" y="13358"/>
                  <a:pt x="20132" y="13308"/>
                  <a:pt x="20117" y="13246"/>
                </a:cubicBezTo>
                <a:cubicBezTo>
                  <a:pt x="20090" y="13133"/>
                  <a:pt x="19916" y="13169"/>
                  <a:pt x="19844" y="13196"/>
                </a:cubicBezTo>
                <a:cubicBezTo>
                  <a:pt x="19793" y="13215"/>
                  <a:pt x="19766" y="13303"/>
                  <a:pt x="19745" y="13345"/>
                </a:cubicBezTo>
                <a:cubicBezTo>
                  <a:pt x="19701" y="13433"/>
                  <a:pt x="19721" y="13505"/>
                  <a:pt x="19745" y="13593"/>
                </a:cubicBezTo>
                <a:cubicBezTo>
                  <a:pt x="19788" y="13750"/>
                  <a:pt x="19807" y="13793"/>
                  <a:pt x="19943" y="13891"/>
                </a:cubicBezTo>
                <a:cubicBezTo>
                  <a:pt x="20056" y="13973"/>
                  <a:pt x="20157" y="13997"/>
                  <a:pt x="20290" y="140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istributive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eorgia"/>
              </a:rPr>
              <a:t>3(2a + 5) = 57</a:t>
            </a:r>
            <a:endParaRPr b="0" lang="en-US" sz="6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Ink 4"/>
          <p:cNvSpPr/>
          <p:nvPr/>
        </p:nvSpPr>
        <p:spPr>
          <a:xfrm>
            <a:off x="652320" y="1339920"/>
            <a:ext cx="2268720" cy="517320"/>
          </a:xfrm>
          <a:custGeom>
            <a:avLst/>
            <a:gdLst/>
            <a:ahLst/>
            <a:rect l="l" t="t" r="r" b="b"/>
            <a:pathLst>
              <a:path w="6301" h="1439">
                <a:moveTo>
                  <a:pt x="1885" y="5159"/>
                </a:moveTo>
                <a:cubicBezTo>
                  <a:pt x="1806" y="5103"/>
                  <a:pt x="1786" y="5066"/>
                  <a:pt x="1836" y="4961"/>
                </a:cubicBezTo>
                <a:cubicBezTo>
                  <a:pt x="1851" y="4929"/>
                  <a:pt x="1913" y="4863"/>
                  <a:pt x="1935" y="4837"/>
                </a:cubicBezTo>
                <a:cubicBezTo>
                  <a:pt x="1992" y="4768"/>
                  <a:pt x="2138" y="4658"/>
                  <a:pt x="2208" y="4614"/>
                </a:cubicBezTo>
                <a:cubicBezTo>
                  <a:pt x="2291" y="4561"/>
                  <a:pt x="2397" y="4542"/>
                  <a:pt x="2480" y="4490"/>
                </a:cubicBezTo>
                <a:cubicBezTo>
                  <a:pt x="2583" y="4424"/>
                  <a:pt x="2660" y="4416"/>
                  <a:pt x="2778" y="4390"/>
                </a:cubicBezTo>
                <a:cubicBezTo>
                  <a:pt x="2885" y="4367"/>
                  <a:pt x="2990" y="4345"/>
                  <a:pt x="3101" y="4341"/>
                </a:cubicBezTo>
                <a:cubicBezTo>
                  <a:pt x="3197" y="4338"/>
                  <a:pt x="3307" y="4342"/>
                  <a:pt x="3398" y="4366"/>
                </a:cubicBezTo>
                <a:cubicBezTo>
                  <a:pt x="3488" y="4390"/>
                  <a:pt x="3544" y="4416"/>
                  <a:pt x="3621" y="4465"/>
                </a:cubicBezTo>
                <a:cubicBezTo>
                  <a:pt x="3710" y="4521"/>
                  <a:pt x="3733" y="4521"/>
                  <a:pt x="3795" y="4614"/>
                </a:cubicBezTo>
                <a:cubicBezTo>
                  <a:pt x="3824" y="4658"/>
                  <a:pt x="3870" y="4717"/>
                  <a:pt x="3894" y="4762"/>
                </a:cubicBezTo>
                <a:cubicBezTo>
                  <a:pt x="3927" y="4825"/>
                  <a:pt x="3939" y="4880"/>
                  <a:pt x="3969" y="4936"/>
                </a:cubicBezTo>
                <a:cubicBezTo>
                  <a:pt x="3996" y="4986"/>
                  <a:pt x="4011" y="5000"/>
                  <a:pt x="4018" y="5060"/>
                </a:cubicBezTo>
              </a:path>
              <a:path w="6301" h="1439">
                <a:moveTo>
                  <a:pt x="1860" y="4961"/>
                </a:moveTo>
                <a:cubicBezTo>
                  <a:pt x="1911" y="4904"/>
                  <a:pt x="1954" y="4839"/>
                  <a:pt x="2009" y="4787"/>
                </a:cubicBezTo>
                <a:cubicBezTo>
                  <a:pt x="2071" y="4729"/>
                  <a:pt x="2164" y="4666"/>
                  <a:pt x="2232" y="4614"/>
                </a:cubicBezTo>
                <a:cubicBezTo>
                  <a:pt x="2328" y="4540"/>
                  <a:pt x="2421" y="4445"/>
                  <a:pt x="2530" y="4390"/>
                </a:cubicBezTo>
                <a:cubicBezTo>
                  <a:pt x="2684" y="4313"/>
                  <a:pt x="2843" y="4246"/>
                  <a:pt x="3001" y="4167"/>
                </a:cubicBezTo>
                <a:cubicBezTo>
                  <a:pt x="3104" y="4116"/>
                  <a:pt x="3215" y="4054"/>
                  <a:pt x="3324" y="4018"/>
                </a:cubicBezTo>
                <a:cubicBezTo>
                  <a:pt x="3467" y="3971"/>
                  <a:pt x="3656" y="3898"/>
                  <a:pt x="3795" y="3870"/>
                </a:cubicBezTo>
                <a:cubicBezTo>
                  <a:pt x="3922" y="3844"/>
                  <a:pt x="4064" y="3845"/>
                  <a:pt x="4192" y="3820"/>
                </a:cubicBezTo>
                <a:cubicBezTo>
                  <a:pt x="4373" y="3784"/>
                  <a:pt x="4532" y="3763"/>
                  <a:pt x="4713" y="3746"/>
                </a:cubicBezTo>
                <a:cubicBezTo>
                  <a:pt x="4847" y="3733"/>
                  <a:pt x="4974" y="3723"/>
                  <a:pt x="5110" y="3721"/>
                </a:cubicBezTo>
                <a:cubicBezTo>
                  <a:pt x="5248" y="3719"/>
                  <a:pt x="5374" y="3725"/>
                  <a:pt x="5507" y="3746"/>
                </a:cubicBezTo>
                <a:cubicBezTo>
                  <a:pt x="5607" y="3762"/>
                  <a:pt x="5700" y="3777"/>
                  <a:pt x="5804" y="3795"/>
                </a:cubicBezTo>
                <a:cubicBezTo>
                  <a:pt x="5873" y="3807"/>
                  <a:pt x="5933" y="3819"/>
                  <a:pt x="6003" y="3845"/>
                </a:cubicBezTo>
                <a:cubicBezTo>
                  <a:pt x="6094" y="3879"/>
                  <a:pt x="6148" y="3956"/>
                  <a:pt x="6226" y="3994"/>
                </a:cubicBezTo>
                <a:cubicBezTo>
                  <a:pt x="6274" y="4017"/>
                  <a:pt x="6348" y="4043"/>
                  <a:pt x="6400" y="4068"/>
                </a:cubicBezTo>
                <a:cubicBezTo>
                  <a:pt x="6467" y="4100"/>
                  <a:pt x="6527" y="4147"/>
                  <a:pt x="6598" y="4167"/>
                </a:cubicBezTo>
                <a:cubicBezTo>
                  <a:pt x="6658" y="4184"/>
                  <a:pt x="6717" y="4195"/>
                  <a:pt x="6772" y="4217"/>
                </a:cubicBezTo>
                <a:cubicBezTo>
                  <a:pt x="6858" y="4251"/>
                  <a:pt x="6934" y="4310"/>
                  <a:pt x="7020" y="4341"/>
                </a:cubicBezTo>
                <a:cubicBezTo>
                  <a:pt x="7072" y="4360"/>
                  <a:pt x="7118" y="4368"/>
                  <a:pt x="7169" y="4390"/>
                </a:cubicBezTo>
                <a:cubicBezTo>
                  <a:pt x="7233" y="4417"/>
                  <a:pt x="7297" y="4457"/>
                  <a:pt x="7367" y="4490"/>
                </a:cubicBezTo>
                <a:cubicBezTo>
                  <a:pt x="7417" y="4514"/>
                  <a:pt x="7472" y="4537"/>
                  <a:pt x="7516" y="4564"/>
                </a:cubicBezTo>
                <a:cubicBezTo>
                  <a:pt x="7566" y="4595"/>
                  <a:pt x="7613" y="4632"/>
                  <a:pt x="7665" y="4663"/>
                </a:cubicBezTo>
                <a:cubicBezTo>
                  <a:pt x="7718" y="4694"/>
                  <a:pt x="7767" y="4730"/>
                  <a:pt x="7813" y="4762"/>
                </a:cubicBezTo>
                <a:cubicBezTo>
                  <a:pt x="7882" y="4810"/>
                  <a:pt x="7984" y="4873"/>
                  <a:pt x="8037" y="4936"/>
                </a:cubicBezTo>
                <a:cubicBezTo>
                  <a:pt x="8075" y="4981"/>
                  <a:pt x="8085" y="5022"/>
                  <a:pt x="8111" y="50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Ink 5"/>
          <p:cNvSpPr/>
          <p:nvPr/>
        </p:nvSpPr>
        <p:spPr>
          <a:xfrm>
            <a:off x="750960" y="2938320"/>
            <a:ext cx="480960" cy="374760"/>
          </a:xfrm>
          <a:custGeom>
            <a:avLst/>
            <a:gdLst/>
            <a:ahLst/>
            <a:rect l="l" t="t" r="r" b="b"/>
            <a:pathLst>
              <a:path w="1340" h="1043">
                <a:moveTo>
                  <a:pt x="2183" y="8161"/>
                </a:moveTo>
                <a:cubicBezTo>
                  <a:pt x="2151" y="8224"/>
                  <a:pt x="2119" y="8292"/>
                  <a:pt x="2108" y="8359"/>
                </a:cubicBezTo>
                <a:cubicBezTo>
                  <a:pt x="2097" y="8427"/>
                  <a:pt x="2089" y="8518"/>
                  <a:pt x="2084" y="8582"/>
                </a:cubicBezTo>
                <a:cubicBezTo>
                  <a:pt x="2074" y="8702"/>
                  <a:pt x="2077" y="8865"/>
                  <a:pt x="2108" y="8979"/>
                </a:cubicBezTo>
                <a:cubicBezTo>
                  <a:pt x="2122" y="9030"/>
                  <a:pt x="2162" y="9098"/>
                  <a:pt x="2208" y="9128"/>
                </a:cubicBezTo>
                <a:cubicBezTo>
                  <a:pt x="2278" y="9174"/>
                  <a:pt x="2324" y="9200"/>
                  <a:pt x="2406" y="9153"/>
                </a:cubicBezTo>
                <a:cubicBezTo>
                  <a:pt x="2440" y="9134"/>
                  <a:pt x="2511" y="9093"/>
                  <a:pt x="2530" y="9054"/>
                </a:cubicBezTo>
                <a:cubicBezTo>
                  <a:pt x="2563" y="8985"/>
                  <a:pt x="2611" y="8855"/>
                  <a:pt x="2604" y="8781"/>
                </a:cubicBezTo>
                <a:cubicBezTo>
                  <a:pt x="2598" y="8715"/>
                  <a:pt x="2572" y="8637"/>
                  <a:pt x="2530" y="8582"/>
                </a:cubicBezTo>
                <a:cubicBezTo>
                  <a:pt x="2490" y="8530"/>
                  <a:pt x="2414" y="8562"/>
                  <a:pt x="2381" y="8607"/>
                </a:cubicBezTo>
                <a:cubicBezTo>
                  <a:pt x="2339" y="8665"/>
                  <a:pt x="2315" y="8761"/>
                  <a:pt x="2307" y="8830"/>
                </a:cubicBezTo>
                <a:cubicBezTo>
                  <a:pt x="2298" y="8907"/>
                  <a:pt x="2284" y="9047"/>
                  <a:pt x="2332" y="9079"/>
                </a:cubicBezTo>
              </a:path>
              <a:path w="1340" h="1043">
                <a:moveTo>
                  <a:pt x="2902" y="8434"/>
                </a:moveTo>
                <a:cubicBezTo>
                  <a:pt x="2912" y="8362"/>
                  <a:pt x="2936" y="8349"/>
                  <a:pt x="3001" y="8310"/>
                </a:cubicBezTo>
                <a:cubicBezTo>
                  <a:pt x="3058" y="8276"/>
                  <a:pt x="3086" y="8239"/>
                  <a:pt x="3150" y="8235"/>
                </a:cubicBezTo>
                <a:cubicBezTo>
                  <a:pt x="3204" y="8232"/>
                  <a:pt x="3244" y="8264"/>
                  <a:pt x="3274" y="8310"/>
                </a:cubicBezTo>
                <a:cubicBezTo>
                  <a:pt x="3309" y="8364"/>
                  <a:pt x="3346" y="8396"/>
                  <a:pt x="3349" y="8458"/>
                </a:cubicBezTo>
                <a:cubicBezTo>
                  <a:pt x="3353" y="8539"/>
                  <a:pt x="3294" y="8639"/>
                  <a:pt x="3249" y="8706"/>
                </a:cubicBezTo>
                <a:cubicBezTo>
                  <a:pt x="3164" y="8831"/>
                  <a:pt x="3099" y="8951"/>
                  <a:pt x="3026" y="9079"/>
                </a:cubicBezTo>
                <a:cubicBezTo>
                  <a:pt x="2988" y="9146"/>
                  <a:pt x="2982" y="9124"/>
                  <a:pt x="3001" y="9203"/>
                </a:cubicBezTo>
                <a:cubicBezTo>
                  <a:pt x="3061" y="9169"/>
                  <a:pt x="3123" y="9125"/>
                  <a:pt x="3175" y="9079"/>
                </a:cubicBezTo>
                <a:cubicBezTo>
                  <a:pt x="3254" y="9008"/>
                  <a:pt x="3282" y="8841"/>
                  <a:pt x="3299" y="8756"/>
                </a:cubicBezTo>
                <a:cubicBezTo>
                  <a:pt x="3313" y="8684"/>
                  <a:pt x="3297" y="8615"/>
                  <a:pt x="3274" y="8558"/>
                </a:cubicBezTo>
                <a:cubicBezTo>
                  <a:pt x="3251" y="8501"/>
                  <a:pt x="3181" y="8360"/>
                  <a:pt x="3249" y="8384"/>
                </a:cubicBezTo>
                <a:cubicBezTo>
                  <a:pt x="3249" y="8459"/>
                  <a:pt x="3256" y="8516"/>
                  <a:pt x="3274" y="8582"/>
                </a:cubicBezTo>
                <a:cubicBezTo>
                  <a:pt x="3294" y="8656"/>
                  <a:pt x="3301" y="8737"/>
                  <a:pt x="3324" y="8806"/>
                </a:cubicBezTo>
                <a:cubicBezTo>
                  <a:pt x="3341" y="8858"/>
                  <a:pt x="3366" y="8932"/>
                  <a:pt x="3373" y="8979"/>
                </a:cubicBezTo>
                <a:cubicBezTo>
                  <a:pt x="3381" y="9035"/>
                  <a:pt x="3377" y="9124"/>
                  <a:pt x="3398" y="9178"/>
                </a:cubicBezTo>
                <a:cubicBezTo>
                  <a:pt x="3421" y="9201"/>
                  <a:pt x="3429" y="9212"/>
                  <a:pt x="3423" y="91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Ink 6"/>
          <p:cNvSpPr/>
          <p:nvPr/>
        </p:nvSpPr>
        <p:spPr>
          <a:xfrm>
            <a:off x="1411200" y="2840040"/>
            <a:ext cx="768600" cy="847800"/>
          </a:xfrm>
          <a:custGeom>
            <a:avLst/>
            <a:gdLst/>
            <a:ahLst/>
            <a:rect l="l" t="t" r="r" b="b"/>
            <a:pathLst>
              <a:path w="2134" h="2357">
                <a:moveTo>
                  <a:pt x="4142" y="8235"/>
                </a:moveTo>
                <a:cubicBezTo>
                  <a:pt x="4142" y="8381"/>
                  <a:pt x="4147" y="8516"/>
                  <a:pt x="4167" y="8657"/>
                </a:cubicBezTo>
                <a:cubicBezTo>
                  <a:pt x="4178" y="8736"/>
                  <a:pt x="4167" y="8825"/>
                  <a:pt x="4167" y="8905"/>
                </a:cubicBezTo>
              </a:path>
              <a:path w="2134" h="2357">
                <a:moveTo>
                  <a:pt x="3919" y="8434"/>
                </a:moveTo>
                <a:cubicBezTo>
                  <a:pt x="4064" y="8434"/>
                  <a:pt x="4203" y="8426"/>
                  <a:pt x="4341" y="8409"/>
                </a:cubicBezTo>
                <a:cubicBezTo>
                  <a:pt x="4412" y="8400"/>
                  <a:pt x="4492" y="8409"/>
                  <a:pt x="4564" y="8409"/>
                </a:cubicBezTo>
              </a:path>
              <a:path w="2134" h="2357">
                <a:moveTo>
                  <a:pt x="4936" y="7962"/>
                </a:moveTo>
                <a:cubicBezTo>
                  <a:pt x="4936" y="8276"/>
                  <a:pt x="4921" y="8601"/>
                  <a:pt x="4961" y="8905"/>
                </a:cubicBezTo>
                <a:cubicBezTo>
                  <a:pt x="4968" y="8960"/>
                  <a:pt x="4961" y="9023"/>
                  <a:pt x="4961" y="9079"/>
                </a:cubicBezTo>
              </a:path>
              <a:path w="2134" h="2357">
                <a:moveTo>
                  <a:pt x="5904" y="7938"/>
                </a:moveTo>
                <a:cubicBezTo>
                  <a:pt x="5782" y="7938"/>
                  <a:pt x="5671" y="7932"/>
                  <a:pt x="5556" y="7913"/>
                </a:cubicBezTo>
                <a:cubicBezTo>
                  <a:pt x="5512" y="7913"/>
                  <a:pt x="5498" y="7916"/>
                  <a:pt x="5482" y="7888"/>
                </a:cubicBezTo>
                <a:cubicBezTo>
                  <a:pt x="5473" y="7951"/>
                  <a:pt x="5443" y="7997"/>
                  <a:pt x="5432" y="8062"/>
                </a:cubicBezTo>
                <a:cubicBezTo>
                  <a:pt x="5424" y="8108"/>
                  <a:pt x="5432" y="8163"/>
                  <a:pt x="5432" y="8210"/>
                </a:cubicBezTo>
                <a:cubicBezTo>
                  <a:pt x="5457" y="8222"/>
                  <a:pt x="5536" y="8227"/>
                  <a:pt x="5581" y="8210"/>
                </a:cubicBezTo>
                <a:cubicBezTo>
                  <a:pt x="5634" y="8190"/>
                  <a:pt x="5671" y="8186"/>
                  <a:pt x="5730" y="8210"/>
                </a:cubicBezTo>
                <a:cubicBezTo>
                  <a:pt x="5827" y="8250"/>
                  <a:pt x="5857" y="8300"/>
                  <a:pt x="5928" y="8359"/>
                </a:cubicBezTo>
                <a:cubicBezTo>
                  <a:pt x="6006" y="8425"/>
                  <a:pt x="6047" y="8563"/>
                  <a:pt x="6052" y="8657"/>
                </a:cubicBezTo>
                <a:cubicBezTo>
                  <a:pt x="6056" y="8739"/>
                  <a:pt x="6037" y="8780"/>
                  <a:pt x="6003" y="8855"/>
                </a:cubicBezTo>
                <a:cubicBezTo>
                  <a:pt x="5961" y="8948"/>
                  <a:pt x="5894" y="8930"/>
                  <a:pt x="5804" y="8930"/>
                </a:cubicBezTo>
                <a:cubicBezTo>
                  <a:pt x="5742" y="8930"/>
                  <a:pt x="5679" y="8909"/>
                  <a:pt x="5631" y="8880"/>
                </a:cubicBezTo>
              </a:path>
              <a:path w="2134" h="2357">
                <a:moveTo>
                  <a:pt x="4118" y="9575"/>
                </a:moveTo>
                <a:cubicBezTo>
                  <a:pt x="4307" y="9575"/>
                  <a:pt x="4507" y="9559"/>
                  <a:pt x="4688" y="9599"/>
                </a:cubicBezTo>
                <a:cubicBezTo>
                  <a:pt x="4696" y="9599"/>
                  <a:pt x="4705" y="9599"/>
                  <a:pt x="4713" y="9599"/>
                </a:cubicBezTo>
              </a:path>
              <a:path w="2134" h="2357">
                <a:moveTo>
                  <a:pt x="4936" y="9451"/>
                </a:moveTo>
                <a:cubicBezTo>
                  <a:pt x="4946" y="9527"/>
                  <a:pt x="4974" y="9600"/>
                  <a:pt x="4986" y="9674"/>
                </a:cubicBezTo>
                <a:cubicBezTo>
                  <a:pt x="4997" y="9746"/>
                  <a:pt x="5002" y="9828"/>
                  <a:pt x="5011" y="9897"/>
                </a:cubicBezTo>
                <a:cubicBezTo>
                  <a:pt x="5025" y="10003"/>
                  <a:pt x="4983" y="10129"/>
                  <a:pt x="5035" y="10220"/>
                </a:cubicBezTo>
              </a:path>
              <a:path w="2134" h="2357">
                <a:moveTo>
                  <a:pt x="5804" y="9351"/>
                </a:moveTo>
                <a:cubicBezTo>
                  <a:pt x="5812" y="9343"/>
                  <a:pt x="5821" y="9335"/>
                  <a:pt x="5829" y="9327"/>
                </a:cubicBezTo>
                <a:cubicBezTo>
                  <a:pt x="5774" y="9294"/>
                  <a:pt x="5723" y="9302"/>
                  <a:pt x="5655" y="9302"/>
                </a:cubicBezTo>
                <a:cubicBezTo>
                  <a:pt x="5616" y="9302"/>
                  <a:pt x="5473" y="9310"/>
                  <a:pt x="5457" y="9351"/>
                </a:cubicBezTo>
                <a:cubicBezTo>
                  <a:pt x="5433" y="9413"/>
                  <a:pt x="5432" y="9477"/>
                  <a:pt x="5432" y="9550"/>
                </a:cubicBezTo>
                <a:cubicBezTo>
                  <a:pt x="5432" y="9608"/>
                  <a:pt x="5430" y="9628"/>
                  <a:pt x="5457" y="9674"/>
                </a:cubicBezTo>
                <a:cubicBezTo>
                  <a:pt x="5513" y="9666"/>
                  <a:pt x="5556" y="9634"/>
                  <a:pt x="5606" y="9624"/>
                </a:cubicBezTo>
                <a:cubicBezTo>
                  <a:pt x="5682" y="9609"/>
                  <a:pt x="5771" y="9630"/>
                  <a:pt x="5829" y="9674"/>
                </a:cubicBezTo>
                <a:cubicBezTo>
                  <a:pt x="5883" y="9715"/>
                  <a:pt x="5892" y="9770"/>
                  <a:pt x="5928" y="9823"/>
                </a:cubicBezTo>
                <a:cubicBezTo>
                  <a:pt x="5967" y="9880"/>
                  <a:pt x="6005" y="9945"/>
                  <a:pt x="5978" y="10021"/>
                </a:cubicBezTo>
                <a:cubicBezTo>
                  <a:pt x="5961" y="10070"/>
                  <a:pt x="5943" y="10126"/>
                  <a:pt x="5904" y="10170"/>
                </a:cubicBezTo>
                <a:cubicBezTo>
                  <a:pt x="5843" y="10238"/>
                  <a:pt x="5773" y="10256"/>
                  <a:pt x="5680" y="10244"/>
                </a:cubicBezTo>
                <a:cubicBezTo>
                  <a:pt x="5623" y="10237"/>
                  <a:pt x="5500" y="10216"/>
                  <a:pt x="5457" y="10170"/>
                </a:cubicBezTo>
                <a:cubicBezTo>
                  <a:pt x="5449" y="10153"/>
                  <a:pt x="5440" y="10137"/>
                  <a:pt x="5432" y="101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Ink 7"/>
          <p:cNvSpPr/>
          <p:nvPr/>
        </p:nvSpPr>
        <p:spPr>
          <a:xfrm>
            <a:off x="2401920" y="2840040"/>
            <a:ext cx="920880" cy="839880"/>
          </a:xfrm>
          <a:custGeom>
            <a:avLst/>
            <a:gdLst/>
            <a:ahLst/>
            <a:rect l="l" t="t" r="r" b="b"/>
            <a:pathLst>
              <a:path w="2556" h="2333">
                <a:moveTo>
                  <a:pt x="6672" y="8260"/>
                </a:moveTo>
                <a:cubicBezTo>
                  <a:pt x="6762" y="8294"/>
                  <a:pt x="6784" y="8271"/>
                  <a:pt x="6871" y="8260"/>
                </a:cubicBezTo>
                <a:cubicBezTo>
                  <a:pt x="6942" y="8251"/>
                  <a:pt x="7022" y="8260"/>
                  <a:pt x="7094" y="8260"/>
                </a:cubicBezTo>
              </a:path>
              <a:path w="2556" h="2333">
                <a:moveTo>
                  <a:pt x="6747" y="8483"/>
                </a:moveTo>
                <a:cubicBezTo>
                  <a:pt x="6855" y="8502"/>
                  <a:pt x="6937" y="8508"/>
                  <a:pt x="7045" y="8508"/>
                </a:cubicBezTo>
                <a:cubicBezTo>
                  <a:pt x="7086" y="8508"/>
                  <a:pt x="7128" y="8508"/>
                  <a:pt x="7169" y="8508"/>
                </a:cubicBezTo>
              </a:path>
              <a:path w="2556" h="2333">
                <a:moveTo>
                  <a:pt x="8235" y="8012"/>
                </a:moveTo>
                <a:cubicBezTo>
                  <a:pt x="8185" y="7993"/>
                  <a:pt x="8107" y="7969"/>
                  <a:pt x="8062" y="7962"/>
                </a:cubicBezTo>
                <a:cubicBezTo>
                  <a:pt x="7980" y="7950"/>
                  <a:pt x="7942" y="7958"/>
                  <a:pt x="7888" y="8012"/>
                </a:cubicBezTo>
                <a:cubicBezTo>
                  <a:pt x="7846" y="8054"/>
                  <a:pt x="7856" y="8109"/>
                  <a:pt x="7838" y="8161"/>
                </a:cubicBezTo>
                <a:cubicBezTo>
                  <a:pt x="7830" y="8177"/>
                  <a:pt x="7821" y="8194"/>
                  <a:pt x="7813" y="8210"/>
                </a:cubicBezTo>
                <a:cubicBezTo>
                  <a:pt x="7868" y="8243"/>
                  <a:pt x="7919" y="8235"/>
                  <a:pt x="7987" y="8235"/>
                </a:cubicBezTo>
                <a:cubicBezTo>
                  <a:pt x="8066" y="8235"/>
                  <a:pt x="8080" y="8269"/>
                  <a:pt x="8136" y="8310"/>
                </a:cubicBezTo>
                <a:cubicBezTo>
                  <a:pt x="8234" y="8382"/>
                  <a:pt x="8216" y="8372"/>
                  <a:pt x="8260" y="8458"/>
                </a:cubicBezTo>
                <a:cubicBezTo>
                  <a:pt x="8295" y="8527"/>
                  <a:pt x="8273" y="8543"/>
                  <a:pt x="8260" y="8607"/>
                </a:cubicBezTo>
                <a:cubicBezTo>
                  <a:pt x="8244" y="8687"/>
                  <a:pt x="8225" y="8702"/>
                  <a:pt x="8161" y="8756"/>
                </a:cubicBezTo>
                <a:cubicBezTo>
                  <a:pt x="8099" y="8808"/>
                  <a:pt x="8038" y="8827"/>
                  <a:pt x="7962" y="8830"/>
                </a:cubicBezTo>
                <a:cubicBezTo>
                  <a:pt x="7879" y="8833"/>
                  <a:pt x="7816" y="8791"/>
                  <a:pt x="7739" y="8756"/>
                </a:cubicBezTo>
              </a:path>
              <a:path w="2556" h="2333">
                <a:moveTo>
                  <a:pt x="8582" y="7888"/>
                </a:moveTo>
                <a:cubicBezTo>
                  <a:pt x="8764" y="7888"/>
                  <a:pt x="8962" y="7880"/>
                  <a:pt x="9128" y="7913"/>
                </a:cubicBezTo>
                <a:cubicBezTo>
                  <a:pt x="9200" y="7928"/>
                  <a:pt x="9222" y="7930"/>
                  <a:pt x="9227" y="8012"/>
                </a:cubicBezTo>
                <a:cubicBezTo>
                  <a:pt x="9229" y="8055"/>
                  <a:pt x="9219" y="8170"/>
                  <a:pt x="9203" y="8210"/>
                </a:cubicBezTo>
                <a:cubicBezTo>
                  <a:pt x="9173" y="8288"/>
                  <a:pt x="9174" y="8372"/>
                  <a:pt x="9153" y="8458"/>
                </a:cubicBezTo>
                <a:cubicBezTo>
                  <a:pt x="9137" y="8526"/>
                  <a:pt x="9098" y="8590"/>
                  <a:pt x="9079" y="8657"/>
                </a:cubicBezTo>
                <a:cubicBezTo>
                  <a:pt x="9055" y="8742"/>
                  <a:pt x="9059" y="8852"/>
                  <a:pt x="9029" y="8930"/>
                </a:cubicBezTo>
                <a:cubicBezTo>
                  <a:pt x="9015" y="8966"/>
                  <a:pt x="8973" y="9016"/>
                  <a:pt x="8954" y="9054"/>
                </a:cubicBezTo>
              </a:path>
              <a:path w="2556" h="2333">
                <a:moveTo>
                  <a:pt x="6921" y="9426"/>
                </a:moveTo>
                <a:cubicBezTo>
                  <a:pt x="7012" y="9446"/>
                  <a:pt x="7114" y="9426"/>
                  <a:pt x="7218" y="9426"/>
                </a:cubicBezTo>
                <a:cubicBezTo>
                  <a:pt x="7302" y="9426"/>
                  <a:pt x="7362" y="9447"/>
                  <a:pt x="7441" y="9451"/>
                </a:cubicBezTo>
                <a:cubicBezTo>
                  <a:pt x="7492" y="9454"/>
                  <a:pt x="7498" y="9465"/>
                  <a:pt x="7541" y="9475"/>
                </a:cubicBezTo>
              </a:path>
              <a:path w="2556" h="2333">
                <a:moveTo>
                  <a:pt x="7913" y="9277"/>
                </a:moveTo>
                <a:cubicBezTo>
                  <a:pt x="7927" y="9344"/>
                  <a:pt x="7953" y="9441"/>
                  <a:pt x="7962" y="9500"/>
                </a:cubicBezTo>
                <a:cubicBezTo>
                  <a:pt x="7973" y="9573"/>
                  <a:pt x="7971" y="9650"/>
                  <a:pt x="7987" y="9723"/>
                </a:cubicBezTo>
                <a:cubicBezTo>
                  <a:pt x="8007" y="9813"/>
                  <a:pt x="8012" y="9878"/>
                  <a:pt x="8012" y="9971"/>
                </a:cubicBezTo>
                <a:cubicBezTo>
                  <a:pt x="8012" y="9998"/>
                  <a:pt x="8025" y="10233"/>
                  <a:pt x="8037" y="10220"/>
                </a:cubicBezTo>
                <a:cubicBezTo>
                  <a:pt x="8053" y="10187"/>
                  <a:pt x="8070" y="10153"/>
                  <a:pt x="8086" y="101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Ink 8"/>
          <p:cNvSpPr/>
          <p:nvPr/>
        </p:nvSpPr>
        <p:spPr>
          <a:xfrm>
            <a:off x="1581120" y="3348000"/>
            <a:ext cx="1901880" cy="1546200"/>
          </a:xfrm>
          <a:custGeom>
            <a:avLst/>
            <a:gdLst/>
            <a:ahLst/>
            <a:rect l="l" t="t" r="r" b="b"/>
            <a:pathLst>
              <a:path w="5285" h="4292">
                <a:moveTo>
                  <a:pt x="9054" y="9351"/>
                </a:moveTo>
                <a:cubicBezTo>
                  <a:pt x="8978" y="9326"/>
                  <a:pt x="8887" y="9314"/>
                  <a:pt x="8806" y="9302"/>
                </a:cubicBezTo>
                <a:cubicBezTo>
                  <a:pt x="8748" y="9294"/>
                  <a:pt x="8641" y="9287"/>
                  <a:pt x="8607" y="9351"/>
                </a:cubicBezTo>
                <a:cubicBezTo>
                  <a:pt x="8566" y="9428"/>
                  <a:pt x="8537" y="9539"/>
                  <a:pt x="8533" y="9624"/>
                </a:cubicBezTo>
                <a:cubicBezTo>
                  <a:pt x="8533" y="9641"/>
                  <a:pt x="8533" y="9657"/>
                  <a:pt x="8533" y="9674"/>
                </a:cubicBezTo>
                <a:cubicBezTo>
                  <a:pt x="8595" y="9665"/>
                  <a:pt x="8642" y="9635"/>
                  <a:pt x="8706" y="9624"/>
                </a:cubicBezTo>
                <a:cubicBezTo>
                  <a:pt x="8778" y="9612"/>
                  <a:pt x="8816" y="9645"/>
                  <a:pt x="8880" y="9649"/>
                </a:cubicBezTo>
                <a:cubicBezTo>
                  <a:pt x="9002" y="9656"/>
                  <a:pt x="9015" y="9721"/>
                  <a:pt x="9054" y="9798"/>
                </a:cubicBezTo>
                <a:cubicBezTo>
                  <a:pt x="9087" y="9863"/>
                  <a:pt x="9085" y="9907"/>
                  <a:pt x="9029" y="9971"/>
                </a:cubicBezTo>
                <a:cubicBezTo>
                  <a:pt x="8976" y="10031"/>
                  <a:pt x="8905" y="10058"/>
                  <a:pt x="8830" y="10071"/>
                </a:cubicBezTo>
                <a:cubicBezTo>
                  <a:pt x="8760" y="10083"/>
                  <a:pt x="8695" y="10070"/>
                  <a:pt x="8632" y="10046"/>
                </a:cubicBezTo>
              </a:path>
              <a:path w="5285" h="4292">
                <a:moveTo>
                  <a:pt x="7144" y="10492"/>
                </a:moveTo>
                <a:cubicBezTo>
                  <a:pt x="7273" y="10492"/>
                  <a:pt x="7390" y="10480"/>
                  <a:pt x="7516" y="10468"/>
                </a:cubicBezTo>
                <a:cubicBezTo>
                  <a:pt x="7714" y="10449"/>
                  <a:pt x="7916" y="10478"/>
                  <a:pt x="8111" y="10492"/>
                </a:cubicBezTo>
                <a:cubicBezTo>
                  <a:pt x="8252" y="10502"/>
                  <a:pt x="8393" y="10497"/>
                  <a:pt x="8533" y="10517"/>
                </a:cubicBezTo>
                <a:cubicBezTo>
                  <a:pt x="8704" y="10542"/>
                  <a:pt x="8885" y="10538"/>
                  <a:pt x="9054" y="10567"/>
                </a:cubicBezTo>
                <a:cubicBezTo>
                  <a:pt x="9183" y="10589"/>
                  <a:pt x="9318" y="10610"/>
                  <a:pt x="9451" y="10616"/>
                </a:cubicBezTo>
                <a:cubicBezTo>
                  <a:pt x="9534" y="10619"/>
                  <a:pt x="9604" y="10610"/>
                  <a:pt x="9674" y="10592"/>
                </a:cubicBezTo>
              </a:path>
              <a:path w="5285" h="4292">
                <a:moveTo>
                  <a:pt x="7516" y="11112"/>
                </a:moveTo>
                <a:cubicBezTo>
                  <a:pt x="7474" y="11187"/>
                  <a:pt x="7426" y="11278"/>
                  <a:pt x="7392" y="11361"/>
                </a:cubicBezTo>
                <a:cubicBezTo>
                  <a:pt x="7351" y="11461"/>
                  <a:pt x="7324" y="11559"/>
                  <a:pt x="7293" y="11658"/>
                </a:cubicBezTo>
                <a:cubicBezTo>
                  <a:pt x="7271" y="11727"/>
                  <a:pt x="7242" y="11784"/>
                  <a:pt x="7317" y="11832"/>
                </a:cubicBezTo>
                <a:cubicBezTo>
                  <a:pt x="7375" y="11870"/>
                  <a:pt x="7473" y="11878"/>
                  <a:pt x="7541" y="11881"/>
                </a:cubicBezTo>
                <a:cubicBezTo>
                  <a:pt x="7649" y="11887"/>
                  <a:pt x="7737" y="11871"/>
                  <a:pt x="7838" y="11857"/>
                </a:cubicBezTo>
                <a:cubicBezTo>
                  <a:pt x="7900" y="11849"/>
                  <a:pt x="7905" y="11840"/>
                  <a:pt x="7962" y="11807"/>
                </a:cubicBezTo>
              </a:path>
              <a:path w="5285" h="4292">
                <a:moveTo>
                  <a:pt x="7863" y="11237"/>
                </a:moveTo>
                <a:cubicBezTo>
                  <a:pt x="7863" y="11350"/>
                  <a:pt x="7877" y="11449"/>
                  <a:pt x="7888" y="11559"/>
                </a:cubicBezTo>
                <a:cubicBezTo>
                  <a:pt x="7900" y="11682"/>
                  <a:pt x="7908" y="11809"/>
                  <a:pt x="7913" y="11931"/>
                </a:cubicBezTo>
                <a:cubicBezTo>
                  <a:pt x="7917" y="12027"/>
                  <a:pt x="7950" y="12109"/>
                  <a:pt x="7962" y="12204"/>
                </a:cubicBezTo>
                <a:cubicBezTo>
                  <a:pt x="7970" y="12263"/>
                  <a:pt x="7977" y="12329"/>
                  <a:pt x="8012" y="12353"/>
                </a:cubicBezTo>
              </a:path>
              <a:path w="5285" h="4292">
                <a:moveTo>
                  <a:pt x="8508" y="11187"/>
                </a:moveTo>
                <a:cubicBezTo>
                  <a:pt x="8579" y="11130"/>
                  <a:pt x="8640" y="11115"/>
                  <a:pt x="8731" y="11112"/>
                </a:cubicBezTo>
                <a:cubicBezTo>
                  <a:pt x="8853" y="11108"/>
                  <a:pt x="8890" y="11133"/>
                  <a:pt x="8979" y="11212"/>
                </a:cubicBezTo>
                <a:cubicBezTo>
                  <a:pt x="9059" y="11283"/>
                  <a:pt x="9017" y="11354"/>
                  <a:pt x="9004" y="11435"/>
                </a:cubicBezTo>
                <a:cubicBezTo>
                  <a:pt x="8988" y="11536"/>
                  <a:pt x="8879" y="11609"/>
                  <a:pt x="8830" y="11708"/>
                </a:cubicBezTo>
                <a:cubicBezTo>
                  <a:pt x="8780" y="11809"/>
                  <a:pt x="8681" y="11889"/>
                  <a:pt x="8657" y="12005"/>
                </a:cubicBezTo>
                <a:cubicBezTo>
                  <a:pt x="8642" y="12076"/>
                  <a:pt x="8628" y="12093"/>
                  <a:pt x="8682" y="12154"/>
                </a:cubicBezTo>
                <a:cubicBezTo>
                  <a:pt x="8720" y="12197"/>
                  <a:pt x="8823" y="12202"/>
                  <a:pt x="8880" y="12204"/>
                </a:cubicBezTo>
                <a:cubicBezTo>
                  <a:pt x="9097" y="12213"/>
                  <a:pt x="9400" y="12255"/>
                  <a:pt x="9599" y="12179"/>
                </a:cubicBezTo>
              </a:path>
              <a:path w="5285" h="4292">
                <a:moveTo>
                  <a:pt x="4539" y="11088"/>
                </a:moveTo>
                <a:cubicBezTo>
                  <a:pt x="4494" y="11143"/>
                  <a:pt x="4488" y="11195"/>
                  <a:pt x="4465" y="11261"/>
                </a:cubicBezTo>
                <a:cubicBezTo>
                  <a:pt x="4407" y="11426"/>
                  <a:pt x="4390" y="11585"/>
                  <a:pt x="4390" y="11757"/>
                </a:cubicBezTo>
                <a:cubicBezTo>
                  <a:pt x="4390" y="11827"/>
                  <a:pt x="4400" y="11947"/>
                  <a:pt x="4440" y="12005"/>
                </a:cubicBezTo>
                <a:cubicBezTo>
                  <a:pt x="4469" y="12047"/>
                  <a:pt x="4532" y="12119"/>
                  <a:pt x="4589" y="12105"/>
                </a:cubicBezTo>
                <a:cubicBezTo>
                  <a:pt x="4679" y="12084"/>
                  <a:pt x="4727" y="11983"/>
                  <a:pt x="4787" y="11931"/>
                </a:cubicBezTo>
                <a:cubicBezTo>
                  <a:pt x="4884" y="11847"/>
                  <a:pt x="4911" y="11799"/>
                  <a:pt x="4961" y="11683"/>
                </a:cubicBezTo>
                <a:cubicBezTo>
                  <a:pt x="4992" y="11612"/>
                  <a:pt x="5011" y="11522"/>
                  <a:pt x="4961" y="11460"/>
                </a:cubicBezTo>
                <a:cubicBezTo>
                  <a:pt x="4921" y="11410"/>
                  <a:pt x="4831" y="11428"/>
                  <a:pt x="4787" y="11460"/>
                </a:cubicBezTo>
                <a:cubicBezTo>
                  <a:pt x="4722" y="11507"/>
                  <a:pt x="4741" y="11592"/>
                  <a:pt x="4713" y="11658"/>
                </a:cubicBezTo>
                <a:cubicBezTo>
                  <a:pt x="4681" y="11732"/>
                  <a:pt x="4688" y="11800"/>
                  <a:pt x="4688" y="11881"/>
                </a:cubicBezTo>
                <a:cubicBezTo>
                  <a:pt x="4688" y="11963"/>
                  <a:pt x="4675" y="12083"/>
                  <a:pt x="4713" y="12154"/>
                </a:cubicBezTo>
                <a:cubicBezTo>
                  <a:pt x="4713" y="12146"/>
                  <a:pt x="4713" y="12137"/>
                  <a:pt x="4713" y="12129"/>
                </a:cubicBezTo>
              </a:path>
              <a:path w="5285" h="4292">
                <a:moveTo>
                  <a:pt x="5110" y="11137"/>
                </a:moveTo>
                <a:cubicBezTo>
                  <a:pt x="5213" y="11109"/>
                  <a:pt x="5344" y="11058"/>
                  <a:pt x="5457" y="11088"/>
                </a:cubicBezTo>
                <a:cubicBezTo>
                  <a:pt x="5530" y="11107"/>
                  <a:pt x="5595" y="11151"/>
                  <a:pt x="5631" y="11212"/>
                </a:cubicBezTo>
                <a:cubicBezTo>
                  <a:pt x="5683" y="11302"/>
                  <a:pt x="5649" y="11353"/>
                  <a:pt x="5606" y="11435"/>
                </a:cubicBezTo>
                <a:cubicBezTo>
                  <a:pt x="5551" y="11540"/>
                  <a:pt x="5495" y="11619"/>
                  <a:pt x="5457" y="11733"/>
                </a:cubicBezTo>
                <a:cubicBezTo>
                  <a:pt x="5418" y="11848"/>
                  <a:pt x="5310" y="11939"/>
                  <a:pt x="5283" y="12055"/>
                </a:cubicBezTo>
                <a:cubicBezTo>
                  <a:pt x="5269" y="12115"/>
                  <a:pt x="5281" y="12159"/>
                  <a:pt x="5308" y="12204"/>
                </a:cubicBezTo>
                <a:cubicBezTo>
                  <a:pt x="5393" y="12194"/>
                  <a:pt x="5454" y="12180"/>
                  <a:pt x="5507" y="12105"/>
                </a:cubicBezTo>
                <a:cubicBezTo>
                  <a:pt x="5564" y="12023"/>
                  <a:pt x="5585" y="11945"/>
                  <a:pt x="5631" y="11857"/>
                </a:cubicBezTo>
                <a:cubicBezTo>
                  <a:pt x="5663" y="11796"/>
                  <a:pt x="5655" y="11731"/>
                  <a:pt x="5655" y="11658"/>
                </a:cubicBezTo>
                <a:cubicBezTo>
                  <a:pt x="5655" y="11536"/>
                  <a:pt x="5652" y="11419"/>
                  <a:pt x="5631" y="11311"/>
                </a:cubicBezTo>
                <a:cubicBezTo>
                  <a:pt x="5631" y="11261"/>
                  <a:pt x="5631" y="11245"/>
                  <a:pt x="5631" y="11212"/>
                </a:cubicBezTo>
                <a:cubicBezTo>
                  <a:pt x="5679" y="11273"/>
                  <a:pt x="5680" y="11308"/>
                  <a:pt x="5680" y="11385"/>
                </a:cubicBezTo>
                <a:cubicBezTo>
                  <a:pt x="5680" y="11475"/>
                  <a:pt x="5701" y="11548"/>
                  <a:pt x="5705" y="11633"/>
                </a:cubicBezTo>
                <a:cubicBezTo>
                  <a:pt x="5709" y="11720"/>
                  <a:pt x="5730" y="11791"/>
                  <a:pt x="5730" y="11881"/>
                </a:cubicBezTo>
                <a:cubicBezTo>
                  <a:pt x="5730" y="11967"/>
                  <a:pt x="5767" y="12048"/>
                  <a:pt x="5779" y="12129"/>
                </a:cubicBezTo>
                <a:cubicBezTo>
                  <a:pt x="5785" y="12169"/>
                  <a:pt x="5795" y="12370"/>
                  <a:pt x="5829" y="12303"/>
                </a:cubicBezTo>
                <a:cubicBezTo>
                  <a:pt x="5829" y="12295"/>
                  <a:pt x="5829" y="12286"/>
                  <a:pt x="5829" y="12278"/>
                </a:cubicBezTo>
              </a:path>
              <a:path w="5285" h="4292">
                <a:moveTo>
                  <a:pt x="6226" y="11435"/>
                </a:moveTo>
                <a:cubicBezTo>
                  <a:pt x="6286" y="11399"/>
                  <a:pt x="6331" y="11425"/>
                  <a:pt x="6400" y="11410"/>
                </a:cubicBezTo>
                <a:cubicBezTo>
                  <a:pt x="6490" y="11390"/>
                  <a:pt x="6555" y="11385"/>
                  <a:pt x="6648" y="11385"/>
                </a:cubicBezTo>
                <a:cubicBezTo>
                  <a:pt x="6673" y="11385"/>
                  <a:pt x="6697" y="11385"/>
                  <a:pt x="6722" y="11385"/>
                </a:cubicBezTo>
              </a:path>
              <a:path w="5285" h="4292">
                <a:moveTo>
                  <a:pt x="6226" y="11633"/>
                </a:moveTo>
                <a:cubicBezTo>
                  <a:pt x="6292" y="11633"/>
                  <a:pt x="6346" y="11620"/>
                  <a:pt x="6400" y="11609"/>
                </a:cubicBezTo>
                <a:cubicBezTo>
                  <a:pt x="6491" y="11591"/>
                  <a:pt x="6604" y="11609"/>
                  <a:pt x="6697" y="11609"/>
                </a:cubicBezTo>
              </a:path>
              <a:path w="5285" h="4292">
                <a:moveTo>
                  <a:pt x="4564" y="12502"/>
                </a:moveTo>
                <a:cubicBezTo>
                  <a:pt x="4709" y="12502"/>
                  <a:pt x="4844" y="12496"/>
                  <a:pt x="4986" y="12477"/>
                </a:cubicBezTo>
                <a:cubicBezTo>
                  <a:pt x="5172" y="12452"/>
                  <a:pt x="5371" y="12440"/>
                  <a:pt x="5556" y="12427"/>
                </a:cubicBezTo>
                <a:cubicBezTo>
                  <a:pt x="5725" y="12415"/>
                  <a:pt x="5889" y="12437"/>
                  <a:pt x="6052" y="12452"/>
                </a:cubicBezTo>
                <a:cubicBezTo>
                  <a:pt x="6153" y="12461"/>
                  <a:pt x="6232" y="12442"/>
                  <a:pt x="6325" y="12477"/>
                </a:cubicBezTo>
              </a:path>
              <a:path w="5285" h="4292">
                <a:moveTo>
                  <a:pt x="5011" y="12725"/>
                </a:moveTo>
                <a:cubicBezTo>
                  <a:pt x="4984" y="12795"/>
                  <a:pt x="4986" y="12847"/>
                  <a:pt x="4986" y="12923"/>
                </a:cubicBezTo>
                <a:cubicBezTo>
                  <a:pt x="4986" y="12995"/>
                  <a:pt x="4998" y="13099"/>
                  <a:pt x="5011" y="13171"/>
                </a:cubicBezTo>
                <a:cubicBezTo>
                  <a:pt x="5026" y="13254"/>
                  <a:pt x="5079" y="13406"/>
                  <a:pt x="5135" y="13469"/>
                </a:cubicBezTo>
                <a:cubicBezTo>
                  <a:pt x="5175" y="13514"/>
                  <a:pt x="5278" y="13541"/>
                  <a:pt x="5333" y="13543"/>
                </a:cubicBezTo>
                <a:cubicBezTo>
                  <a:pt x="5414" y="13546"/>
                  <a:pt x="5510" y="13508"/>
                  <a:pt x="5581" y="13469"/>
                </a:cubicBezTo>
                <a:cubicBezTo>
                  <a:pt x="5662" y="13425"/>
                  <a:pt x="5711" y="13326"/>
                  <a:pt x="5755" y="13246"/>
                </a:cubicBezTo>
                <a:cubicBezTo>
                  <a:pt x="5796" y="13171"/>
                  <a:pt x="5826" y="13100"/>
                  <a:pt x="5779" y="13022"/>
                </a:cubicBezTo>
                <a:cubicBezTo>
                  <a:pt x="5757" y="12986"/>
                  <a:pt x="5710" y="12953"/>
                  <a:pt x="5680" y="12923"/>
                </a:cubicBezTo>
                <a:cubicBezTo>
                  <a:pt x="5617" y="12963"/>
                  <a:pt x="5560" y="13000"/>
                  <a:pt x="5531" y="13072"/>
                </a:cubicBezTo>
                <a:cubicBezTo>
                  <a:pt x="5501" y="13147"/>
                  <a:pt x="5507" y="13216"/>
                  <a:pt x="5507" y="13295"/>
                </a:cubicBezTo>
                <a:cubicBezTo>
                  <a:pt x="5507" y="13389"/>
                  <a:pt x="5517" y="13486"/>
                  <a:pt x="5556" y="13568"/>
                </a:cubicBezTo>
                <a:cubicBezTo>
                  <a:pt x="5564" y="13576"/>
                  <a:pt x="5573" y="13585"/>
                  <a:pt x="5581" y="135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Ink 9"/>
          <p:cNvSpPr/>
          <p:nvPr/>
        </p:nvSpPr>
        <p:spPr>
          <a:xfrm>
            <a:off x="1581120" y="4438800"/>
            <a:ext cx="1785960" cy="1652400"/>
          </a:xfrm>
          <a:custGeom>
            <a:avLst/>
            <a:gdLst/>
            <a:ahLst/>
            <a:rect l="l" t="t" r="r" b="b"/>
            <a:pathLst>
              <a:path w="4962" h="4590">
                <a:moveTo>
                  <a:pt x="7317" y="12378"/>
                </a:moveTo>
                <a:cubicBezTo>
                  <a:pt x="7429" y="12378"/>
                  <a:pt x="7528" y="12362"/>
                  <a:pt x="7640" y="12353"/>
                </a:cubicBezTo>
                <a:cubicBezTo>
                  <a:pt x="7774" y="12342"/>
                  <a:pt x="7902" y="12328"/>
                  <a:pt x="8037" y="12328"/>
                </a:cubicBezTo>
                <a:cubicBezTo>
                  <a:pt x="8475" y="12328"/>
                  <a:pt x="8913" y="12328"/>
                  <a:pt x="9351" y="12328"/>
                </a:cubicBezTo>
              </a:path>
              <a:path w="4962" h="4590">
                <a:moveTo>
                  <a:pt x="8136" y="12750"/>
                </a:moveTo>
                <a:cubicBezTo>
                  <a:pt x="8086" y="12874"/>
                  <a:pt x="8055" y="13011"/>
                  <a:pt x="8037" y="13146"/>
                </a:cubicBezTo>
                <a:cubicBezTo>
                  <a:pt x="8024" y="13246"/>
                  <a:pt x="8010" y="13345"/>
                  <a:pt x="8037" y="13444"/>
                </a:cubicBezTo>
                <a:cubicBezTo>
                  <a:pt x="8053" y="13501"/>
                  <a:pt x="8084" y="13607"/>
                  <a:pt x="8136" y="13643"/>
                </a:cubicBezTo>
                <a:cubicBezTo>
                  <a:pt x="8205" y="13692"/>
                  <a:pt x="8363" y="13683"/>
                  <a:pt x="8434" y="13643"/>
                </a:cubicBezTo>
                <a:cubicBezTo>
                  <a:pt x="8560" y="13572"/>
                  <a:pt x="8646" y="13451"/>
                  <a:pt x="8731" y="13345"/>
                </a:cubicBezTo>
                <a:cubicBezTo>
                  <a:pt x="8789" y="13273"/>
                  <a:pt x="8822" y="13211"/>
                  <a:pt x="8855" y="13122"/>
                </a:cubicBezTo>
                <a:cubicBezTo>
                  <a:pt x="8884" y="13046"/>
                  <a:pt x="8868" y="13012"/>
                  <a:pt x="8830" y="12948"/>
                </a:cubicBezTo>
                <a:cubicBezTo>
                  <a:pt x="8778" y="12990"/>
                  <a:pt x="8700" y="13052"/>
                  <a:pt x="8682" y="13122"/>
                </a:cubicBezTo>
                <a:cubicBezTo>
                  <a:pt x="8665" y="13188"/>
                  <a:pt x="8641" y="13279"/>
                  <a:pt x="8632" y="13345"/>
                </a:cubicBezTo>
                <a:cubicBezTo>
                  <a:pt x="8621" y="13430"/>
                  <a:pt x="8586" y="13512"/>
                  <a:pt x="8632" y="13593"/>
                </a:cubicBezTo>
                <a:cubicBezTo>
                  <a:pt x="8640" y="13601"/>
                  <a:pt x="8649" y="13610"/>
                  <a:pt x="8657" y="13618"/>
                </a:cubicBezTo>
              </a:path>
              <a:path w="4962" h="4590">
                <a:moveTo>
                  <a:pt x="5383" y="14660"/>
                </a:moveTo>
                <a:cubicBezTo>
                  <a:pt x="5475" y="14562"/>
                  <a:pt x="5562" y="14505"/>
                  <a:pt x="5655" y="14412"/>
                </a:cubicBezTo>
                <a:cubicBezTo>
                  <a:pt x="5698" y="14369"/>
                  <a:pt x="5795" y="14347"/>
                  <a:pt x="5854" y="14337"/>
                </a:cubicBezTo>
                <a:cubicBezTo>
                  <a:pt x="5932" y="14324"/>
                  <a:pt x="5985" y="14353"/>
                  <a:pt x="6052" y="14387"/>
                </a:cubicBezTo>
                <a:cubicBezTo>
                  <a:pt x="6052" y="14473"/>
                  <a:pt x="6044" y="14556"/>
                  <a:pt x="6003" y="14635"/>
                </a:cubicBezTo>
                <a:cubicBezTo>
                  <a:pt x="5947" y="14742"/>
                  <a:pt x="5847" y="14830"/>
                  <a:pt x="5779" y="14932"/>
                </a:cubicBezTo>
                <a:cubicBezTo>
                  <a:pt x="5719" y="15023"/>
                  <a:pt x="5677" y="15107"/>
                  <a:pt x="5631" y="15205"/>
                </a:cubicBezTo>
                <a:cubicBezTo>
                  <a:pt x="5607" y="15253"/>
                  <a:pt x="5599" y="15267"/>
                  <a:pt x="5606" y="15304"/>
                </a:cubicBezTo>
                <a:cubicBezTo>
                  <a:pt x="5660" y="15331"/>
                  <a:pt x="5697" y="15272"/>
                  <a:pt x="5730" y="15205"/>
                </a:cubicBezTo>
                <a:cubicBezTo>
                  <a:pt x="5773" y="15116"/>
                  <a:pt x="5841" y="14955"/>
                  <a:pt x="5854" y="14858"/>
                </a:cubicBezTo>
                <a:cubicBezTo>
                  <a:pt x="5873" y="14718"/>
                  <a:pt x="5907" y="14599"/>
                  <a:pt x="5953" y="14461"/>
                </a:cubicBezTo>
                <a:cubicBezTo>
                  <a:pt x="5982" y="14376"/>
                  <a:pt x="6003" y="14327"/>
                  <a:pt x="6003" y="14238"/>
                </a:cubicBezTo>
                <a:cubicBezTo>
                  <a:pt x="6003" y="14221"/>
                  <a:pt x="6003" y="14205"/>
                  <a:pt x="6003" y="14188"/>
                </a:cubicBezTo>
                <a:cubicBezTo>
                  <a:pt x="6022" y="14296"/>
                  <a:pt x="6028" y="14378"/>
                  <a:pt x="6028" y="14486"/>
                </a:cubicBezTo>
                <a:cubicBezTo>
                  <a:pt x="6028" y="14579"/>
                  <a:pt x="6037" y="14692"/>
                  <a:pt x="6052" y="14784"/>
                </a:cubicBezTo>
                <a:cubicBezTo>
                  <a:pt x="6072" y="14913"/>
                  <a:pt x="6097" y="15025"/>
                  <a:pt x="6102" y="15156"/>
                </a:cubicBezTo>
                <a:cubicBezTo>
                  <a:pt x="6105" y="15231"/>
                  <a:pt x="6106" y="15320"/>
                  <a:pt x="6152" y="15304"/>
                </a:cubicBezTo>
              </a:path>
              <a:path w="4962" h="4590">
                <a:moveTo>
                  <a:pt x="6499" y="14486"/>
                </a:moveTo>
                <a:cubicBezTo>
                  <a:pt x="6578" y="14486"/>
                  <a:pt x="6645" y="14465"/>
                  <a:pt x="6722" y="14461"/>
                </a:cubicBezTo>
                <a:cubicBezTo>
                  <a:pt x="6799" y="14457"/>
                  <a:pt x="6866" y="14436"/>
                  <a:pt x="6945" y="14436"/>
                </a:cubicBezTo>
                <a:cubicBezTo>
                  <a:pt x="6986" y="14436"/>
                  <a:pt x="7028" y="14436"/>
                  <a:pt x="7069" y="14436"/>
                </a:cubicBezTo>
              </a:path>
              <a:path w="4962" h="4590">
                <a:moveTo>
                  <a:pt x="6573" y="14784"/>
                </a:moveTo>
                <a:cubicBezTo>
                  <a:pt x="6717" y="14784"/>
                  <a:pt x="6858" y="14794"/>
                  <a:pt x="6995" y="14808"/>
                </a:cubicBezTo>
                <a:cubicBezTo>
                  <a:pt x="7076" y="14816"/>
                  <a:pt x="7150" y="14819"/>
                  <a:pt x="7218" y="14833"/>
                </a:cubicBezTo>
                <a:cubicBezTo>
                  <a:pt x="7260" y="14833"/>
                  <a:pt x="7268" y="14833"/>
                  <a:pt x="7293" y="14833"/>
                </a:cubicBezTo>
              </a:path>
              <a:path w="4962" h="4590">
                <a:moveTo>
                  <a:pt x="7665" y="14039"/>
                </a:moveTo>
                <a:cubicBezTo>
                  <a:pt x="7716" y="14025"/>
                  <a:pt x="7780" y="14028"/>
                  <a:pt x="7838" y="14015"/>
                </a:cubicBezTo>
                <a:cubicBezTo>
                  <a:pt x="7934" y="13994"/>
                  <a:pt x="8011" y="13990"/>
                  <a:pt x="8111" y="13990"/>
                </a:cubicBezTo>
                <a:cubicBezTo>
                  <a:pt x="8221" y="13990"/>
                  <a:pt x="8321" y="14015"/>
                  <a:pt x="8434" y="14015"/>
                </a:cubicBezTo>
                <a:cubicBezTo>
                  <a:pt x="8465" y="14015"/>
                  <a:pt x="8618" y="14032"/>
                  <a:pt x="8632" y="14064"/>
                </a:cubicBezTo>
                <a:cubicBezTo>
                  <a:pt x="8661" y="14129"/>
                  <a:pt x="8599" y="14166"/>
                  <a:pt x="8582" y="14213"/>
                </a:cubicBezTo>
                <a:cubicBezTo>
                  <a:pt x="8534" y="14349"/>
                  <a:pt x="8518" y="14474"/>
                  <a:pt x="8483" y="14610"/>
                </a:cubicBezTo>
                <a:cubicBezTo>
                  <a:pt x="8438" y="14783"/>
                  <a:pt x="8375" y="14957"/>
                  <a:pt x="8334" y="15131"/>
                </a:cubicBezTo>
                <a:cubicBezTo>
                  <a:pt x="8300" y="15276"/>
                  <a:pt x="8278" y="15434"/>
                  <a:pt x="8260" y="15577"/>
                </a:cubicBezTo>
              </a:path>
              <a:path w="4962" h="4590">
                <a:moveTo>
                  <a:pt x="4390" y="15677"/>
                </a:moveTo>
                <a:cubicBezTo>
                  <a:pt x="4437" y="15630"/>
                  <a:pt x="4482" y="15587"/>
                  <a:pt x="4539" y="15553"/>
                </a:cubicBezTo>
                <a:cubicBezTo>
                  <a:pt x="4602" y="15516"/>
                  <a:pt x="4713" y="15440"/>
                  <a:pt x="4787" y="15453"/>
                </a:cubicBezTo>
                <a:cubicBezTo>
                  <a:pt x="4912" y="15475"/>
                  <a:pt x="4895" y="15533"/>
                  <a:pt x="4887" y="15627"/>
                </a:cubicBezTo>
                <a:cubicBezTo>
                  <a:pt x="4877" y="15750"/>
                  <a:pt x="4814" y="15790"/>
                  <a:pt x="4762" y="15900"/>
                </a:cubicBezTo>
                <a:cubicBezTo>
                  <a:pt x="4725" y="15978"/>
                  <a:pt x="4705" y="16067"/>
                  <a:pt x="4688" y="16148"/>
                </a:cubicBezTo>
                <a:cubicBezTo>
                  <a:pt x="4671" y="16227"/>
                  <a:pt x="4686" y="16324"/>
                  <a:pt x="4713" y="16396"/>
                </a:cubicBezTo>
                <a:cubicBezTo>
                  <a:pt x="4757" y="16340"/>
                  <a:pt x="4766" y="16306"/>
                  <a:pt x="4787" y="16247"/>
                </a:cubicBezTo>
                <a:cubicBezTo>
                  <a:pt x="4812" y="16176"/>
                  <a:pt x="4827" y="16102"/>
                  <a:pt x="4837" y="16024"/>
                </a:cubicBezTo>
                <a:cubicBezTo>
                  <a:pt x="4848" y="15939"/>
                  <a:pt x="4862" y="15863"/>
                  <a:pt x="4862" y="15776"/>
                </a:cubicBezTo>
                <a:cubicBezTo>
                  <a:pt x="4862" y="15698"/>
                  <a:pt x="4866" y="15656"/>
                  <a:pt x="4862" y="15577"/>
                </a:cubicBezTo>
                <a:cubicBezTo>
                  <a:pt x="4856" y="15466"/>
                  <a:pt x="4867" y="15462"/>
                  <a:pt x="4887" y="15577"/>
                </a:cubicBezTo>
                <a:cubicBezTo>
                  <a:pt x="4904" y="15674"/>
                  <a:pt x="4893" y="15779"/>
                  <a:pt x="4911" y="15875"/>
                </a:cubicBezTo>
                <a:cubicBezTo>
                  <a:pt x="4929" y="15969"/>
                  <a:pt x="4934" y="16083"/>
                  <a:pt x="4961" y="16173"/>
                </a:cubicBezTo>
                <a:cubicBezTo>
                  <a:pt x="4988" y="16262"/>
                  <a:pt x="5015" y="16341"/>
                  <a:pt x="5060" y="16421"/>
                </a:cubicBezTo>
              </a:path>
              <a:path w="4962" h="4590">
                <a:moveTo>
                  <a:pt x="5184" y="15280"/>
                </a:moveTo>
                <a:cubicBezTo>
                  <a:pt x="5203" y="15367"/>
                  <a:pt x="5224" y="15465"/>
                  <a:pt x="5234" y="15553"/>
                </a:cubicBezTo>
                <a:cubicBezTo>
                  <a:pt x="5244" y="15638"/>
                  <a:pt x="5246" y="15720"/>
                  <a:pt x="5259" y="15801"/>
                </a:cubicBezTo>
                <a:cubicBezTo>
                  <a:pt x="5268" y="15860"/>
                  <a:pt x="5259" y="16204"/>
                  <a:pt x="5259" y="16098"/>
                </a:cubicBezTo>
                <a:cubicBezTo>
                  <a:pt x="5259" y="15969"/>
                  <a:pt x="5263" y="15848"/>
                  <a:pt x="5283" y="15726"/>
                </a:cubicBezTo>
                <a:cubicBezTo>
                  <a:pt x="5289" y="15687"/>
                  <a:pt x="5306" y="15617"/>
                  <a:pt x="5358" y="15602"/>
                </a:cubicBezTo>
                <a:cubicBezTo>
                  <a:pt x="5415" y="15586"/>
                  <a:pt x="5475" y="15602"/>
                  <a:pt x="5507" y="15652"/>
                </a:cubicBezTo>
                <a:cubicBezTo>
                  <a:pt x="5550" y="15720"/>
                  <a:pt x="5577" y="15796"/>
                  <a:pt x="5581" y="15875"/>
                </a:cubicBezTo>
                <a:cubicBezTo>
                  <a:pt x="5585" y="15951"/>
                  <a:pt x="5570" y="16007"/>
                  <a:pt x="5531" y="16073"/>
                </a:cubicBezTo>
                <a:cubicBezTo>
                  <a:pt x="5491" y="16141"/>
                  <a:pt x="5427" y="16123"/>
                  <a:pt x="5358" y="16123"/>
                </a:cubicBezTo>
                <a:cubicBezTo>
                  <a:pt x="5291" y="16123"/>
                  <a:pt x="5226" y="16098"/>
                  <a:pt x="5209" y="16024"/>
                </a:cubicBezTo>
                <a:cubicBezTo>
                  <a:pt x="5209" y="16007"/>
                  <a:pt x="5209" y="15991"/>
                  <a:pt x="5209" y="15974"/>
                </a:cubicBezTo>
              </a:path>
              <a:path w="4962" h="4590">
                <a:moveTo>
                  <a:pt x="5755" y="15255"/>
                </a:moveTo>
                <a:cubicBezTo>
                  <a:pt x="5755" y="15362"/>
                  <a:pt x="5765" y="15450"/>
                  <a:pt x="5779" y="15553"/>
                </a:cubicBezTo>
                <a:cubicBezTo>
                  <a:pt x="5791" y="15641"/>
                  <a:pt x="5794" y="15738"/>
                  <a:pt x="5804" y="15825"/>
                </a:cubicBezTo>
                <a:cubicBezTo>
                  <a:pt x="5814" y="15917"/>
                  <a:pt x="5825" y="16007"/>
                  <a:pt x="5829" y="16098"/>
                </a:cubicBezTo>
                <a:cubicBezTo>
                  <a:pt x="5829" y="16140"/>
                  <a:pt x="5829" y="16148"/>
                  <a:pt x="5829" y="16173"/>
                </a:cubicBezTo>
                <a:cubicBezTo>
                  <a:pt x="5829" y="16096"/>
                  <a:pt x="5842" y="16044"/>
                  <a:pt x="5854" y="15974"/>
                </a:cubicBezTo>
                <a:cubicBezTo>
                  <a:pt x="5866" y="15903"/>
                  <a:pt x="5856" y="15840"/>
                  <a:pt x="5879" y="15776"/>
                </a:cubicBezTo>
                <a:cubicBezTo>
                  <a:pt x="5906" y="15701"/>
                  <a:pt x="5935" y="15663"/>
                  <a:pt x="6003" y="15627"/>
                </a:cubicBezTo>
                <a:cubicBezTo>
                  <a:pt x="6095" y="15578"/>
                  <a:pt x="6090" y="15581"/>
                  <a:pt x="6176" y="15627"/>
                </a:cubicBezTo>
                <a:cubicBezTo>
                  <a:pt x="6259" y="15671"/>
                  <a:pt x="6244" y="15709"/>
                  <a:pt x="6276" y="15776"/>
                </a:cubicBezTo>
                <a:cubicBezTo>
                  <a:pt x="6307" y="15841"/>
                  <a:pt x="6309" y="15887"/>
                  <a:pt x="6276" y="15949"/>
                </a:cubicBezTo>
                <a:cubicBezTo>
                  <a:pt x="6218" y="16058"/>
                  <a:pt x="6179" y="16022"/>
                  <a:pt x="6077" y="16049"/>
                </a:cubicBezTo>
                <a:cubicBezTo>
                  <a:pt x="6023" y="16064"/>
                  <a:pt x="5962" y="16100"/>
                  <a:pt x="5928" y="16024"/>
                </a:cubicBezTo>
                <a:cubicBezTo>
                  <a:pt x="5928" y="16016"/>
                  <a:pt x="5928" y="16007"/>
                  <a:pt x="5928" y="15999"/>
                </a:cubicBezTo>
              </a:path>
              <a:path w="4962" h="4590">
                <a:moveTo>
                  <a:pt x="6424" y="15304"/>
                </a:moveTo>
                <a:cubicBezTo>
                  <a:pt x="6472" y="15409"/>
                  <a:pt x="6542" y="15499"/>
                  <a:pt x="6598" y="15602"/>
                </a:cubicBezTo>
                <a:cubicBezTo>
                  <a:pt x="6654" y="15706"/>
                  <a:pt x="6745" y="15793"/>
                  <a:pt x="6796" y="15900"/>
                </a:cubicBezTo>
                <a:cubicBezTo>
                  <a:pt x="6817" y="15944"/>
                  <a:pt x="6837" y="16002"/>
                  <a:pt x="6846" y="16049"/>
                </a:cubicBezTo>
              </a:path>
              <a:path w="4962" h="4590">
                <a:moveTo>
                  <a:pt x="6945" y="15304"/>
                </a:moveTo>
                <a:cubicBezTo>
                  <a:pt x="6945" y="15448"/>
                  <a:pt x="6930" y="15584"/>
                  <a:pt x="6921" y="15726"/>
                </a:cubicBezTo>
                <a:cubicBezTo>
                  <a:pt x="6906" y="15946"/>
                  <a:pt x="6923" y="16131"/>
                  <a:pt x="6871" y="16346"/>
                </a:cubicBezTo>
                <a:cubicBezTo>
                  <a:pt x="6822" y="16548"/>
                  <a:pt x="6761" y="16730"/>
                  <a:pt x="6672" y="169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68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68" fill="hold"/>
                                        <p:tgtEl>
                                          <p:spTgt spid="6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68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68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ike Terms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4b + 6b = 70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2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9c + 3 – 5c + 8 = 51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Ink 4"/>
          <p:cNvSpPr/>
          <p:nvPr/>
        </p:nvSpPr>
        <p:spPr>
          <a:xfrm>
            <a:off x="1589040" y="2276640"/>
            <a:ext cx="2928960" cy="920520"/>
          </a:xfrm>
          <a:custGeom>
            <a:avLst/>
            <a:gdLst/>
            <a:ahLst/>
            <a:rect l="l" t="t" r="r" b="b"/>
            <a:pathLst>
              <a:path w="8137" h="2556">
                <a:moveTo>
                  <a:pt x="4415" y="7020"/>
                </a:moveTo>
                <a:cubicBezTo>
                  <a:pt x="4415" y="7087"/>
                  <a:pt x="4429" y="7140"/>
                  <a:pt x="4440" y="7193"/>
                </a:cubicBezTo>
                <a:cubicBezTo>
                  <a:pt x="4453" y="7259"/>
                  <a:pt x="4479" y="7327"/>
                  <a:pt x="4490" y="7392"/>
                </a:cubicBezTo>
                <a:cubicBezTo>
                  <a:pt x="4502" y="7464"/>
                  <a:pt x="4499" y="7545"/>
                  <a:pt x="4514" y="7615"/>
                </a:cubicBezTo>
                <a:cubicBezTo>
                  <a:pt x="4535" y="7711"/>
                  <a:pt x="4539" y="7788"/>
                  <a:pt x="4539" y="7888"/>
                </a:cubicBezTo>
                <a:cubicBezTo>
                  <a:pt x="4539" y="7971"/>
                  <a:pt x="4539" y="8053"/>
                  <a:pt x="4539" y="8136"/>
                </a:cubicBezTo>
              </a:path>
              <a:path w="8137" h="2556">
                <a:moveTo>
                  <a:pt x="5184" y="8037"/>
                </a:moveTo>
                <a:cubicBezTo>
                  <a:pt x="5257" y="8027"/>
                  <a:pt x="5293" y="8006"/>
                  <a:pt x="5333" y="7938"/>
                </a:cubicBezTo>
                <a:cubicBezTo>
                  <a:pt x="5371" y="7874"/>
                  <a:pt x="5401" y="7833"/>
                  <a:pt x="5432" y="7764"/>
                </a:cubicBezTo>
                <a:cubicBezTo>
                  <a:pt x="5463" y="7694"/>
                  <a:pt x="5478" y="7640"/>
                  <a:pt x="5482" y="7565"/>
                </a:cubicBezTo>
                <a:cubicBezTo>
                  <a:pt x="5485" y="7499"/>
                  <a:pt x="5477" y="7427"/>
                  <a:pt x="5457" y="7367"/>
                </a:cubicBezTo>
                <a:cubicBezTo>
                  <a:pt x="5434" y="7299"/>
                  <a:pt x="5368" y="7255"/>
                  <a:pt x="5333" y="7193"/>
                </a:cubicBezTo>
                <a:cubicBezTo>
                  <a:pt x="5295" y="7125"/>
                  <a:pt x="5233" y="7107"/>
                  <a:pt x="5159" y="7094"/>
                </a:cubicBezTo>
                <a:cubicBezTo>
                  <a:pt x="5071" y="7079"/>
                  <a:pt x="4991" y="7105"/>
                  <a:pt x="4911" y="7119"/>
                </a:cubicBezTo>
                <a:cubicBezTo>
                  <a:pt x="4859" y="7128"/>
                  <a:pt x="4781" y="7180"/>
                  <a:pt x="4762" y="7243"/>
                </a:cubicBezTo>
                <a:cubicBezTo>
                  <a:pt x="4746" y="7296"/>
                  <a:pt x="4723" y="7360"/>
                  <a:pt x="4713" y="7417"/>
                </a:cubicBezTo>
                <a:cubicBezTo>
                  <a:pt x="4706" y="7459"/>
                  <a:pt x="4726" y="7571"/>
                  <a:pt x="4738" y="7615"/>
                </a:cubicBezTo>
                <a:cubicBezTo>
                  <a:pt x="4762" y="7705"/>
                  <a:pt x="4827" y="7773"/>
                  <a:pt x="4887" y="7838"/>
                </a:cubicBezTo>
                <a:cubicBezTo>
                  <a:pt x="4922" y="7876"/>
                  <a:pt x="4946" y="7933"/>
                  <a:pt x="4986" y="7962"/>
                </a:cubicBezTo>
                <a:cubicBezTo>
                  <a:pt x="5032" y="7995"/>
                  <a:pt x="5060" y="7982"/>
                  <a:pt x="5110" y="7987"/>
                </a:cubicBezTo>
              </a:path>
              <a:path w="8137" h="2556">
                <a:moveTo>
                  <a:pt x="5829" y="7913"/>
                </a:moveTo>
                <a:cubicBezTo>
                  <a:pt x="5850" y="7850"/>
                  <a:pt x="5874" y="7759"/>
                  <a:pt x="5854" y="7689"/>
                </a:cubicBezTo>
                <a:cubicBezTo>
                  <a:pt x="5834" y="7619"/>
                  <a:pt x="5826" y="7535"/>
                  <a:pt x="5804" y="7466"/>
                </a:cubicBezTo>
                <a:cubicBezTo>
                  <a:pt x="5781" y="7394"/>
                  <a:pt x="5758" y="7320"/>
                  <a:pt x="5755" y="7243"/>
                </a:cubicBezTo>
                <a:cubicBezTo>
                  <a:pt x="5750" y="7134"/>
                  <a:pt x="5722" y="7014"/>
                  <a:pt x="5680" y="6921"/>
                </a:cubicBezTo>
              </a:path>
              <a:path w="8137" h="2556">
                <a:moveTo>
                  <a:pt x="5680" y="7466"/>
                </a:moveTo>
                <a:cubicBezTo>
                  <a:pt x="5733" y="7440"/>
                  <a:pt x="5804" y="7402"/>
                  <a:pt x="5854" y="7392"/>
                </a:cubicBezTo>
                <a:cubicBezTo>
                  <a:pt x="5932" y="7376"/>
                  <a:pt x="6007" y="7406"/>
                  <a:pt x="6077" y="7417"/>
                </a:cubicBezTo>
                <a:cubicBezTo>
                  <a:pt x="6112" y="7422"/>
                  <a:pt x="6207" y="7452"/>
                  <a:pt x="6226" y="7491"/>
                </a:cubicBezTo>
                <a:cubicBezTo>
                  <a:pt x="6252" y="7543"/>
                  <a:pt x="6200" y="7648"/>
                  <a:pt x="6176" y="7689"/>
                </a:cubicBezTo>
                <a:cubicBezTo>
                  <a:pt x="6141" y="7748"/>
                  <a:pt x="6094" y="7808"/>
                  <a:pt x="6052" y="7863"/>
                </a:cubicBezTo>
                <a:cubicBezTo>
                  <a:pt x="6020" y="7905"/>
                  <a:pt x="5975" y="7951"/>
                  <a:pt x="5928" y="7962"/>
                </a:cubicBezTo>
              </a:path>
              <a:path w="8137" h="2556">
                <a:moveTo>
                  <a:pt x="6747" y="7665"/>
                </a:moveTo>
                <a:cubicBezTo>
                  <a:pt x="6823" y="7665"/>
                  <a:pt x="6877" y="7685"/>
                  <a:pt x="6945" y="7689"/>
                </a:cubicBezTo>
                <a:cubicBezTo>
                  <a:pt x="7003" y="7692"/>
                  <a:pt x="7061" y="7689"/>
                  <a:pt x="7119" y="7689"/>
                </a:cubicBezTo>
              </a:path>
              <a:path w="8137" h="2556">
                <a:moveTo>
                  <a:pt x="6697" y="7441"/>
                </a:moveTo>
                <a:cubicBezTo>
                  <a:pt x="6780" y="7441"/>
                  <a:pt x="6862" y="7441"/>
                  <a:pt x="6945" y="7441"/>
                </a:cubicBezTo>
              </a:path>
              <a:path w="8137" h="2556">
                <a:moveTo>
                  <a:pt x="7516" y="7045"/>
                </a:moveTo>
                <a:cubicBezTo>
                  <a:pt x="7594" y="7006"/>
                  <a:pt x="7666" y="6964"/>
                  <a:pt x="7739" y="6921"/>
                </a:cubicBezTo>
                <a:cubicBezTo>
                  <a:pt x="7810" y="6879"/>
                  <a:pt x="7887" y="6866"/>
                  <a:pt x="7962" y="6846"/>
                </a:cubicBezTo>
                <a:cubicBezTo>
                  <a:pt x="8010" y="6833"/>
                  <a:pt x="8112" y="6787"/>
                  <a:pt x="8136" y="6871"/>
                </a:cubicBezTo>
                <a:cubicBezTo>
                  <a:pt x="8157" y="6945"/>
                  <a:pt x="8122" y="7027"/>
                  <a:pt x="8111" y="7094"/>
                </a:cubicBezTo>
                <a:cubicBezTo>
                  <a:pt x="8100" y="7161"/>
                  <a:pt x="8097" y="7229"/>
                  <a:pt x="8086" y="7293"/>
                </a:cubicBezTo>
                <a:cubicBezTo>
                  <a:pt x="8073" y="7368"/>
                  <a:pt x="8086" y="7445"/>
                  <a:pt x="8062" y="7516"/>
                </a:cubicBezTo>
                <a:cubicBezTo>
                  <a:pt x="8036" y="7594"/>
                  <a:pt x="8017" y="7681"/>
                  <a:pt x="8012" y="7764"/>
                </a:cubicBezTo>
                <a:cubicBezTo>
                  <a:pt x="8008" y="7841"/>
                  <a:pt x="8005" y="7875"/>
                  <a:pt x="8012" y="7938"/>
                </a:cubicBezTo>
                <a:cubicBezTo>
                  <a:pt x="8012" y="7982"/>
                  <a:pt x="8009" y="7996"/>
                  <a:pt x="8037" y="8012"/>
                </a:cubicBezTo>
              </a:path>
              <a:path w="8137" h="2556">
                <a:moveTo>
                  <a:pt x="8682" y="7813"/>
                </a:moveTo>
                <a:cubicBezTo>
                  <a:pt x="8715" y="7792"/>
                  <a:pt x="8841" y="7738"/>
                  <a:pt x="8855" y="7689"/>
                </a:cubicBezTo>
                <a:cubicBezTo>
                  <a:pt x="8872" y="7630"/>
                  <a:pt x="8895" y="7552"/>
                  <a:pt x="8905" y="7491"/>
                </a:cubicBezTo>
                <a:cubicBezTo>
                  <a:pt x="8920" y="7403"/>
                  <a:pt x="8890" y="7323"/>
                  <a:pt x="8880" y="7243"/>
                </a:cubicBezTo>
                <a:cubicBezTo>
                  <a:pt x="8868" y="7150"/>
                  <a:pt x="8853" y="7043"/>
                  <a:pt x="8781" y="6970"/>
                </a:cubicBezTo>
                <a:cubicBezTo>
                  <a:pt x="8723" y="6911"/>
                  <a:pt x="8630" y="6899"/>
                  <a:pt x="8558" y="6896"/>
                </a:cubicBezTo>
                <a:cubicBezTo>
                  <a:pt x="8485" y="6893"/>
                  <a:pt x="8423" y="6938"/>
                  <a:pt x="8359" y="6970"/>
                </a:cubicBezTo>
                <a:cubicBezTo>
                  <a:pt x="8301" y="6999"/>
                  <a:pt x="8250" y="7077"/>
                  <a:pt x="8235" y="7144"/>
                </a:cubicBezTo>
                <a:cubicBezTo>
                  <a:pt x="8209" y="7261"/>
                  <a:pt x="8221" y="7319"/>
                  <a:pt x="8235" y="7441"/>
                </a:cubicBezTo>
                <a:cubicBezTo>
                  <a:pt x="8243" y="7514"/>
                  <a:pt x="8294" y="7554"/>
                  <a:pt x="8310" y="7615"/>
                </a:cubicBezTo>
                <a:cubicBezTo>
                  <a:pt x="8331" y="7695"/>
                  <a:pt x="8371" y="7681"/>
                  <a:pt x="8434" y="7739"/>
                </a:cubicBezTo>
                <a:cubicBezTo>
                  <a:pt x="8456" y="7762"/>
                  <a:pt x="8461" y="7770"/>
                  <a:pt x="8483" y="7764"/>
                </a:cubicBezTo>
              </a:path>
              <a:path w="8137" h="2556">
                <a:moveTo>
                  <a:pt x="9302" y="8062"/>
                </a:moveTo>
                <a:cubicBezTo>
                  <a:pt x="9221" y="8062"/>
                  <a:pt x="9153" y="8049"/>
                  <a:pt x="9079" y="8037"/>
                </a:cubicBezTo>
                <a:cubicBezTo>
                  <a:pt x="8866" y="8003"/>
                  <a:pt x="8617" y="8043"/>
                  <a:pt x="8409" y="8062"/>
                </a:cubicBezTo>
                <a:cubicBezTo>
                  <a:pt x="8268" y="8075"/>
                  <a:pt x="8127" y="8072"/>
                  <a:pt x="7987" y="8086"/>
                </a:cubicBezTo>
                <a:cubicBezTo>
                  <a:pt x="7870" y="8098"/>
                  <a:pt x="7757" y="8107"/>
                  <a:pt x="7640" y="8111"/>
                </a:cubicBezTo>
                <a:cubicBezTo>
                  <a:pt x="7599" y="8112"/>
                  <a:pt x="7557" y="8111"/>
                  <a:pt x="7516" y="8111"/>
                </a:cubicBezTo>
              </a:path>
              <a:path w="8137" h="2556">
                <a:moveTo>
                  <a:pt x="8012" y="8880"/>
                </a:moveTo>
                <a:cubicBezTo>
                  <a:pt x="8069" y="8804"/>
                  <a:pt x="8062" y="8779"/>
                  <a:pt x="8062" y="8682"/>
                </a:cubicBezTo>
                <a:cubicBezTo>
                  <a:pt x="8062" y="8576"/>
                  <a:pt x="8054" y="8483"/>
                  <a:pt x="8037" y="8384"/>
                </a:cubicBezTo>
                <a:cubicBezTo>
                  <a:pt x="8025" y="8315"/>
                  <a:pt x="8048" y="8269"/>
                  <a:pt x="8012" y="8210"/>
                </a:cubicBezTo>
              </a:path>
              <a:path w="8137" h="2556">
                <a:moveTo>
                  <a:pt x="8508" y="8781"/>
                </a:moveTo>
                <a:cubicBezTo>
                  <a:pt x="8602" y="8793"/>
                  <a:pt x="8667" y="8820"/>
                  <a:pt x="8731" y="8731"/>
                </a:cubicBezTo>
                <a:cubicBezTo>
                  <a:pt x="8750" y="8705"/>
                  <a:pt x="8801" y="8591"/>
                  <a:pt x="8806" y="8558"/>
                </a:cubicBezTo>
                <a:cubicBezTo>
                  <a:pt x="8818" y="8478"/>
                  <a:pt x="8831" y="8403"/>
                  <a:pt x="8806" y="8334"/>
                </a:cubicBezTo>
                <a:cubicBezTo>
                  <a:pt x="8791" y="8292"/>
                  <a:pt x="8742" y="8212"/>
                  <a:pt x="8706" y="8186"/>
                </a:cubicBezTo>
                <a:cubicBezTo>
                  <a:pt x="8661" y="8154"/>
                  <a:pt x="8561" y="8146"/>
                  <a:pt x="8508" y="8161"/>
                </a:cubicBezTo>
                <a:cubicBezTo>
                  <a:pt x="8432" y="8182"/>
                  <a:pt x="8340" y="8235"/>
                  <a:pt x="8310" y="8310"/>
                </a:cubicBezTo>
                <a:cubicBezTo>
                  <a:pt x="8278" y="8391"/>
                  <a:pt x="8284" y="8476"/>
                  <a:pt x="8310" y="8558"/>
                </a:cubicBezTo>
                <a:cubicBezTo>
                  <a:pt x="8334" y="8635"/>
                  <a:pt x="8329" y="8695"/>
                  <a:pt x="8384" y="8756"/>
                </a:cubicBezTo>
                <a:cubicBezTo>
                  <a:pt x="8409" y="8781"/>
                  <a:pt x="8417" y="8789"/>
                  <a:pt x="8434" y="8806"/>
                </a:cubicBezTo>
              </a:path>
              <a:path w="8137" h="2556">
                <a:moveTo>
                  <a:pt x="10368" y="8607"/>
                </a:moveTo>
                <a:cubicBezTo>
                  <a:pt x="10319" y="8517"/>
                  <a:pt x="10258" y="8430"/>
                  <a:pt x="10220" y="8334"/>
                </a:cubicBezTo>
                <a:cubicBezTo>
                  <a:pt x="10186" y="8246"/>
                  <a:pt x="10148" y="8180"/>
                  <a:pt x="10096" y="8111"/>
                </a:cubicBezTo>
                <a:cubicBezTo>
                  <a:pt x="10055" y="8056"/>
                  <a:pt x="9994" y="8031"/>
                  <a:pt x="9971" y="7962"/>
                </a:cubicBezTo>
                <a:cubicBezTo>
                  <a:pt x="9945" y="7881"/>
                  <a:pt x="9922" y="7811"/>
                  <a:pt x="9872" y="7739"/>
                </a:cubicBezTo>
                <a:cubicBezTo>
                  <a:pt x="9842" y="7709"/>
                  <a:pt x="9831" y="7695"/>
                  <a:pt x="9823" y="7665"/>
                </a:cubicBezTo>
              </a:path>
              <a:path w="8137" h="2556">
                <a:moveTo>
                  <a:pt x="9773" y="7590"/>
                </a:moveTo>
                <a:cubicBezTo>
                  <a:pt x="9798" y="7547"/>
                  <a:pt x="9828" y="7494"/>
                  <a:pt x="9872" y="7466"/>
                </a:cubicBezTo>
                <a:cubicBezTo>
                  <a:pt x="9920" y="7435"/>
                  <a:pt x="9963" y="7392"/>
                  <a:pt x="9996" y="7342"/>
                </a:cubicBezTo>
                <a:cubicBezTo>
                  <a:pt x="10028" y="7293"/>
                  <a:pt x="10054" y="7260"/>
                  <a:pt x="10096" y="7218"/>
                </a:cubicBezTo>
              </a:path>
              <a:path w="8137" h="2556">
                <a:moveTo>
                  <a:pt x="10096" y="8062"/>
                </a:moveTo>
                <a:cubicBezTo>
                  <a:pt x="10145" y="8029"/>
                  <a:pt x="10170" y="8000"/>
                  <a:pt x="10195" y="7938"/>
                </a:cubicBezTo>
                <a:cubicBezTo>
                  <a:pt x="10229" y="7856"/>
                  <a:pt x="10270" y="7766"/>
                  <a:pt x="10319" y="7689"/>
                </a:cubicBezTo>
                <a:cubicBezTo>
                  <a:pt x="10348" y="7643"/>
                  <a:pt x="10378" y="7615"/>
                  <a:pt x="10393" y="7565"/>
                </a:cubicBezTo>
                <a:cubicBezTo>
                  <a:pt x="10393" y="7557"/>
                  <a:pt x="10393" y="7549"/>
                  <a:pt x="10393" y="7541"/>
                </a:cubicBezTo>
              </a:path>
              <a:path w="8137" h="2556">
                <a:moveTo>
                  <a:pt x="10344" y="8533"/>
                </a:moveTo>
                <a:cubicBezTo>
                  <a:pt x="10381" y="8469"/>
                  <a:pt x="10389" y="8427"/>
                  <a:pt x="10443" y="8359"/>
                </a:cubicBezTo>
                <a:cubicBezTo>
                  <a:pt x="10498" y="8291"/>
                  <a:pt x="10532" y="8214"/>
                  <a:pt x="10567" y="8136"/>
                </a:cubicBezTo>
                <a:cubicBezTo>
                  <a:pt x="10575" y="8119"/>
                  <a:pt x="10584" y="8103"/>
                  <a:pt x="10592" y="8086"/>
                </a:cubicBezTo>
              </a:path>
              <a:path w="8137" h="2556">
                <a:moveTo>
                  <a:pt x="10964" y="8062"/>
                </a:moveTo>
                <a:cubicBezTo>
                  <a:pt x="10983" y="8023"/>
                  <a:pt x="10972" y="7966"/>
                  <a:pt x="10939" y="7913"/>
                </a:cubicBezTo>
                <a:cubicBezTo>
                  <a:pt x="10896" y="7843"/>
                  <a:pt x="10841" y="7779"/>
                  <a:pt x="10790" y="7714"/>
                </a:cubicBezTo>
                <a:cubicBezTo>
                  <a:pt x="10729" y="7636"/>
                  <a:pt x="10640" y="7526"/>
                  <a:pt x="10592" y="7441"/>
                </a:cubicBezTo>
                <a:cubicBezTo>
                  <a:pt x="10554" y="7374"/>
                  <a:pt x="10527" y="7289"/>
                  <a:pt x="10492" y="7218"/>
                </a:cubicBezTo>
                <a:cubicBezTo>
                  <a:pt x="10455" y="7144"/>
                  <a:pt x="10443" y="7102"/>
                  <a:pt x="10443" y="7020"/>
                </a:cubicBezTo>
                <a:cubicBezTo>
                  <a:pt x="10443" y="6915"/>
                  <a:pt x="10508" y="6921"/>
                  <a:pt x="10592" y="6921"/>
                </a:cubicBezTo>
                <a:cubicBezTo>
                  <a:pt x="10671" y="6921"/>
                  <a:pt x="10694" y="6964"/>
                  <a:pt x="10740" y="7020"/>
                </a:cubicBezTo>
                <a:cubicBezTo>
                  <a:pt x="10772" y="7058"/>
                  <a:pt x="10780" y="7141"/>
                  <a:pt x="10765" y="7193"/>
                </a:cubicBezTo>
                <a:cubicBezTo>
                  <a:pt x="10736" y="7296"/>
                  <a:pt x="10667" y="7305"/>
                  <a:pt x="10592" y="7367"/>
                </a:cubicBezTo>
                <a:cubicBezTo>
                  <a:pt x="10566" y="7389"/>
                  <a:pt x="10542" y="7417"/>
                  <a:pt x="10517" y="7441"/>
                </a:cubicBezTo>
                <a:cubicBezTo>
                  <a:pt x="10589" y="7468"/>
                  <a:pt x="10643" y="7450"/>
                  <a:pt x="10716" y="7466"/>
                </a:cubicBezTo>
                <a:cubicBezTo>
                  <a:pt x="10813" y="7487"/>
                  <a:pt x="10914" y="7511"/>
                  <a:pt x="11013" y="7516"/>
                </a:cubicBezTo>
                <a:cubicBezTo>
                  <a:pt x="11077" y="7519"/>
                  <a:pt x="11181" y="7539"/>
                  <a:pt x="11237" y="7565"/>
                </a:cubicBezTo>
                <a:cubicBezTo>
                  <a:pt x="11245" y="7573"/>
                  <a:pt x="11253" y="7582"/>
                  <a:pt x="11261" y="7590"/>
                </a:cubicBezTo>
              </a:path>
              <a:path w="8137" h="2556">
                <a:moveTo>
                  <a:pt x="11534" y="7516"/>
                </a:moveTo>
                <a:cubicBezTo>
                  <a:pt x="11493" y="7400"/>
                  <a:pt x="11455" y="7313"/>
                  <a:pt x="11385" y="7218"/>
                </a:cubicBezTo>
                <a:cubicBezTo>
                  <a:pt x="11323" y="7134"/>
                  <a:pt x="11280" y="7045"/>
                  <a:pt x="11212" y="6970"/>
                </a:cubicBezTo>
                <a:cubicBezTo>
                  <a:pt x="11163" y="6916"/>
                  <a:pt x="11125" y="6858"/>
                  <a:pt x="11088" y="6796"/>
                </a:cubicBezTo>
                <a:cubicBezTo>
                  <a:pt x="11057" y="6744"/>
                  <a:pt x="11026" y="6695"/>
                  <a:pt x="10988" y="6648"/>
                </a:cubicBezTo>
              </a:path>
              <a:path w="8137" h="2556">
                <a:moveTo>
                  <a:pt x="11460" y="6325"/>
                </a:moveTo>
                <a:cubicBezTo>
                  <a:pt x="11409" y="6376"/>
                  <a:pt x="11364" y="6402"/>
                  <a:pt x="11361" y="6474"/>
                </a:cubicBezTo>
                <a:cubicBezTo>
                  <a:pt x="11356" y="6578"/>
                  <a:pt x="11389" y="6657"/>
                  <a:pt x="11435" y="6747"/>
                </a:cubicBezTo>
                <a:cubicBezTo>
                  <a:pt x="11468" y="6813"/>
                  <a:pt x="11481" y="6869"/>
                  <a:pt x="11534" y="6921"/>
                </a:cubicBezTo>
                <a:cubicBezTo>
                  <a:pt x="11577" y="6963"/>
                  <a:pt x="11623" y="6985"/>
                  <a:pt x="11683" y="6995"/>
                </a:cubicBezTo>
                <a:cubicBezTo>
                  <a:pt x="11733" y="7003"/>
                  <a:pt x="11816" y="6991"/>
                  <a:pt x="11857" y="6970"/>
                </a:cubicBezTo>
                <a:cubicBezTo>
                  <a:pt x="11902" y="6947"/>
                  <a:pt x="11963" y="6903"/>
                  <a:pt x="12005" y="6871"/>
                </a:cubicBezTo>
                <a:cubicBezTo>
                  <a:pt x="12067" y="6824"/>
                  <a:pt x="12054" y="6753"/>
                  <a:pt x="12080" y="6697"/>
                </a:cubicBezTo>
                <a:cubicBezTo>
                  <a:pt x="12102" y="6675"/>
                  <a:pt x="12111" y="6670"/>
                  <a:pt x="12105" y="6648"/>
                </a:cubicBezTo>
              </a:path>
              <a:path w="8137" h="2556">
                <a:moveTo>
                  <a:pt x="12551" y="7020"/>
                </a:moveTo>
                <a:cubicBezTo>
                  <a:pt x="12491" y="7050"/>
                  <a:pt x="12434" y="7087"/>
                  <a:pt x="12378" y="7119"/>
                </a:cubicBezTo>
                <a:cubicBezTo>
                  <a:pt x="12290" y="7170"/>
                  <a:pt x="12287" y="7220"/>
                  <a:pt x="12229" y="7293"/>
                </a:cubicBezTo>
                <a:cubicBezTo>
                  <a:pt x="12153" y="7390"/>
                  <a:pt x="12048" y="7463"/>
                  <a:pt x="11956" y="7541"/>
                </a:cubicBezTo>
                <a:cubicBezTo>
                  <a:pt x="11874" y="7611"/>
                  <a:pt x="11779" y="7706"/>
                  <a:pt x="11708" y="7789"/>
                </a:cubicBezTo>
                <a:cubicBezTo>
                  <a:pt x="11595" y="7922"/>
                  <a:pt x="11467" y="8006"/>
                  <a:pt x="11336" y="8111"/>
                </a:cubicBezTo>
                <a:cubicBezTo>
                  <a:pt x="11214" y="8208"/>
                  <a:pt x="11120" y="8323"/>
                  <a:pt x="11013" y="8434"/>
                </a:cubicBezTo>
                <a:cubicBezTo>
                  <a:pt x="10923" y="8528"/>
                  <a:pt x="10849" y="8633"/>
                  <a:pt x="10765" y="8731"/>
                </a:cubicBezTo>
                <a:cubicBezTo>
                  <a:pt x="10719" y="8777"/>
                  <a:pt x="10705" y="8790"/>
                  <a:pt x="10691" y="88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Ink 5"/>
          <p:cNvSpPr/>
          <p:nvPr/>
        </p:nvSpPr>
        <p:spPr>
          <a:xfrm>
            <a:off x="1509840" y="2901960"/>
            <a:ext cx="1579320" cy="696960"/>
          </a:xfrm>
          <a:custGeom>
            <a:avLst/>
            <a:gdLst/>
            <a:ahLst/>
            <a:rect l="l" t="t" r="r" b="b"/>
            <a:pathLst>
              <a:path w="4391" h="1935">
                <a:moveTo>
                  <a:pt x="6325" y="8086"/>
                </a:moveTo>
                <a:cubicBezTo>
                  <a:pt x="6245" y="8098"/>
                  <a:pt x="6211" y="8099"/>
                  <a:pt x="6127" y="8086"/>
                </a:cubicBezTo>
                <a:cubicBezTo>
                  <a:pt x="6009" y="8067"/>
                  <a:pt x="5874" y="8074"/>
                  <a:pt x="5755" y="8062"/>
                </a:cubicBezTo>
                <a:cubicBezTo>
                  <a:pt x="5659" y="8052"/>
                  <a:pt x="5576" y="8084"/>
                  <a:pt x="5482" y="8086"/>
                </a:cubicBezTo>
                <a:cubicBezTo>
                  <a:pt x="5296" y="8091"/>
                  <a:pt x="5117" y="8081"/>
                  <a:pt x="4936" y="8062"/>
                </a:cubicBezTo>
                <a:cubicBezTo>
                  <a:pt x="4694" y="8037"/>
                  <a:pt x="4436" y="8062"/>
                  <a:pt x="4192" y="8062"/>
                </a:cubicBezTo>
              </a:path>
              <a:path w="4391" h="1935">
                <a:moveTo>
                  <a:pt x="5110" y="9029"/>
                </a:moveTo>
                <a:cubicBezTo>
                  <a:pt x="5150" y="8988"/>
                  <a:pt x="5196" y="8938"/>
                  <a:pt x="5209" y="8880"/>
                </a:cubicBezTo>
                <a:cubicBezTo>
                  <a:pt x="5246" y="8714"/>
                  <a:pt x="5208" y="8498"/>
                  <a:pt x="5184" y="8334"/>
                </a:cubicBezTo>
                <a:cubicBezTo>
                  <a:pt x="5178" y="8295"/>
                  <a:pt x="5184" y="8250"/>
                  <a:pt x="5184" y="8210"/>
                </a:cubicBezTo>
              </a:path>
              <a:path w="4391" h="1935">
                <a:moveTo>
                  <a:pt x="5804" y="8930"/>
                </a:moveTo>
                <a:cubicBezTo>
                  <a:pt x="5877" y="8888"/>
                  <a:pt x="5890" y="8857"/>
                  <a:pt x="5928" y="8781"/>
                </a:cubicBezTo>
                <a:cubicBezTo>
                  <a:pt x="5956" y="8725"/>
                  <a:pt x="5967" y="8645"/>
                  <a:pt x="5953" y="8582"/>
                </a:cubicBezTo>
                <a:cubicBezTo>
                  <a:pt x="5941" y="8526"/>
                  <a:pt x="5900" y="8392"/>
                  <a:pt x="5854" y="8359"/>
                </a:cubicBezTo>
                <a:cubicBezTo>
                  <a:pt x="5724" y="8265"/>
                  <a:pt x="5725" y="8263"/>
                  <a:pt x="5606" y="8285"/>
                </a:cubicBezTo>
                <a:cubicBezTo>
                  <a:pt x="5568" y="8292"/>
                  <a:pt x="5497" y="8306"/>
                  <a:pt x="5482" y="8359"/>
                </a:cubicBezTo>
                <a:cubicBezTo>
                  <a:pt x="5457" y="8447"/>
                  <a:pt x="5434" y="8521"/>
                  <a:pt x="5457" y="8607"/>
                </a:cubicBezTo>
                <a:cubicBezTo>
                  <a:pt x="5478" y="8684"/>
                  <a:pt x="5477" y="8726"/>
                  <a:pt x="5531" y="8781"/>
                </a:cubicBezTo>
                <a:cubicBezTo>
                  <a:pt x="5564" y="8815"/>
                  <a:pt x="5586" y="8806"/>
                  <a:pt x="5631" y="8806"/>
                </a:cubicBezTo>
              </a:path>
              <a:path w="4391" h="1935">
                <a:moveTo>
                  <a:pt x="6772" y="9996"/>
                </a:moveTo>
                <a:cubicBezTo>
                  <a:pt x="6767" y="9915"/>
                  <a:pt x="6769" y="9803"/>
                  <a:pt x="6747" y="9723"/>
                </a:cubicBezTo>
                <a:cubicBezTo>
                  <a:pt x="6713" y="9600"/>
                  <a:pt x="6667" y="9479"/>
                  <a:pt x="6648" y="9351"/>
                </a:cubicBezTo>
                <a:cubicBezTo>
                  <a:pt x="6638" y="9284"/>
                  <a:pt x="6607" y="9218"/>
                  <a:pt x="6598" y="9153"/>
                </a:cubicBezTo>
                <a:cubicBezTo>
                  <a:pt x="6589" y="9083"/>
                  <a:pt x="6582" y="9068"/>
                  <a:pt x="6573" y="9004"/>
                </a:cubicBezTo>
              </a:path>
              <a:path w="4391" h="1935">
                <a:moveTo>
                  <a:pt x="6722" y="9649"/>
                </a:moveTo>
                <a:cubicBezTo>
                  <a:pt x="6780" y="9591"/>
                  <a:pt x="6807" y="9544"/>
                  <a:pt x="6846" y="9475"/>
                </a:cubicBezTo>
                <a:cubicBezTo>
                  <a:pt x="6883" y="9409"/>
                  <a:pt x="6929" y="9373"/>
                  <a:pt x="6995" y="9426"/>
                </a:cubicBezTo>
                <a:cubicBezTo>
                  <a:pt x="7044" y="9465"/>
                  <a:pt x="7066" y="9489"/>
                  <a:pt x="7069" y="9550"/>
                </a:cubicBezTo>
                <a:cubicBezTo>
                  <a:pt x="7073" y="9625"/>
                  <a:pt x="7039" y="9690"/>
                  <a:pt x="6995" y="9748"/>
                </a:cubicBezTo>
                <a:cubicBezTo>
                  <a:pt x="6945" y="9814"/>
                  <a:pt x="6934" y="9840"/>
                  <a:pt x="6846" y="9847"/>
                </a:cubicBezTo>
                <a:cubicBezTo>
                  <a:pt x="6838" y="9847"/>
                  <a:pt x="6829" y="9847"/>
                  <a:pt x="6821" y="9847"/>
                </a:cubicBezTo>
              </a:path>
              <a:path w="4391" h="1935">
                <a:moveTo>
                  <a:pt x="7466" y="9649"/>
                </a:moveTo>
                <a:cubicBezTo>
                  <a:pt x="7565" y="9649"/>
                  <a:pt x="7665" y="9649"/>
                  <a:pt x="7764" y="9649"/>
                </a:cubicBezTo>
              </a:path>
              <a:path w="4391" h="1935">
                <a:moveTo>
                  <a:pt x="7367" y="9351"/>
                </a:moveTo>
                <a:cubicBezTo>
                  <a:pt x="7448" y="9322"/>
                  <a:pt x="7470" y="9337"/>
                  <a:pt x="7541" y="9351"/>
                </a:cubicBezTo>
                <a:cubicBezTo>
                  <a:pt x="7587" y="9360"/>
                  <a:pt x="7642" y="9351"/>
                  <a:pt x="7689" y="9351"/>
                </a:cubicBezTo>
              </a:path>
              <a:path w="4391" h="1935">
                <a:moveTo>
                  <a:pt x="8062" y="9103"/>
                </a:moveTo>
                <a:cubicBezTo>
                  <a:pt x="8124" y="9073"/>
                  <a:pt x="8213" y="9008"/>
                  <a:pt x="8285" y="9029"/>
                </a:cubicBezTo>
                <a:cubicBezTo>
                  <a:pt x="8333" y="9043"/>
                  <a:pt x="8409" y="9049"/>
                  <a:pt x="8458" y="9079"/>
                </a:cubicBezTo>
                <a:cubicBezTo>
                  <a:pt x="8519" y="9116"/>
                  <a:pt x="8508" y="9164"/>
                  <a:pt x="8508" y="9227"/>
                </a:cubicBezTo>
                <a:cubicBezTo>
                  <a:pt x="8508" y="9314"/>
                  <a:pt x="8533" y="9385"/>
                  <a:pt x="8533" y="9475"/>
                </a:cubicBezTo>
                <a:cubicBezTo>
                  <a:pt x="8533" y="9555"/>
                  <a:pt x="8554" y="9621"/>
                  <a:pt x="8558" y="9699"/>
                </a:cubicBezTo>
                <a:cubicBezTo>
                  <a:pt x="8558" y="9743"/>
                  <a:pt x="8555" y="9756"/>
                  <a:pt x="8582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Ink 6"/>
          <p:cNvSpPr/>
          <p:nvPr/>
        </p:nvSpPr>
        <p:spPr>
          <a:xfrm>
            <a:off x="357120" y="4125960"/>
            <a:ext cx="3375000" cy="1231920"/>
          </a:xfrm>
          <a:custGeom>
            <a:avLst/>
            <a:gdLst/>
            <a:ahLst/>
            <a:rect l="l" t="t" r="r" b="b"/>
            <a:pathLst>
              <a:path w="9377" h="3424">
                <a:moveTo>
                  <a:pt x="4291" y="11460"/>
                </a:moveTo>
                <a:cubicBezTo>
                  <a:pt x="4322" y="11522"/>
                  <a:pt x="4329" y="11632"/>
                  <a:pt x="4316" y="11708"/>
                </a:cubicBezTo>
                <a:cubicBezTo>
                  <a:pt x="4302" y="11786"/>
                  <a:pt x="4254" y="11855"/>
                  <a:pt x="4242" y="11931"/>
                </a:cubicBezTo>
                <a:cubicBezTo>
                  <a:pt x="4232" y="11993"/>
                  <a:pt x="4225" y="11997"/>
                  <a:pt x="4192" y="12055"/>
                </a:cubicBezTo>
                <a:cubicBezTo>
                  <a:pt x="4237" y="12077"/>
                  <a:pt x="4315" y="12075"/>
                  <a:pt x="4390" y="12105"/>
                </a:cubicBezTo>
                <a:cubicBezTo>
                  <a:pt x="4459" y="12133"/>
                  <a:pt x="4540" y="12150"/>
                  <a:pt x="4614" y="12154"/>
                </a:cubicBezTo>
                <a:cubicBezTo>
                  <a:pt x="4663" y="12154"/>
                  <a:pt x="4680" y="12154"/>
                  <a:pt x="4713" y="12154"/>
                </a:cubicBezTo>
              </a:path>
              <a:path w="9377" h="3424">
                <a:moveTo>
                  <a:pt x="4862" y="11509"/>
                </a:moveTo>
                <a:cubicBezTo>
                  <a:pt x="4835" y="11611"/>
                  <a:pt x="4775" y="11728"/>
                  <a:pt x="4762" y="11832"/>
                </a:cubicBezTo>
                <a:cubicBezTo>
                  <a:pt x="4746" y="11962"/>
                  <a:pt x="4757" y="12099"/>
                  <a:pt x="4738" y="12229"/>
                </a:cubicBezTo>
                <a:cubicBezTo>
                  <a:pt x="4720" y="12348"/>
                  <a:pt x="4713" y="12455"/>
                  <a:pt x="4713" y="12576"/>
                </a:cubicBezTo>
                <a:cubicBezTo>
                  <a:pt x="4713" y="12640"/>
                  <a:pt x="4669" y="12909"/>
                  <a:pt x="4738" y="12750"/>
                </a:cubicBezTo>
              </a:path>
              <a:path w="9377" h="3424">
                <a:moveTo>
                  <a:pt x="5407" y="12030"/>
                </a:moveTo>
                <a:cubicBezTo>
                  <a:pt x="5444" y="11984"/>
                  <a:pt x="5495" y="11895"/>
                  <a:pt x="5407" y="11857"/>
                </a:cubicBezTo>
                <a:cubicBezTo>
                  <a:pt x="5351" y="11833"/>
                  <a:pt x="5275" y="11872"/>
                  <a:pt x="5234" y="11906"/>
                </a:cubicBezTo>
                <a:cubicBezTo>
                  <a:pt x="5182" y="11949"/>
                  <a:pt x="5141" y="11997"/>
                  <a:pt x="5110" y="12055"/>
                </a:cubicBezTo>
                <a:cubicBezTo>
                  <a:pt x="5069" y="12132"/>
                  <a:pt x="5039" y="12196"/>
                  <a:pt x="5035" y="12278"/>
                </a:cubicBezTo>
                <a:cubicBezTo>
                  <a:pt x="5030" y="12379"/>
                  <a:pt x="5103" y="12475"/>
                  <a:pt x="5184" y="12526"/>
                </a:cubicBezTo>
                <a:cubicBezTo>
                  <a:pt x="5284" y="12588"/>
                  <a:pt x="5419" y="12641"/>
                  <a:pt x="5531" y="12675"/>
                </a:cubicBezTo>
                <a:cubicBezTo>
                  <a:pt x="5619" y="12702"/>
                  <a:pt x="5715" y="12721"/>
                  <a:pt x="5804" y="12725"/>
                </a:cubicBezTo>
                <a:cubicBezTo>
                  <a:pt x="5848" y="12727"/>
                  <a:pt x="5860" y="12725"/>
                  <a:pt x="5904" y="12725"/>
                </a:cubicBezTo>
              </a:path>
              <a:path w="9377" h="3424">
                <a:moveTo>
                  <a:pt x="6697" y="11931"/>
                </a:moveTo>
                <a:cubicBezTo>
                  <a:pt x="6669" y="12035"/>
                  <a:pt x="6668" y="12128"/>
                  <a:pt x="6648" y="12229"/>
                </a:cubicBezTo>
                <a:cubicBezTo>
                  <a:pt x="6628" y="12331"/>
                  <a:pt x="6623" y="12420"/>
                  <a:pt x="6623" y="12526"/>
                </a:cubicBezTo>
                <a:cubicBezTo>
                  <a:pt x="6623" y="12590"/>
                  <a:pt x="6626" y="12616"/>
                  <a:pt x="6648" y="12675"/>
                </a:cubicBezTo>
              </a:path>
              <a:path w="9377" h="3424">
                <a:moveTo>
                  <a:pt x="6276" y="12229"/>
                </a:moveTo>
                <a:cubicBezTo>
                  <a:pt x="6450" y="12237"/>
                  <a:pt x="6558" y="12282"/>
                  <a:pt x="6722" y="12328"/>
                </a:cubicBezTo>
                <a:cubicBezTo>
                  <a:pt x="6812" y="12351"/>
                  <a:pt x="6836" y="12359"/>
                  <a:pt x="6896" y="12353"/>
                </a:cubicBezTo>
              </a:path>
              <a:path w="9377" h="3424">
                <a:moveTo>
                  <a:pt x="7516" y="11931"/>
                </a:moveTo>
                <a:cubicBezTo>
                  <a:pt x="7516" y="12074"/>
                  <a:pt x="7496" y="12211"/>
                  <a:pt x="7491" y="12353"/>
                </a:cubicBezTo>
                <a:cubicBezTo>
                  <a:pt x="7487" y="12462"/>
                  <a:pt x="7466" y="12563"/>
                  <a:pt x="7466" y="12675"/>
                </a:cubicBezTo>
                <a:cubicBezTo>
                  <a:pt x="7466" y="12744"/>
                  <a:pt x="7465" y="12837"/>
                  <a:pt x="7491" y="12898"/>
                </a:cubicBezTo>
                <a:cubicBezTo>
                  <a:pt x="7521" y="12928"/>
                  <a:pt x="7532" y="12930"/>
                  <a:pt x="7541" y="12874"/>
                </a:cubicBezTo>
              </a:path>
              <a:path w="9377" h="3424">
                <a:moveTo>
                  <a:pt x="7962" y="11881"/>
                </a:moveTo>
                <a:cubicBezTo>
                  <a:pt x="7969" y="11986"/>
                  <a:pt x="7987" y="12072"/>
                  <a:pt x="7987" y="12179"/>
                </a:cubicBezTo>
                <a:cubicBezTo>
                  <a:pt x="7987" y="12309"/>
                  <a:pt x="7997" y="12424"/>
                  <a:pt x="8012" y="12551"/>
                </a:cubicBezTo>
                <a:cubicBezTo>
                  <a:pt x="8024" y="12653"/>
                  <a:pt x="8021" y="12752"/>
                  <a:pt x="8037" y="12849"/>
                </a:cubicBezTo>
                <a:cubicBezTo>
                  <a:pt x="8037" y="12898"/>
                  <a:pt x="8037" y="12915"/>
                  <a:pt x="8037" y="12948"/>
                </a:cubicBezTo>
                <a:cubicBezTo>
                  <a:pt x="8044" y="12899"/>
                  <a:pt x="8051" y="12891"/>
                  <a:pt x="8062" y="12849"/>
                </a:cubicBezTo>
              </a:path>
              <a:path w="9377" h="3424">
                <a:moveTo>
                  <a:pt x="8483" y="12254"/>
                </a:moveTo>
                <a:cubicBezTo>
                  <a:pt x="8616" y="12254"/>
                  <a:pt x="8725" y="12271"/>
                  <a:pt x="8855" y="12278"/>
                </a:cubicBezTo>
              </a:path>
              <a:path w="9377" h="3424">
                <a:moveTo>
                  <a:pt x="8508" y="12551"/>
                </a:moveTo>
                <a:cubicBezTo>
                  <a:pt x="8668" y="12618"/>
                  <a:pt x="8685" y="12650"/>
                  <a:pt x="8830" y="12626"/>
                </a:cubicBezTo>
              </a:path>
              <a:path w="9377" h="3424">
                <a:moveTo>
                  <a:pt x="9351" y="12030"/>
                </a:moveTo>
                <a:cubicBezTo>
                  <a:pt x="9477" y="12030"/>
                  <a:pt x="9607" y="12049"/>
                  <a:pt x="9723" y="12005"/>
                </a:cubicBezTo>
              </a:path>
              <a:path w="9377" h="3424">
                <a:moveTo>
                  <a:pt x="9302" y="12005"/>
                </a:moveTo>
                <a:cubicBezTo>
                  <a:pt x="9260" y="12086"/>
                  <a:pt x="9127" y="12251"/>
                  <a:pt x="9178" y="12353"/>
                </a:cubicBezTo>
                <a:cubicBezTo>
                  <a:pt x="9202" y="12401"/>
                  <a:pt x="9307" y="12378"/>
                  <a:pt x="9351" y="12378"/>
                </a:cubicBezTo>
                <a:cubicBezTo>
                  <a:pt x="9432" y="12378"/>
                  <a:pt x="9501" y="12369"/>
                  <a:pt x="9575" y="12402"/>
                </a:cubicBezTo>
                <a:cubicBezTo>
                  <a:pt x="9661" y="12440"/>
                  <a:pt x="9686" y="12484"/>
                  <a:pt x="9748" y="12551"/>
                </a:cubicBezTo>
                <a:cubicBezTo>
                  <a:pt x="9786" y="12592"/>
                  <a:pt x="9788" y="12694"/>
                  <a:pt x="9773" y="12750"/>
                </a:cubicBezTo>
                <a:cubicBezTo>
                  <a:pt x="9755" y="12816"/>
                  <a:pt x="9671" y="12934"/>
                  <a:pt x="9599" y="12948"/>
                </a:cubicBezTo>
                <a:cubicBezTo>
                  <a:pt x="9531" y="12962"/>
                  <a:pt x="9454" y="12925"/>
                  <a:pt x="9401" y="12898"/>
                </a:cubicBezTo>
                <a:cubicBezTo>
                  <a:pt x="9342" y="12867"/>
                  <a:pt x="9279" y="12839"/>
                  <a:pt x="9227" y="12799"/>
                </a:cubicBezTo>
                <a:cubicBezTo>
                  <a:pt x="9219" y="12791"/>
                  <a:pt x="9211" y="12782"/>
                  <a:pt x="9203" y="12774"/>
                </a:cubicBezTo>
              </a:path>
              <a:path w="9377" h="3424">
                <a:moveTo>
                  <a:pt x="10244" y="11832"/>
                </a:moveTo>
                <a:cubicBezTo>
                  <a:pt x="10289" y="11949"/>
                  <a:pt x="10269" y="12077"/>
                  <a:pt x="10269" y="12204"/>
                </a:cubicBezTo>
                <a:cubicBezTo>
                  <a:pt x="10269" y="12463"/>
                  <a:pt x="10261" y="12717"/>
                  <a:pt x="10244" y="12973"/>
                </a:cubicBezTo>
                <a:cubicBezTo>
                  <a:pt x="10244" y="13082"/>
                  <a:pt x="10249" y="13108"/>
                  <a:pt x="10220" y="13171"/>
                </a:cubicBezTo>
              </a:path>
              <a:path w="9377" h="3424">
                <a:moveTo>
                  <a:pt x="6350" y="13246"/>
                </a:moveTo>
                <a:cubicBezTo>
                  <a:pt x="6467" y="13207"/>
                  <a:pt x="6551" y="13236"/>
                  <a:pt x="6672" y="13246"/>
                </a:cubicBezTo>
                <a:cubicBezTo>
                  <a:pt x="6781" y="13246"/>
                  <a:pt x="6823" y="13244"/>
                  <a:pt x="6896" y="13221"/>
                </a:cubicBezTo>
              </a:path>
              <a:path w="9377" h="3424">
                <a:moveTo>
                  <a:pt x="7367" y="13122"/>
                </a:moveTo>
                <a:cubicBezTo>
                  <a:pt x="7367" y="13280"/>
                  <a:pt x="7375" y="13417"/>
                  <a:pt x="7392" y="13568"/>
                </a:cubicBezTo>
                <a:cubicBezTo>
                  <a:pt x="7402" y="13655"/>
                  <a:pt x="7383" y="13759"/>
                  <a:pt x="7417" y="13841"/>
                </a:cubicBezTo>
                <a:cubicBezTo>
                  <a:pt x="7433" y="13878"/>
                  <a:pt x="7443" y="13900"/>
                  <a:pt x="7466" y="13915"/>
                </a:cubicBezTo>
              </a:path>
              <a:path w="9377" h="3424">
                <a:moveTo>
                  <a:pt x="8037" y="13246"/>
                </a:moveTo>
                <a:cubicBezTo>
                  <a:pt x="8064" y="13351"/>
                  <a:pt x="8075" y="13480"/>
                  <a:pt x="8086" y="13593"/>
                </a:cubicBezTo>
                <a:cubicBezTo>
                  <a:pt x="8097" y="13701"/>
                  <a:pt x="8087" y="13809"/>
                  <a:pt x="8111" y="13915"/>
                </a:cubicBezTo>
                <a:cubicBezTo>
                  <a:pt x="8123" y="13969"/>
                  <a:pt x="8122" y="14059"/>
                  <a:pt x="8186" y="14064"/>
                </a:cubicBezTo>
                <a:cubicBezTo>
                  <a:pt x="8202" y="14064"/>
                  <a:pt x="8219" y="14064"/>
                  <a:pt x="8235" y="14064"/>
                </a:cubicBezTo>
              </a:path>
              <a:path w="9377" h="3424">
                <a:moveTo>
                  <a:pt x="8855" y="13444"/>
                </a:moveTo>
                <a:cubicBezTo>
                  <a:pt x="8979" y="13444"/>
                  <a:pt x="9103" y="13444"/>
                  <a:pt x="9227" y="13444"/>
                </a:cubicBezTo>
              </a:path>
              <a:path w="9377" h="3424">
                <a:moveTo>
                  <a:pt x="9649" y="13146"/>
                </a:moveTo>
                <a:cubicBezTo>
                  <a:pt x="9664" y="13284"/>
                  <a:pt x="9649" y="13401"/>
                  <a:pt x="9649" y="13543"/>
                </a:cubicBezTo>
                <a:cubicBezTo>
                  <a:pt x="9649" y="13710"/>
                  <a:pt x="9692" y="13870"/>
                  <a:pt x="9699" y="14039"/>
                </a:cubicBezTo>
                <a:cubicBezTo>
                  <a:pt x="9701" y="14097"/>
                  <a:pt x="9715" y="14166"/>
                  <a:pt x="9748" y="14188"/>
                </a:cubicBezTo>
              </a:path>
              <a:path w="9377" h="3424">
                <a:moveTo>
                  <a:pt x="10220" y="13320"/>
                </a:moveTo>
                <a:cubicBezTo>
                  <a:pt x="10240" y="13462"/>
                  <a:pt x="10227" y="13601"/>
                  <a:pt x="10244" y="13742"/>
                </a:cubicBezTo>
                <a:cubicBezTo>
                  <a:pt x="10260" y="13869"/>
                  <a:pt x="10299" y="13992"/>
                  <a:pt x="10319" y="14114"/>
                </a:cubicBezTo>
                <a:cubicBezTo>
                  <a:pt x="10334" y="14208"/>
                  <a:pt x="10313" y="14253"/>
                  <a:pt x="10368" y="14337"/>
                </a:cubicBezTo>
              </a:path>
              <a:path w="9377" h="3424">
                <a:moveTo>
                  <a:pt x="992" y="14883"/>
                </a:moveTo>
                <a:cubicBezTo>
                  <a:pt x="1085" y="14715"/>
                  <a:pt x="1127" y="14553"/>
                  <a:pt x="1166" y="14362"/>
                </a:cubicBezTo>
                <a:cubicBezTo>
                  <a:pt x="1203" y="14185"/>
                  <a:pt x="1192" y="13985"/>
                  <a:pt x="1265" y="13816"/>
                </a:cubicBezTo>
                <a:cubicBezTo>
                  <a:pt x="1290" y="13791"/>
                  <a:pt x="1298" y="13783"/>
                  <a:pt x="1315" y="13767"/>
                </a:cubicBezTo>
                <a:cubicBezTo>
                  <a:pt x="1308" y="13897"/>
                  <a:pt x="1274" y="14032"/>
                  <a:pt x="1290" y="14163"/>
                </a:cubicBezTo>
                <a:cubicBezTo>
                  <a:pt x="1303" y="14267"/>
                  <a:pt x="1327" y="14428"/>
                  <a:pt x="1389" y="14511"/>
                </a:cubicBezTo>
                <a:cubicBezTo>
                  <a:pt x="1417" y="14539"/>
                  <a:pt x="1430" y="14548"/>
                  <a:pt x="1463" y="14536"/>
                </a:cubicBezTo>
                <a:cubicBezTo>
                  <a:pt x="1507" y="14394"/>
                  <a:pt x="1495" y="14282"/>
                  <a:pt x="1513" y="14139"/>
                </a:cubicBezTo>
                <a:cubicBezTo>
                  <a:pt x="1532" y="13989"/>
                  <a:pt x="1559" y="13845"/>
                  <a:pt x="1563" y="13692"/>
                </a:cubicBezTo>
                <a:cubicBezTo>
                  <a:pt x="1565" y="13613"/>
                  <a:pt x="1575" y="13533"/>
                  <a:pt x="1612" y="13469"/>
                </a:cubicBezTo>
                <a:cubicBezTo>
                  <a:pt x="1678" y="13665"/>
                  <a:pt x="1721" y="13859"/>
                  <a:pt x="1736" y="14064"/>
                </a:cubicBezTo>
                <a:cubicBezTo>
                  <a:pt x="1746" y="14200"/>
                  <a:pt x="1764" y="14331"/>
                  <a:pt x="1811" y="14461"/>
                </a:cubicBezTo>
                <a:cubicBezTo>
                  <a:pt x="1833" y="14505"/>
                  <a:pt x="1836" y="14516"/>
                  <a:pt x="1860" y="14536"/>
                </a:cubicBezTo>
              </a:path>
              <a:path w="9377" h="3424">
                <a:moveTo>
                  <a:pt x="1563" y="14288"/>
                </a:moveTo>
                <a:cubicBezTo>
                  <a:pt x="1604" y="14370"/>
                  <a:pt x="1651" y="14448"/>
                  <a:pt x="1761" y="14436"/>
                </a:cubicBezTo>
                <a:cubicBezTo>
                  <a:pt x="1866" y="14425"/>
                  <a:pt x="1893" y="14371"/>
                  <a:pt x="1935" y="14288"/>
                </a:cubicBezTo>
                <a:cubicBezTo>
                  <a:pt x="1973" y="14212"/>
                  <a:pt x="2020" y="14141"/>
                  <a:pt x="2059" y="14064"/>
                </a:cubicBezTo>
                <a:cubicBezTo>
                  <a:pt x="2067" y="14048"/>
                  <a:pt x="2076" y="14031"/>
                  <a:pt x="2084" y="14015"/>
                </a:cubicBezTo>
                <a:cubicBezTo>
                  <a:pt x="2084" y="14114"/>
                  <a:pt x="2093" y="14196"/>
                  <a:pt x="2108" y="14288"/>
                </a:cubicBezTo>
                <a:cubicBezTo>
                  <a:pt x="2108" y="14304"/>
                  <a:pt x="2108" y="14321"/>
                  <a:pt x="2108" y="14337"/>
                </a:cubicBezTo>
                <a:cubicBezTo>
                  <a:pt x="2171" y="14243"/>
                  <a:pt x="2158" y="14169"/>
                  <a:pt x="2183" y="14064"/>
                </a:cubicBezTo>
                <a:cubicBezTo>
                  <a:pt x="2205" y="13974"/>
                  <a:pt x="2247" y="13845"/>
                  <a:pt x="2332" y="13791"/>
                </a:cubicBezTo>
                <a:cubicBezTo>
                  <a:pt x="2399" y="13748"/>
                  <a:pt x="2450" y="13765"/>
                  <a:pt x="2505" y="13816"/>
                </a:cubicBezTo>
                <a:cubicBezTo>
                  <a:pt x="2591" y="13896"/>
                  <a:pt x="2620" y="14003"/>
                  <a:pt x="2629" y="14114"/>
                </a:cubicBezTo>
                <a:cubicBezTo>
                  <a:pt x="2631" y="14141"/>
                  <a:pt x="2594" y="14263"/>
                  <a:pt x="2555" y="14263"/>
                </a:cubicBezTo>
                <a:cubicBezTo>
                  <a:pt x="2476" y="14263"/>
                  <a:pt x="2443" y="14215"/>
                  <a:pt x="2406" y="14163"/>
                </a:cubicBezTo>
              </a:path>
              <a:path w="9377" h="3424">
                <a:moveTo>
                  <a:pt x="2853" y="13345"/>
                </a:moveTo>
                <a:cubicBezTo>
                  <a:pt x="2902" y="13501"/>
                  <a:pt x="2878" y="13609"/>
                  <a:pt x="2902" y="13767"/>
                </a:cubicBezTo>
                <a:cubicBezTo>
                  <a:pt x="2916" y="13859"/>
                  <a:pt x="2927" y="13943"/>
                  <a:pt x="2927" y="14039"/>
                </a:cubicBezTo>
                <a:cubicBezTo>
                  <a:pt x="2911" y="13944"/>
                  <a:pt x="2916" y="13841"/>
                  <a:pt x="2902" y="13742"/>
                </a:cubicBezTo>
                <a:cubicBezTo>
                  <a:pt x="2883" y="13607"/>
                  <a:pt x="2877" y="13483"/>
                  <a:pt x="2877" y="13345"/>
                </a:cubicBezTo>
                <a:cubicBezTo>
                  <a:pt x="2877" y="13247"/>
                  <a:pt x="2876" y="13124"/>
                  <a:pt x="2952" y="13072"/>
                </a:cubicBezTo>
                <a:cubicBezTo>
                  <a:pt x="2968" y="13064"/>
                  <a:pt x="2985" y="13055"/>
                  <a:pt x="3001" y="13047"/>
                </a:cubicBezTo>
                <a:cubicBezTo>
                  <a:pt x="3113" y="13088"/>
                  <a:pt x="3229" y="13081"/>
                  <a:pt x="3225" y="13246"/>
                </a:cubicBezTo>
                <a:cubicBezTo>
                  <a:pt x="3222" y="13346"/>
                  <a:pt x="3197" y="13388"/>
                  <a:pt x="3125" y="13444"/>
                </a:cubicBezTo>
                <a:cubicBezTo>
                  <a:pt x="3060" y="13495"/>
                  <a:pt x="3028" y="13484"/>
                  <a:pt x="2952" y="13494"/>
                </a:cubicBezTo>
                <a:cubicBezTo>
                  <a:pt x="3047" y="13571"/>
                  <a:pt x="3124" y="13624"/>
                  <a:pt x="3175" y="13742"/>
                </a:cubicBezTo>
                <a:cubicBezTo>
                  <a:pt x="3207" y="13817"/>
                  <a:pt x="3225" y="13932"/>
                  <a:pt x="3150" y="13990"/>
                </a:cubicBezTo>
                <a:cubicBezTo>
                  <a:pt x="3102" y="14027"/>
                  <a:pt x="2983" y="14027"/>
                  <a:pt x="2927" y="14015"/>
                </a:cubicBezTo>
                <a:cubicBezTo>
                  <a:pt x="2836" y="13995"/>
                  <a:pt x="2853" y="13903"/>
                  <a:pt x="2828" y="13841"/>
                </a:cubicBezTo>
                <a:cubicBezTo>
                  <a:pt x="2924" y="13815"/>
                  <a:pt x="3042" y="13808"/>
                  <a:pt x="3150" y="13791"/>
                </a:cubicBezTo>
                <a:cubicBezTo>
                  <a:pt x="3256" y="13775"/>
                  <a:pt x="3384" y="13703"/>
                  <a:pt x="3473" y="13643"/>
                </a:cubicBezTo>
                <a:cubicBezTo>
                  <a:pt x="3581" y="13569"/>
                  <a:pt x="3609" y="13456"/>
                  <a:pt x="3572" y="13345"/>
                </a:cubicBezTo>
                <a:cubicBezTo>
                  <a:pt x="3564" y="13328"/>
                  <a:pt x="3555" y="13312"/>
                  <a:pt x="3547" y="13295"/>
                </a:cubicBezTo>
                <a:cubicBezTo>
                  <a:pt x="3473" y="13309"/>
                  <a:pt x="3354" y="13364"/>
                  <a:pt x="3349" y="13469"/>
                </a:cubicBezTo>
                <a:cubicBezTo>
                  <a:pt x="3342" y="13603"/>
                  <a:pt x="3413" y="13756"/>
                  <a:pt x="3547" y="13791"/>
                </a:cubicBezTo>
                <a:cubicBezTo>
                  <a:pt x="3631" y="13813"/>
                  <a:pt x="3754" y="13738"/>
                  <a:pt x="3795" y="13667"/>
                </a:cubicBezTo>
                <a:cubicBezTo>
                  <a:pt x="3844" y="13583"/>
                  <a:pt x="3858" y="13484"/>
                  <a:pt x="3894" y="13395"/>
                </a:cubicBezTo>
                <a:cubicBezTo>
                  <a:pt x="3927" y="13315"/>
                  <a:pt x="3900" y="13337"/>
                  <a:pt x="3870" y="13271"/>
                </a:cubicBezTo>
                <a:cubicBezTo>
                  <a:pt x="3825" y="13293"/>
                  <a:pt x="3742" y="13296"/>
                  <a:pt x="3721" y="13370"/>
                </a:cubicBezTo>
                <a:cubicBezTo>
                  <a:pt x="3700" y="13443"/>
                  <a:pt x="3736" y="13488"/>
                  <a:pt x="3770" y="13543"/>
                </a:cubicBezTo>
                <a:cubicBezTo>
                  <a:pt x="3778" y="13551"/>
                  <a:pt x="3787" y="13560"/>
                  <a:pt x="3795" y="13568"/>
                </a:cubicBezTo>
                <a:cubicBezTo>
                  <a:pt x="3848" y="13530"/>
                  <a:pt x="3879" y="13439"/>
                  <a:pt x="3944" y="13444"/>
                </a:cubicBezTo>
                <a:cubicBezTo>
                  <a:pt x="4007" y="13448"/>
                  <a:pt x="4007" y="13513"/>
                  <a:pt x="4068" y="13494"/>
                </a:cubicBezTo>
                <a:cubicBezTo>
                  <a:pt x="4171" y="13462"/>
                  <a:pt x="4179" y="13377"/>
                  <a:pt x="4217" y="13295"/>
                </a:cubicBezTo>
                <a:cubicBezTo>
                  <a:pt x="4236" y="13255"/>
                  <a:pt x="4271" y="13138"/>
                  <a:pt x="4316" y="13122"/>
                </a:cubicBezTo>
                <a:cubicBezTo>
                  <a:pt x="4372" y="13102"/>
                  <a:pt x="4451" y="13191"/>
                  <a:pt x="4490" y="13221"/>
                </a:cubicBezTo>
                <a:cubicBezTo>
                  <a:pt x="4498" y="13229"/>
                  <a:pt x="4506" y="13238"/>
                  <a:pt x="4514" y="13246"/>
                </a:cubicBezTo>
                <a:cubicBezTo>
                  <a:pt x="4459" y="13274"/>
                  <a:pt x="4436" y="13282"/>
                  <a:pt x="4390" y="13271"/>
                </a:cubicBezTo>
                <a:cubicBezTo>
                  <a:pt x="4532" y="13282"/>
                  <a:pt x="4667" y="13295"/>
                  <a:pt x="4812" y="13295"/>
                </a:cubicBezTo>
                <a:cubicBezTo>
                  <a:pt x="4982" y="13295"/>
                  <a:pt x="5194" y="13349"/>
                  <a:pt x="5358" y="13320"/>
                </a:cubicBezTo>
                <a:cubicBezTo>
                  <a:pt x="5480" y="13280"/>
                  <a:pt x="5509" y="13284"/>
                  <a:pt x="5556" y="132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Ink 7"/>
          <p:cNvSpPr/>
          <p:nvPr/>
        </p:nvSpPr>
        <p:spPr>
          <a:xfrm>
            <a:off x="1919160" y="5106960"/>
            <a:ext cx="1455840" cy="1019160"/>
          </a:xfrm>
          <a:custGeom>
            <a:avLst/>
            <a:gdLst/>
            <a:ahLst/>
            <a:rect l="l" t="t" r="r" b="b"/>
            <a:pathLst>
              <a:path w="4044" h="2829">
                <a:moveTo>
                  <a:pt x="5457" y="14238"/>
                </a:moveTo>
                <a:cubicBezTo>
                  <a:pt x="5435" y="14348"/>
                  <a:pt x="5432" y="14428"/>
                  <a:pt x="5358" y="14511"/>
                </a:cubicBezTo>
                <a:cubicBezTo>
                  <a:pt x="5313" y="14561"/>
                  <a:pt x="5323" y="14652"/>
                  <a:pt x="5358" y="14709"/>
                </a:cubicBezTo>
                <a:cubicBezTo>
                  <a:pt x="5394" y="14767"/>
                  <a:pt x="5497" y="14802"/>
                  <a:pt x="5556" y="14808"/>
                </a:cubicBezTo>
                <a:cubicBezTo>
                  <a:pt x="5608" y="14808"/>
                  <a:pt x="5626" y="14807"/>
                  <a:pt x="5655" y="14784"/>
                </a:cubicBezTo>
              </a:path>
              <a:path w="4044" h="2829">
                <a:moveTo>
                  <a:pt x="5879" y="14213"/>
                </a:moveTo>
                <a:cubicBezTo>
                  <a:pt x="5837" y="14344"/>
                  <a:pt x="5771" y="14496"/>
                  <a:pt x="5755" y="14635"/>
                </a:cubicBezTo>
                <a:cubicBezTo>
                  <a:pt x="5738" y="14783"/>
                  <a:pt x="5709" y="14933"/>
                  <a:pt x="5705" y="15081"/>
                </a:cubicBezTo>
                <a:cubicBezTo>
                  <a:pt x="5702" y="15186"/>
                  <a:pt x="5708" y="15352"/>
                  <a:pt x="5680" y="15453"/>
                </a:cubicBezTo>
                <a:cubicBezTo>
                  <a:pt x="5657" y="15476"/>
                  <a:pt x="5649" y="15480"/>
                  <a:pt x="5655" y="15503"/>
                </a:cubicBezTo>
              </a:path>
              <a:path w="4044" h="2829">
                <a:moveTo>
                  <a:pt x="6375" y="14610"/>
                </a:moveTo>
                <a:cubicBezTo>
                  <a:pt x="6383" y="14602"/>
                  <a:pt x="6392" y="14593"/>
                  <a:pt x="6400" y="14585"/>
                </a:cubicBezTo>
                <a:cubicBezTo>
                  <a:pt x="6375" y="14528"/>
                  <a:pt x="6312" y="14478"/>
                  <a:pt x="6226" y="14511"/>
                </a:cubicBezTo>
                <a:cubicBezTo>
                  <a:pt x="6154" y="14539"/>
                  <a:pt x="6095" y="14572"/>
                  <a:pt x="6052" y="14635"/>
                </a:cubicBezTo>
                <a:cubicBezTo>
                  <a:pt x="6002" y="14709"/>
                  <a:pt x="5966" y="14815"/>
                  <a:pt x="5978" y="14908"/>
                </a:cubicBezTo>
                <a:cubicBezTo>
                  <a:pt x="5990" y="15000"/>
                  <a:pt x="6030" y="15192"/>
                  <a:pt x="6102" y="15255"/>
                </a:cubicBezTo>
                <a:cubicBezTo>
                  <a:pt x="6143" y="15280"/>
                  <a:pt x="6185" y="15304"/>
                  <a:pt x="6226" y="15329"/>
                </a:cubicBezTo>
              </a:path>
              <a:path w="4044" h="2829">
                <a:moveTo>
                  <a:pt x="6871" y="14709"/>
                </a:moveTo>
                <a:cubicBezTo>
                  <a:pt x="6957" y="14679"/>
                  <a:pt x="7067" y="14690"/>
                  <a:pt x="7144" y="14660"/>
                </a:cubicBezTo>
                <a:cubicBezTo>
                  <a:pt x="7152" y="14652"/>
                  <a:pt x="7161" y="14643"/>
                  <a:pt x="7169" y="14635"/>
                </a:cubicBezTo>
              </a:path>
              <a:path w="4044" h="2829">
                <a:moveTo>
                  <a:pt x="6995" y="14833"/>
                </a:moveTo>
                <a:cubicBezTo>
                  <a:pt x="7109" y="14929"/>
                  <a:pt x="7167" y="14947"/>
                  <a:pt x="7317" y="14957"/>
                </a:cubicBezTo>
              </a:path>
              <a:path w="4044" h="2829">
                <a:moveTo>
                  <a:pt x="8285" y="14536"/>
                </a:moveTo>
                <a:cubicBezTo>
                  <a:pt x="8225" y="14588"/>
                  <a:pt x="8174" y="14613"/>
                  <a:pt x="8136" y="14684"/>
                </a:cubicBezTo>
                <a:cubicBezTo>
                  <a:pt x="8097" y="14757"/>
                  <a:pt x="8054" y="14775"/>
                  <a:pt x="8086" y="14858"/>
                </a:cubicBezTo>
                <a:cubicBezTo>
                  <a:pt x="8118" y="14942"/>
                  <a:pt x="8203" y="14965"/>
                  <a:pt x="8285" y="14982"/>
                </a:cubicBezTo>
                <a:cubicBezTo>
                  <a:pt x="8343" y="14982"/>
                  <a:pt x="8368" y="14982"/>
                  <a:pt x="8409" y="14982"/>
                </a:cubicBezTo>
              </a:path>
              <a:path w="4044" h="2829">
                <a:moveTo>
                  <a:pt x="8657" y="14213"/>
                </a:moveTo>
                <a:cubicBezTo>
                  <a:pt x="8592" y="14349"/>
                  <a:pt x="8548" y="14440"/>
                  <a:pt x="8533" y="14585"/>
                </a:cubicBezTo>
                <a:cubicBezTo>
                  <a:pt x="8515" y="14758"/>
                  <a:pt x="8497" y="14935"/>
                  <a:pt x="8483" y="15106"/>
                </a:cubicBezTo>
                <a:cubicBezTo>
                  <a:pt x="8475" y="15198"/>
                  <a:pt x="8481" y="15315"/>
                  <a:pt x="8458" y="15404"/>
                </a:cubicBezTo>
                <a:cubicBezTo>
                  <a:pt x="8438" y="15444"/>
                  <a:pt x="8420" y="15460"/>
                  <a:pt x="8458" y="15453"/>
                </a:cubicBezTo>
              </a:path>
              <a:path w="4044" h="2829">
                <a:moveTo>
                  <a:pt x="9054" y="14461"/>
                </a:moveTo>
                <a:cubicBezTo>
                  <a:pt x="9010" y="14505"/>
                  <a:pt x="8937" y="14531"/>
                  <a:pt x="8905" y="14585"/>
                </a:cubicBezTo>
                <a:cubicBezTo>
                  <a:pt x="8858" y="14665"/>
                  <a:pt x="8789" y="14787"/>
                  <a:pt x="8781" y="14883"/>
                </a:cubicBezTo>
                <a:cubicBezTo>
                  <a:pt x="8771" y="15005"/>
                  <a:pt x="8801" y="15165"/>
                  <a:pt x="8855" y="15280"/>
                </a:cubicBezTo>
                <a:cubicBezTo>
                  <a:pt x="8902" y="15380"/>
                  <a:pt x="8968" y="15368"/>
                  <a:pt x="9054" y="15329"/>
                </a:cubicBezTo>
                <a:cubicBezTo>
                  <a:pt x="9159" y="15282"/>
                  <a:pt x="9231" y="15232"/>
                  <a:pt x="9277" y="15131"/>
                </a:cubicBezTo>
                <a:cubicBezTo>
                  <a:pt x="9355" y="14959"/>
                  <a:pt x="9388" y="14796"/>
                  <a:pt x="9351" y="14610"/>
                </a:cubicBezTo>
                <a:cubicBezTo>
                  <a:pt x="9329" y="14498"/>
                  <a:pt x="9263" y="14344"/>
                  <a:pt x="9178" y="14263"/>
                </a:cubicBezTo>
                <a:cubicBezTo>
                  <a:pt x="9087" y="14176"/>
                  <a:pt x="8997" y="14188"/>
                  <a:pt x="8880" y="14188"/>
                </a:cubicBezTo>
                <a:cubicBezTo>
                  <a:pt x="8863" y="14188"/>
                  <a:pt x="8847" y="14188"/>
                  <a:pt x="8830" y="14188"/>
                </a:cubicBezTo>
              </a:path>
              <a:path w="4044" h="2829">
                <a:moveTo>
                  <a:pt x="6325" y="14932"/>
                </a:moveTo>
                <a:cubicBezTo>
                  <a:pt x="6342" y="14924"/>
                  <a:pt x="6358" y="14916"/>
                  <a:pt x="6375" y="14908"/>
                </a:cubicBezTo>
                <a:cubicBezTo>
                  <a:pt x="6274" y="14990"/>
                  <a:pt x="6154" y="15036"/>
                  <a:pt x="6052" y="15106"/>
                </a:cubicBezTo>
                <a:cubicBezTo>
                  <a:pt x="5980" y="15155"/>
                  <a:pt x="5911" y="15219"/>
                  <a:pt x="5829" y="15255"/>
                </a:cubicBezTo>
                <a:cubicBezTo>
                  <a:pt x="5740" y="15294"/>
                  <a:pt x="5703" y="15320"/>
                  <a:pt x="5655" y="15404"/>
                </a:cubicBezTo>
              </a:path>
              <a:path w="4044" h="2829">
                <a:moveTo>
                  <a:pt x="6201" y="15131"/>
                </a:moveTo>
                <a:cubicBezTo>
                  <a:pt x="6165" y="15167"/>
                  <a:pt x="6114" y="15203"/>
                  <a:pt x="6102" y="15255"/>
                </a:cubicBezTo>
                <a:cubicBezTo>
                  <a:pt x="6087" y="15318"/>
                  <a:pt x="6140" y="15411"/>
                  <a:pt x="6201" y="15429"/>
                </a:cubicBezTo>
                <a:cubicBezTo>
                  <a:pt x="6243" y="15429"/>
                  <a:pt x="6251" y="15429"/>
                  <a:pt x="6276" y="15429"/>
                </a:cubicBezTo>
              </a:path>
              <a:path w="4044" h="2829">
                <a:moveTo>
                  <a:pt x="6524" y="15032"/>
                </a:moveTo>
                <a:cubicBezTo>
                  <a:pt x="6471" y="15115"/>
                  <a:pt x="6443" y="15158"/>
                  <a:pt x="6424" y="15255"/>
                </a:cubicBezTo>
                <a:cubicBezTo>
                  <a:pt x="6399" y="15380"/>
                  <a:pt x="6365" y="15501"/>
                  <a:pt x="6350" y="15627"/>
                </a:cubicBezTo>
                <a:cubicBezTo>
                  <a:pt x="6340" y="15711"/>
                  <a:pt x="6325" y="15790"/>
                  <a:pt x="6325" y="15875"/>
                </a:cubicBezTo>
                <a:cubicBezTo>
                  <a:pt x="6325" y="15883"/>
                  <a:pt x="6325" y="15892"/>
                  <a:pt x="6325" y="15900"/>
                </a:cubicBezTo>
              </a:path>
              <a:path w="4044" h="2829">
                <a:moveTo>
                  <a:pt x="8086" y="15304"/>
                </a:moveTo>
                <a:cubicBezTo>
                  <a:pt x="8280" y="15299"/>
                  <a:pt x="8465" y="15280"/>
                  <a:pt x="8657" y="15280"/>
                </a:cubicBezTo>
                <a:cubicBezTo>
                  <a:pt x="8751" y="15280"/>
                  <a:pt x="8836" y="15255"/>
                  <a:pt x="8930" y="15255"/>
                </a:cubicBezTo>
                <a:cubicBezTo>
                  <a:pt x="8955" y="15255"/>
                  <a:pt x="8979" y="15255"/>
                  <a:pt x="9004" y="15255"/>
                </a:cubicBezTo>
              </a:path>
              <a:path w="4044" h="2829">
                <a:moveTo>
                  <a:pt x="8582" y="15379"/>
                </a:moveTo>
                <a:cubicBezTo>
                  <a:pt x="8496" y="15509"/>
                  <a:pt x="8485" y="15517"/>
                  <a:pt x="8508" y="15652"/>
                </a:cubicBezTo>
                <a:cubicBezTo>
                  <a:pt x="8516" y="15701"/>
                  <a:pt x="8535" y="15818"/>
                  <a:pt x="8582" y="15850"/>
                </a:cubicBezTo>
                <a:cubicBezTo>
                  <a:pt x="8607" y="15858"/>
                  <a:pt x="8632" y="15867"/>
                  <a:pt x="8657" y="15875"/>
                </a:cubicBezTo>
              </a:path>
              <a:path w="4044" h="2829">
                <a:moveTo>
                  <a:pt x="8880" y="15404"/>
                </a:moveTo>
                <a:cubicBezTo>
                  <a:pt x="8823" y="15532"/>
                  <a:pt x="8744" y="15642"/>
                  <a:pt x="8706" y="15776"/>
                </a:cubicBezTo>
                <a:cubicBezTo>
                  <a:pt x="8665" y="15923"/>
                  <a:pt x="8603" y="16039"/>
                  <a:pt x="8533" y="16173"/>
                </a:cubicBezTo>
              </a:path>
              <a:path w="4044" h="2829">
                <a:moveTo>
                  <a:pt x="6945" y="16173"/>
                </a:moveTo>
                <a:cubicBezTo>
                  <a:pt x="6938" y="16268"/>
                  <a:pt x="6929" y="16309"/>
                  <a:pt x="6896" y="16396"/>
                </a:cubicBezTo>
                <a:cubicBezTo>
                  <a:pt x="6923" y="16334"/>
                  <a:pt x="6972" y="16245"/>
                  <a:pt x="6945" y="16173"/>
                </a:cubicBezTo>
                <a:cubicBezTo>
                  <a:pt x="6923" y="16115"/>
                  <a:pt x="6851" y="16063"/>
                  <a:pt x="6796" y="16049"/>
                </a:cubicBezTo>
                <a:cubicBezTo>
                  <a:pt x="6700" y="16025"/>
                  <a:pt x="6639" y="16103"/>
                  <a:pt x="6573" y="16148"/>
                </a:cubicBezTo>
                <a:cubicBezTo>
                  <a:pt x="6480" y="16211"/>
                  <a:pt x="6437" y="16277"/>
                  <a:pt x="6424" y="16396"/>
                </a:cubicBezTo>
                <a:cubicBezTo>
                  <a:pt x="6411" y="16523"/>
                  <a:pt x="6403" y="16721"/>
                  <a:pt x="6449" y="16842"/>
                </a:cubicBezTo>
                <a:cubicBezTo>
                  <a:pt x="6511" y="17004"/>
                  <a:pt x="6572" y="17009"/>
                  <a:pt x="6722" y="16991"/>
                </a:cubicBezTo>
              </a:path>
              <a:path w="4044" h="2829">
                <a:moveTo>
                  <a:pt x="7417" y="16321"/>
                </a:moveTo>
                <a:cubicBezTo>
                  <a:pt x="7524" y="16343"/>
                  <a:pt x="7609" y="16371"/>
                  <a:pt x="7714" y="16371"/>
                </a:cubicBezTo>
              </a:path>
              <a:path w="4044" h="2829">
                <a:moveTo>
                  <a:pt x="7243" y="16396"/>
                </a:moveTo>
                <a:cubicBezTo>
                  <a:pt x="7292" y="16465"/>
                  <a:pt x="7360" y="16619"/>
                  <a:pt x="7466" y="16619"/>
                </a:cubicBezTo>
                <a:cubicBezTo>
                  <a:pt x="7491" y="16611"/>
                  <a:pt x="7516" y="16602"/>
                  <a:pt x="7541" y="16594"/>
                </a:cubicBezTo>
              </a:path>
              <a:path w="4044" h="2829">
                <a:moveTo>
                  <a:pt x="7962" y="16222"/>
                </a:moveTo>
                <a:cubicBezTo>
                  <a:pt x="7932" y="16417"/>
                  <a:pt x="7913" y="16556"/>
                  <a:pt x="7913" y="16743"/>
                </a:cubicBezTo>
                <a:cubicBezTo>
                  <a:pt x="7913" y="16785"/>
                  <a:pt x="7913" y="16793"/>
                  <a:pt x="7913" y="16818"/>
                </a:cubicBezTo>
              </a:path>
              <a:path w="4044" h="2829">
                <a:moveTo>
                  <a:pt x="8359" y="16272"/>
                </a:moveTo>
                <a:cubicBezTo>
                  <a:pt x="8217" y="16437"/>
                  <a:pt x="8170" y="16483"/>
                  <a:pt x="8161" y="16694"/>
                </a:cubicBezTo>
                <a:cubicBezTo>
                  <a:pt x="8157" y="16793"/>
                  <a:pt x="8242" y="16891"/>
                  <a:pt x="8334" y="16917"/>
                </a:cubicBezTo>
                <a:cubicBezTo>
                  <a:pt x="8437" y="16946"/>
                  <a:pt x="8559" y="16852"/>
                  <a:pt x="8632" y="16793"/>
                </a:cubicBezTo>
                <a:cubicBezTo>
                  <a:pt x="8720" y="16721"/>
                  <a:pt x="8742" y="16605"/>
                  <a:pt x="8731" y="16495"/>
                </a:cubicBezTo>
                <a:cubicBezTo>
                  <a:pt x="8715" y="16334"/>
                  <a:pt x="8667" y="16215"/>
                  <a:pt x="8558" y="16098"/>
                </a:cubicBezTo>
                <a:cubicBezTo>
                  <a:pt x="8483" y="16018"/>
                  <a:pt x="8393" y="15970"/>
                  <a:pt x="8310" y="159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Ink 8"/>
          <p:cNvSpPr/>
          <p:nvPr/>
        </p:nvSpPr>
        <p:spPr>
          <a:xfrm>
            <a:off x="1687680" y="5062680"/>
            <a:ext cx="2233440" cy="117360"/>
          </a:xfrm>
          <a:custGeom>
            <a:avLst/>
            <a:gdLst/>
            <a:ahLst/>
            <a:rect l="l" t="t" r="r" b="b"/>
            <a:pathLst>
              <a:path w="6202" h="324">
                <a:moveTo>
                  <a:pt x="10889" y="14163"/>
                </a:moveTo>
                <a:cubicBezTo>
                  <a:pt x="10816" y="14195"/>
                  <a:pt x="10805" y="14222"/>
                  <a:pt x="10691" y="14213"/>
                </a:cubicBezTo>
                <a:cubicBezTo>
                  <a:pt x="10524" y="14200"/>
                  <a:pt x="10363" y="14130"/>
                  <a:pt x="10195" y="14114"/>
                </a:cubicBezTo>
                <a:cubicBezTo>
                  <a:pt x="9999" y="14095"/>
                  <a:pt x="9796" y="14074"/>
                  <a:pt x="9599" y="14064"/>
                </a:cubicBezTo>
                <a:cubicBezTo>
                  <a:pt x="9267" y="14048"/>
                  <a:pt x="8937" y="14077"/>
                  <a:pt x="8607" y="14089"/>
                </a:cubicBezTo>
                <a:cubicBezTo>
                  <a:pt x="8210" y="14103"/>
                  <a:pt x="7814" y="14127"/>
                  <a:pt x="7417" y="14163"/>
                </a:cubicBezTo>
                <a:cubicBezTo>
                  <a:pt x="7086" y="14193"/>
                  <a:pt x="6755" y="14189"/>
                  <a:pt x="6424" y="14213"/>
                </a:cubicBezTo>
                <a:cubicBezTo>
                  <a:pt x="6127" y="14234"/>
                  <a:pt x="5827" y="14264"/>
                  <a:pt x="5531" y="14288"/>
                </a:cubicBezTo>
                <a:cubicBezTo>
                  <a:pt x="5318" y="14306"/>
                  <a:pt x="5097" y="14328"/>
                  <a:pt x="4887" y="14362"/>
                </a:cubicBezTo>
                <a:cubicBezTo>
                  <a:pt x="4779" y="14384"/>
                  <a:pt x="4756" y="14392"/>
                  <a:pt x="4688" y="143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37:31Z</dcterms:created>
  <dc:creator>jnewman</dc:creator>
  <dc:description/>
  <dc:language>en-US</dc:language>
  <cp:lastModifiedBy>abeason</cp:lastModifiedBy>
  <dcterms:modified xsi:type="dcterms:W3CDTF">2009-09-04T12:55:20Z</dcterms:modified>
  <cp:revision>11</cp:revision>
  <dc:subject/>
  <dc:title>Monday, September 10th</dc:title>
</cp:coreProperties>
</file>